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217440" y="6373800"/>
            <a:ext cx="12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Edco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7529400" y="6365880"/>
            <a:ext cx="1422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Exploring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3"/>
          <p:cNvSpPr/>
          <p:nvPr/>
        </p:nvSpPr>
        <p:spPr>
          <a:xfrm>
            <a:off x="3035160" y="6370560"/>
            <a:ext cx="30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hotosynthesis and plant respo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217440" y="6373800"/>
            <a:ext cx="12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Edco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7529400" y="6365880"/>
            <a:ext cx="1422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Exploring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3035160" y="6370560"/>
            <a:ext cx="30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hotosynthesis and plant respo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synthesis and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nt Respo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thod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show that starch is made by a plant in 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0600" y="1693800"/>
            <a:ext cx="40388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ve a pot plant in the dark for two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destarch the leaves, i.e. the starch moves out of the lea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 tinfoil over some of the leaves of the p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prevent light reaching the leaves and, therefore, to prevent photosynthesis. These leaves act as a control or comparison in the experi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ve the plant in strong light for a few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allow photosynthesis to take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 some of the covered and uncovered leaves for st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show whether or not photosynthesis took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3" descr="13"/>
          <p:cNvPicPr/>
          <p:nvPr/>
        </p:nvPicPr>
        <p:blipFill>
          <a:blip r:embed="rId1"/>
          <a:stretch/>
        </p:blipFill>
        <p:spPr>
          <a:xfrm>
            <a:off x="6342120" y="2492280"/>
            <a:ext cx="1714320" cy="3238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4"/>
          <p:cNvSpPr/>
          <p:nvPr/>
        </p:nvSpPr>
        <p:spPr>
          <a:xfrm>
            <a:off x="5372280" y="1959120"/>
            <a:ext cx="137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00"/>
                </a:solidFill>
                <a:latin typeface="Arial"/>
              </a:rPr>
              <a:t>Aluminium f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5" descr="13"/>
          <p:cNvPicPr/>
          <p:nvPr/>
        </p:nvPicPr>
        <p:blipFill>
          <a:blip r:embed="rId2"/>
          <a:stretch/>
        </p:blipFill>
        <p:spPr>
          <a:xfrm>
            <a:off x="4710240" y="2492280"/>
            <a:ext cx="1562040" cy="323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7"/>
          <p:cNvSpPr/>
          <p:nvPr/>
        </p:nvSpPr>
        <p:spPr>
          <a:xfrm>
            <a:off x="4309920" y="275760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00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>
            <a:off x="4992840" y="3048120"/>
            <a:ext cx="522000" cy="5810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>
            <a:off x="6705720" y="2351160"/>
            <a:ext cx="318960" cy="2617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6443640" y="2598840"/>
            <a:ext cx="304920" cy="6094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st leaves for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thod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test leaves for st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42920"/>
            <a:ext cx="403848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il the leaves in water for a few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13"/>
          <p:cNvPicPr/>
          <p:nvPr/>
        </p:nvPicPr>
        <p:blipFill>
          <a:blip r:embed="rId1"/>
          <a:srcRect l="29226" t="0" r="0" b="0"/>
          <a:stretch/>
        </p:blipFill>
        <p:spPr>
          <a:xfrm>
            <a:off x="6089760" y="2243160"/>
            <a:ext cx="196848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22"/>
          <p:cNvGrpSpPr/>
          <p:nvPr/>
        </p:nvGrpSpPr>
        <p:grpSpPr>
          <a:xfrm>
            <a:off x="5108400" y="2262240"/>
            <a:ext cx="1843200" cy="596880"/>
            <a:chOff x="5108400" y="2262240"/>
            <a:chExt cx="1843200" cy="596880"/>
          </a:xfrm>
        </p:grpSpPr>
        <p:sp>
          <p:nvSpPr>
            <p:cNvPr id="155" name="Text Box 23"/>
            <p:cNvSpPr/>
            <p:nvPr/>
          </p:nvSpPr>
          <p:spPr>
            <a:xfrm>
              <a:off x="5108400" y="226224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Le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6108840" y="2481120"/>
              <a:ext cx="842760" cy="3780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5"/>
          <p:cNvGrpSpPr/>
          <p:nvPr/>
        </p:nvGrpSpPr>
        <p:grpSpPr>
          <a:xfrm>
            <a:off x="5008680" y="2957400"/>
            <a:ext cx="1885320" cy="398880"/>
            <a:chOff x="5008680" y="2957400"/>
            <a:chExt cx="1885320" cy="398880"/>
          </a:xfrm>
        </p:grpSpPr>
        <p:sp>
          <p:nvSpPr>
            <p:cNvPr id="158" name="Text Box 26"/>
            <p:cNvSpPr/>
            <p:nvPr/>
          </p:nvSpPr>
          <p:spPr>
            <a:xfrm>
              <a:off x="5008680" y="2957400"/>
              <a:ext cx="101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5864040" y="3203280"/>
              <a:ext cx="10299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006880" y="3846600"/>
            <a:ext cx="1497240" cy="398880"/>
            <a:chOff x="5006880" y="3846600"/>
            <a:chExt cx="1497240" cy="398880"/>
          </a:xfrm>
        </p:grpSpPr>
        <p:sp>
          <p:nvSpPr>
            <p:cNvPr id="161" name="Text Box 29"/>
            <p:cNvSpPr/>
            <p:nvPr/>
          </p:nvSpPr>
          <p:spPr>
            <a:xfrm>
              <a:off x="5006880" y="3846600"/>
              <a:ext cx="9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Trip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0"/>
            <p:cNvSpPr/>
            <p:nvPr/>
          </p:nvSpPr>
          <p:spPr>
            <a:xfrm>
              <a:off x="5894280" y="4049640"/>
              <a:ext cx="60984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1"/>
          <p:cNvGrpSpPr/>
          <p:nvPr/>
        </p:nvGrpSpPr>
        <p:grpSpPr>
          <a:xfrm>
            <a:off x="4832280" y="4425840"/>
            <a:ext cx="2279880" cy="703800"/>
            <a:chOff x="4832280" y="4425840"/>
            <a:chExt cx="2279880" cy="703800"/>
          </a:xfrm>
        </p:grpSpPr>
        <p:sp>
          <p:nvSpPr>
            <p:cNvPr id="164" name="Line 32"/>
            <p:cNvSpPr/>
            <p:nvPr/>
          </p:nvSpPr>
          <p:spPr>
            <a:xfrm>
              <a:off x="5878440" y="4643640"/>
              <a:ext cx="123372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3"/>
            <p:cNvSpPr/>
            <p:nvPr/>
          </p:nvSpPr>
          <p:spPr>
            <a:xfrm>
              <a:off x="4832280" y="4425840"/>
              <a:ext cx="129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Bunsen bur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35"/>
          <p:cNvSpPr/>
          <p:nvPr/>
        </p:nvSpPr>
        <p:spPr>
          <a:xfrm>
            <a:off x="828720" y="3513240"/>
            <a:ext cx="3120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is kills and softens the lea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4038480" cy="15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00"/>
              </a:spcBef>
              <a:buClr>
                <a:srgbClr val="99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ak the leaves in hot alcohol for ten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thod cont.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test leaves for st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2" descr="13"/>
          <p:cNvPicPr/>
          <p:nvPr/>
        </p:nvPicPr>
        <p:blipFill>
          <a:blip r:embed="rId1"/>
          <a:srcRect l="38444" t="0" r="19379" b="0"/>
          <a:stretch/>
        </p:blipFill>
        <p:spPr>
          <a:xfrm>
            <a:off x="5634000" y="2044800"/>
            <a:ext cx="2368440" cy="3203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23"/>
          <p:cNvGrpSpPr/>
          <p:nvPr/>
        </p:nvGrpSpPr>
        <p:grpSpPr>
          <a:xfrm>
            <a:off x="4876920" y="3411360"/>
            <a:ext cx="1485720" cy="703800"/>
            <a:chOff x="4876920" y="3411360"/>
            <a:chExt cx="1485720" cy="703800"/>
          </a:xfrm>
        </p:grpSpPr>
        <p:sp>
          <p:nvSpPr>
            <p:cNvPr id="171" name="Text Box 24"/>
            <p:cNvSpPr/>
            <p:nvPr/>
          </p:nvSpPr>
          <p:spPr>
            <a:xfrm>
              <a:off x="4876920" y="341136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Boiling 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5"/>
            <p:cNvSpPr/>
            <p:nvPr/>
          </p:nvSpPr>
          <p:spPr>
            <a:xfrm>
              <a:off x="5829480" y="3728880"/>
              <a:ext cx="533160" cy="90720"/>
            </a:xfrm>
            <a:prstGeom prst="rightArrow">
              <a:avLst>
                <a:gd name="adj1" fmla="val 50000"/>
                <a:gd name="adj2" fmla="val 146925"/>
              </a:avLst>
            </a:prstGeom>
            <a:solidFill>
              <a:srgbClr val="99cc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7039080" y="3683160"/>
            <a:ext cx="2047680" cy="398880"/>
            <a:chOff x="7039080" y="3683160"/>
            <a:chExt cx="2047680" cy="398880"/>
          </a:xfrm>
        </p:grpSpPr>
        <p:sp>
          <p:nvSpPr>
            <p:cNvPr id="174" name="Text Box 27"/>
            <p:cNvSpPr/>
            <p:nvPr/>
          </p:nvSpPr>
          <p:spPr>
            <a:xfrm>
              <a:off x="8012160" y="3683160"/>
              <a:ext cx="107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8"/>
            <p:cNvSpPr/>
            <p:nvPr/>
          </p:nvSpPr>
          <p:spPr>
            <a:xfrm>
              <a:off x="7039080" y="3843360"/>
              <a:ext cx="973080" cy="88560"/>
            </a:xfrm>
            <a:prstGeom prst="leftArrow">
              <a:avLst>
                <a:gd name="adj1" fmla="val 50000"/>
                <a:gd name="adj2" fmla="val 274695"/>
              </a:avLst>
            </a:prstGeom>
            <a:solidFill>
              <a:srgbClr val="99cc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9"/>
          <p:cNvGrpSpPr/>
          <p:nvPr/>
        </p:nvGrpSpPr>
        <p:grpSpPr>
          <a:xfrm>
            <a:off x="6842520" y="4230720"/>
            <a:ext cx="2329920" cy="538560"/>
            <a:chOff x="6842520" y="4230720"/>
            <a:chExt cx="2329920" cy="538560"/>
          </a:xfrm>
        </p:grpSpPr>
        <p:sp>
          <p:nvSpPr>
            <p:cNvPr id="177" name="Text Box 30"/>
            <p:cNvSpPr/>
            <p:nvPr/>
          </p:nvSpPr>
          <p:spPr>
            <a:xfrm>
              <a:off x="8040600" y="4370400"/>
              <a:ext cx="113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Le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1"/>
            <p:cNvSpPr/>
            <p:nvPr/>
          </p:nvSpPr>
          <p:spPr>
            <a:xfrm rot="762600">
              <a:off x="6837480" y="4362480"/>
              <a:ext cx="1207800" cy="90360"/>
            </a:xfrm>
            <a:prstGeom prst="leftArrow">
              <a:avLst>
                <a:gd name="adj1" fmla="val 50000"/>
                <a:gd name="adj2" fmla="val 334163"/>
              </a:avLst>
            </a:prstGeom>
            <a:solidFill>
              <a:srgbClr val="99cc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2"/>
          <p:cNvSpPr/>
          <p:nvPr/>
        </p:nvSpPr>
        <p:spPr>
          <a:xfrm>
            <a:off x="857160" y="3257640"/>
            <a:ext cx="4137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is removes the chlorophyll from the leaves. Removing the green colour allows any later colour changes to be 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79040"/>
            <a:ext cx="403848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00"/>
              </a:spcBef>
              <a:buClr>
                <a:srgbClr val="99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nse the leaves briefly in boiling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thod cont.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test leaves for st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7" descr="13"/>
          <p:cNvPicPr/>
          <p:nvPr/>
        </p:nvPicPr>
        <p:blipFill>
          <a:blip r:embed="rId1"/>
          <a:stretch/>
        </p:blipFill>
        <p:spPr>
          <a:xfrm>
            <a:off x="5443560" y="1824120"/>
            <a:ext cx="2546280" cy="38815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8"/>
          <p:cNvGrpSpPr/>
          <p:nvPr/>
        </p:nvGrpSpPr>
        <p:grpSpPr>
          <a:xfrm>
            <a:off x="4834080" y="2174760"/>
            <a:ext cx="1825200" cy="450000"/>
            <a:chOff x="4834080" y="2174760"/>
            <a:chExt cx="1825200" cy="450000"/>
          </a:xfrm>
        </p:grpSpPr>
        <p:sp>
          <p:nvSpPr>
            <p:cNvPr id="184" name="Text Box 19"/>
            <p:cNvSpPr/>
            <p:nvPr/>
          </p:nvSpPr>
          <p:spPr>
            <a:xfrm>
              <a:off x="4834080" y="217476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Le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741000">
              <a:off x="5834160" y="2465280"/>
              <a:ext cx="826920" cy="71640"/>
            </a:xfrm>
            <a:prstGeom prst="rightArrow">
              <a:avLst>
                <a:gd name="adj1" fmla="val 50000"/>
                <a:gd name="adj2" fmla="val 288568"/>
              </a:avLst>
            </a:prstGeom>
            <a:solidFill>
              <a:srgbClr val="99cc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1"/>
          <p:cNvGrpSpPr/>
          <p:nvPr/>
        </p:nvGrpSpPr>
        <p:grpSpPr>
          <a:xfrm>
            <a:off x="4844880" y="2786040"/>
            <a:ext cx="1672920" cy="398880"/>
            <a:chOff x="4844880" y="2786040"/>
            <a:chExt cx="1672920" cy="398880"/>
          </a:xfrm>
        </p:grpSpPr>
        <p:sp>
          <p:nvSpPr>
            <p:cNvPr id="187" name="Text Box 22"/>
            <p:cNvSpPr/>
            <p:nvPr/>
          </p:nvSpPr>
          <p:spPr>
            <a:xfrm>
              <a:off x="4844880" y="2786040"/>
              <a:ext cx="88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3"/>
            <p:cNvSpPr/>
            <p:nvPr/>
          </p:nvSpPr>
          <p:spPr>
            <a:xfrm>
              <a:off x="5719320" y="2973240"/>
              <a:ext cx="798480" cy="71640"/>
            </a:xfrm>
            <a:prstGeom prst="rightArrow">
              <a:avLst>
                <a:gd name="adj1" fmla="val 50000"/>
                <a:gd name="adj2" fmla="val 278643"/>
              </a:avLst>
            </a:prstGeom>
            <a:solidFill>
              <a:srgbClr val="99cc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24"/>
          <p:cNvSpPr/>
          <p:nvPr/>
        </p:nvSpPr>
        <p:spPr>
          <a:xfrm>
            <a:off x="843120" y="3125880"/>
            <a:ext cx="35114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lcohol makes the leaves stiff and brittle. Rinsing off the alcohol will soften the lea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47720"/>
            <a:ext cx="40384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00"/>
              </a:spcBef>
              <a:buClr>
                <a:srgbClr val="99cc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odine solution to the l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thod cont.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test leaves for st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9" descr="13"/>
          <p:cNvPicPr/>
          <p:nvPr/>
        </p:nvPicPr>
        <p:blipFill>
          <a:blip r:embed="rId1"/>
          <a:stretch/>
        </p:blipFill>
        <p:spPr>
          <a:xfrm>
            <a:off x="4827600" y="1865160"/>
            <a:ext cx="359424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20"/>
          <p:cNvGrpSpPr/>
          <p:nvPr/>
        </p:nvGrpSpPr>
        <p:grpSpPr>
          <a:xfrm>
            <a:off x="6054840" y="2382840"/>
            <a:ext cx="2436840" cy="457200"/>
            <a:chOff x="6054840" y="2382840"/>
            <a:chExt cx="2436840" cy="457200"/>
          </a:xfrm>
        </p:grpSpPr>
        <p:sp>
          <p:nvSpPr>
            <p:cNvPr id="194" name="Text Box 21"/>
            <p:cNvSpPr/>
            <p:nvPr/>
          </p:nvSpPr>
          <p:spPr>
            <a:xfrm>
              <a:off x="6580440" y="2382840"/>
              <a:ext cx="191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Iodine sol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 flipH="1">
              <a:off x="6054840" y="2587320"/>
              <a:ext cx="534960" cy="25272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3"/>
          <p:cNvGrpSpPr/>
          <p:nvPr/>
        </p:nvGrpSpPr>
        <p:grpSpPr>
          <a:xfrm>
            <a:off x="4748040" y="4803480"/>
            <a:ext cx="755640" cy="937440"/>
            <a:chOff x="4748040" y="4803480"/>
            <a:chExt cx="755640" cy="937440"/>
          </a:xfrm>
        </p:grpSpPr>
        <p:sp>
          <p:nvSpPr>
            <p:cNvPr id="197" name="Text Box 24"/>
            <p:cNvSpPr/>
            <p:nvPr/>
          </p:nvSpPr>
          <p:spPr>
            <a:xfrm>
              <a:off x="4748040" y="5342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T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125680" y="4803480"/>
              <a:ext cx="378000" cy="5950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6"/>
          <p:cNvGrpSpPr/>
          <p:nvPr/>
        </p:nvGrpSpPr>
        <p:grpSpPr>
          <a:xfrm>
            <a:off x="7408800" y="3282840"/>
            <a:ext cx="1274760" cy="485640"/>
            <a:chOff x="7408800" y="3282840"/>
            <a:chExt cx="1274760" cy="485640"/>
          </a:xfrm>
        </p:grpSpPr>
        <p:sp>
          <p:nvSpPr>
            <p:cNvPr id="200" name="Text Box 27"/>
            <p:cNvSpPr/>
            <p:nvPr/>
          </p:nvSpPr>
          <p:spPr>
            <a:xfrm>
              <a:off x="7976880" y="328284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Lea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8"/>
            <p:cNvSpPr/>
            <p:nvPr/>
          </p:nvSpPr>
          <p:spPr>
            <a:xfrm flipH="1">
              <a:off x="7408800" y="3500280"/>
              <a:ext cx="596880" cy="2682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843120" y="2706840"/>
            <a:ext cx="357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odine turns from a red-yellow colour to blue-black if starch is pres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ults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test leaves for st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aves that were uncovered tur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ue-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hows that starch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aves that were covered remai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-ye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hows that starch is not pres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test leaves for st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760" y="2824200"/>
            <a:ext cx="822960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 is made by leav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presence of l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ant respo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bility to respond is one of the characteristic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usually respond slowly (so that often we do not see their respon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spond to light and gravity by growing towards or away from light or gra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opis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change in growth of a plant in response to an outside stim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2040" y="2954160"/>
            <a:ext cx="8229600" cy="26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ots (aerial parts) of a plant grow towards light due to phototrop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ototropism allows shoots to get more light and make mor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57200" y="1541520"/>
            <a:ext cx="82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ototropism is the change in growth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plant in response to l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2600" y="2838600"/>
            <a:ext cx="822960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imals get their food by eating other animals and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make their own food by a 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46120" y="1573200"/>
            <a:ext cx="80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trition is the way in which living things get their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nvestigate phototrop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3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thod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investigate phototrop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8640" y="1657080"/>
            <a:ext cx="80884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up the apparatus as shown in the diag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5" descr="phototropism1"/>
          <p:cNvPicPr/>
          <p:nvPr/>
        </p:nvPicPr>
        <p:blipFill>
          <a:blip r:embed="rId1"/>
          <a:stretch/>
        </p:blipFill>
        <p:spPr>
          <a:xfrm>
            <a:off x="1015920" y="2608200"/>
            <a:ext cx="7201080" cy="29466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6"/>
          <p:cNvGrpSpPr/>
          <p:nvPr/>
        </p:nvGrpSpPr>
        <p:grpSpPr>
          <a:xfrm>
            <a:off x="4060800" y="2104920"/>
            <a:ext cx="1060560" cy="567000"/>
            <a:chOff x="4060800" y="2104920"/>
            <a:chExt cx="1060560" cy="567000"/>
          </a:xfrm>
        </p:grpSpPr>
        <p:sp>
          <p:nvSpPr>
            <p:cNvPr id="218" name="Oval 27"/>
            <p:cNvSpPr/>
            <p:nvPr/>
          </p:nvSpPr>
          <p:spPr>
            <a:xfrm>
              <a:off x="4060800" y="2104920"/>
              <a:ext cx="1060560" cy="567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4205160" y="2176560"/>
              <a:ext cx="76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AutoShape 29"/>
          <p:cNvSpPr/>
          <p:nvPr/>
        </p:nvSpPr>
        <p:spPr>
          <a:xfrm rot="5400000">
            <a:off x="4228920" y="2997000"/>
            <a:ext cx="754200" cy="246240"/>
          </a:xfrm>
          <a:custGeom>
            <a:avLst/>
            <a:gdLst>
              <a:gd name="textAreaLeft" fmla="*/ 117720 w 754200"/>
              <a:gd name="textAreaRight" fmla="*/ 660240 w 75420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0"/>
          <p:cNvGrpSpPr/>
          <p:nvPr/>
        </p:nvGrpSpPr>
        <p:grpSpPr>
          <a:xfrm>
            <a:off x="0" y="3552840"/>
            <a:ext cx="1060560" cy="566640"/>
            <a:chOff x="0" y="3552840"/>
            <a:chExt cx="1060560" cy="566640"/>
          </a:xfrm>
        </p:grpSpPr>
        <p:sp>
          <p:nvSpPr>
            <p:cNvPr id="222" name="Oval 31"/>
            <p:cNvSpPr/>
            <p:nvPr/>
          </p:nvSpPr>
          <p:spPr>
            <a:xfrm>
              <a:off x="0" y="3552840"/>
              <a:ext cx="1060560" cy="56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2"/>
            <p:cNvSpPr/>
            <p:nvPr/>
          </p:nvSpPr>
          <p:spPr>
            <a:xfrm>
              <a:off x="144360" y="3624120"/>
              <a:ext cx="76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33"/>
          <p:cNvSpPr/>
          <p:nvPr/>
        </p:nvSpPr>
        <p:spPr>
          <a:xfrm>
            <a:off x="1154160" y="3720960"/>
            <a:ext cx="753840" cy="246240"/>
          </a:xfrm>
          <a:custGeom>
            <a:avLst/>
            <a:gdLst>
              <a:gd name="textAreaLeft" fmla="*/ 117720 w 753840"/>
              <a:gd name="textAreaRight" fmla="*/ 659880 w 753840"/>
              <a:gd name="textAreaTop" fmla="*/ 61560 h 246240"/>
              <a:gd name="textAreaBottom" fmla="*/ 184680 h 246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1971720" y="5589720"/>
            <a:ext cx="496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00"/>
                </a:solidFill>
                <a:latin typeface="Arial"/>
              </a:rPr>
              <a:t>Petri dish containing wet cotton wool sprinkled with seed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5"/>
          <p:cNvSpPr/>
          <p:nvPr/>
        </p:nvSpPr>
        <p:spPr>
          <a:xfrm>
            <a:off x="2306520" y="5167440"/>
            <a:ext cx="88920" cy="450720"/>
          </a:xfrm>
          <a:prstGeom prst="upArrow">
            <a:avLst>
              <a:gd name="adj1" fmla="val 50000"/>
              <a:gd name="adj2" fmla="val 126721"/>
            </a:avLst>
          </a:prstGeom>
          <a:solidFill>
            <a:srgbClr val="99cc0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6"/>
          <p:cNvSpPr/>
          <p:nvPr/>
        </p:nvSpPr>
        <p:spPr>
          <a:xfrm>
            <a:off x="4583160" y="5180040"/>
            <a:ext cx="88920" cy="450720"/>
          </a:xfrm>
          <a:prstGeom prst="upArrow">
            <a:avLst>
              <a:gd name="adj1" fmla="val 50000"/>
              <a:gd name="adj2" fmla="val 126721"/>
            </a:avLst>
          </a:prstGeom>
          <a:solidFill>
            <a:srgbClr val="99cc0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7"/>
          <p:cNvSpPr/>
          <p:nvPr/>
        </p:nvSpPr>
        <p:spPr>
          <a:xfrm>
            <a:off x="6834240" y="5224320"/>
            <a:ext cx="88920" cy="451080"/>
          </a:xfrm>
          <a:prstGeom prst="upArrow">
            <a:avLst>
              <a:gd name="adj1" fmla="val 50000"/>
              <a:gd name="adj2" fmla="val 126822"/>
            </a:avLst>
          </a:prstGeom>
          <a:solidFill>
            <a:srgbClr val="99cc0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0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ults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investigate phototrop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898560" y="4645080"/>
            <a:ext cx="2351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ction A: the seedlings grow towards the light and ben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440160" y="4626000"/>
            <a:ext cx="2249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ction B: the seedlings grow straight up towards the ligh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5848200" y="4645080"/>
            <a:ext cx="2322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ction C: the seedlings turn yellow and do not gro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phototropismA"/>
          <p:cNvPicPr/>
          <p:nvPr/>
        </p:nvPicPr>
        <p:blipFill>
          <a:blip r:embed="rId1"/>
          <a:stretch/>
        </p:blipFill>
        <p:spPr>
          <a:xfrm>
            <a:off x="887400" y="1622520"/>
            <a:ext cx="2489040" cy="294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phototropismB"/>
          <p:cNvPicPr/>
          <p:nvPr/>
        </p:nvPicPr>
        <p:blipFill>
          <a:blip r:embed="rId2"/>
          <a:stretch/>
        </p:blipFill>
        <p:spPr>
          <a:xfrm>
            <a:off x="3368520" y="1627200"/>
            <a:ext cx="2349720" cy="2946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phototropismC"/>
          <p:cNvPicPr/>
          <p:nvPr/>
        </p:nvPicPr>
        <p:blipFill>
          <a:blip r:embed="rId3"/>
          <a:stretch/>
        </p:blipFill>
        <p:spPr>
          <a:xfrm>
            <a:off x="5711760" y="1622520"/>
            <a:ext cx="23749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investigate phototrop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3720" y="324936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dlings grow towards the l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3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Geotrop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ots of a plant grow away from gra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means they grow upwards towards the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oots grow towards gra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means they grow into the soil to get a better grip and to absorb mor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92040" y="1616040"/>
            <a:ext cx="840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tropism is the change in growth of 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 in response to gra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nvestigate geotrop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3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thod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investigate geotrop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ak some large seeds in water for a day or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up the apparatus as shown in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ve the apparatus in a warm dark place for a few d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0" descr="geotropism1jpg"/>
          <p:cNvPicPr/>
          <p:nvPr/>
        </p:nvPicPr>
        <p:blipFill>
          <a:blip r:embed="rId1"/>
          <a:stretch/>
        </p:blipFill>
        <p:spPr>
          <a:xfrm>
            <a:off x="4776840" y="1681200"/>
            <a:ext cx="2909880" cy="41641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24"/>
          <p:cNvGrpSpPr/>
          <p:nvPr/>
        </p:nvGrpSpPr>
        <p:grpSpPr>
          <a:xfrm>
            <a:off x="6822720" y="2278080"/>
            <a:ext cx="2321280" cy="434880"/>
            <a:chOff x="6822720" y="2278080"/>
            <a:chExt cx="2321280" cy="434880"/>
          </a:xfrm>
        </p:grpSpPr>
        <p:sp>
          <p:nvSpPr>
            <p:cNvPr id="247" name="Text Box 22"/>
            <p:cNvSpPr/>
            <p:nvPr/>
          </p:nvSpPr>
          <p:spPr>
            <a:xfrm>
              <a:off x="7243920" y="2278080"/>
              <a:ext cx="19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Blotting p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3"/>
            <p:cNvSpPr/>
            <p:nvPr/>
          </p:nvSpPr>
          <p:spPr>
            <a:xfrm flipH="1">
              <a:off x="6822720" y="2467080"/>
              <a:ext cx="436680" cy="2458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6837120" y="3687840"/>
            <a:ext cx="2306880" cy="398880"/>
            <a:chOff x="6837120" y="3687840"/>
            <a:chExt cx="2306880" cy="398880"/>
          </a:xfrm>
        </p:grpSpPr>
        <p:sp>
          <p:nvSpPr>
            <p:cNvPr id="250" name="Text Box 26"/>
            <p:cNvSpPr/>
            <p:nvPr/>
          </p:nvSpPr>
          <p:spPr>
            <a:xfrm>
              <a:off x="7329600" y="3687840"/>
              <a:ext cx="18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Soaked see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6837120" y="3905280"/>
              <a:ext cx="507960" cy="1159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8"/>
          <p:cNvGrpSpPr/>
          <p:nvPr/>
        </p:nvGrpSpPr>
        <p:grpSpPr>
          <a:xfrm>
            <a:off x="7299000" y="3062160"/>
            <a:ext cx="1468800" cy="398880"/>
            <a:chOff x="7299000" y="3062160"/>
            <a:chExt cx="1468800" cy="398880"/>
          </a:xfrm>
        </p:grpSpPr>
        <p:sp>
          <p:nvSpPr>
            <p:cNvPr id="253" name="Text Box 29"/>
            <p:cNvSpPr/>
            <p:nvPr/>
          </p:nvSpPr>
          <p:spPr>
            <a:xfrm>
              <a:off x="7678800" y="306216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Beak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7299000" y="3265560"/>
              <a:ext cx="377640" cy="28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6415200" y="1565280"/>
            <a:ext cx="2438280" cy="671400"/>
            <a:chOff x="6415200" y="1565280"/>
            <a:chExt cx="2438280" cy="671400"/>
          </a:xfrm>
        </p:grpSpPr>
        <p:sp>
          <p:nvSpPr>
            <p:cNvPr id="256" name="Text Box 32"/>
            <p:cNvSpPr/>
            <p:nvPr/>
          </p:nvSpPr>
          <p:spPr>
            <a:xfrm>
              <a:off x="6837480" y="1565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Damp comp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3"/>
            <p:cNvSpPr/>
            <p:nvPr/>
          </p:nvSpPr>
          <p:spPr>
            <a:xfrm flipH="1">
              <a:off x="6415200" y="1785960"/>
              <a:ext cx="434880" cy="45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ult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investigate geotrop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95240"/>
            <a:ext cx="403848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the diagram sh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7" descr="geotropism2"/>
          <p:cNvPicPr/>
          <p:nvPr/>
        </p:nvPicPr>
        <p:blipFill>
          <a:blip r:embed="rId1"/>
          <a:stretch/>
        </p:blipFill>
        <p:spPr>
          <a:xfrm>
            <a:off x="1922400" y="2532240"/>
            <a:ext cx="5156280" cy="35938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8"/>
          <p:cNvGrpSpPr/>
          <p:nvPr/>
        </p:nvGrpSpPr>
        <p:grpSpPr>
          <a:xfrm>
            <a:off x="681120" y="3803760"/>
            <a:ext cx="3265560" cy="1191240"/>
            <a:chOff x="681120" y="3803760"/>
            <a:chExt cx="3265560" cy="1191240"/>
          </a:xfrm>
        </p:grpSpPr>
        <p:sp>
          <p:nvSpPr>
            <p:cNvPr id="262" name="Text Box 19"/>
            <p:cNvSpPr/>
            <p:nvPr/>
          </p:nvSpPr>
          <p:spPr>
            <a:xfrm>
              <a:off x="681120" y="3803760"/>
              <a:ext cx="222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he roots grow down towards gra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>
              <a:off x="2901960" y="4457520"/>
              <a:ext cx="104472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1"/>
          <p:cNvGrpSpPr/>
          <p:nvPr/>
        </p:nvGrpSpPr>
        <p:grpSpPr>
          <a:xfrm>
            <a:off x="5239800" y="3470400"/>
            <a:ext cx="3556080" cy="1191240"/>
            <a:chOff x="5239800" y="3470400"/>
            <a:chExt cx="3556080" cy="1191240"/>
          </a:xfrm>
        </p:grpSpPr>
        <p:sp>
          <p:nvSpPr>
            <p:cNvPr id="265" name="Text Box 22"/>
            <p:cNvSpPr/>
            <p:nvPr/>
          </p:nvSpPr>
          <p:spPr>
            <a:xfrm>
              <a:off x="6282360" y="3470400"/>
              <a:ext cx="2513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he shoots grow up away from gra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3"/>
            <p:cNvSpPr/>
            <p:nvPr/>
          </p:nvSpPr>
          <p:spPr>
            <a:xfrm flipH="1" flipV="1">
              <a:off x="5239800" y="4008240"/>
              <a:ext cx="10126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investigate geotrop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39560" y="28908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ots grow away from gravity and roots grow towards gra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3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6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otosynth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way in which green plants mak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s solar (sun) energy into chemical energy in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s place in the green parts of plants, mostly in th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one of the main differenc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plants an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eaf"/>
          <p:cNvPicPr/>
          <p:nvPr/>
        </p:nvPicPr>
        <p:blipFill>
          <a:blip r:embed="rId1"/>
          <a:stretch/>
        </p:blipFill>
        <p:spPr>
          <a:xfrm>
            <a:off x="6962760" y="4675320"/>
            <a:ext cx="2181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quation for photosyn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otosynthesis can be summari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1240" y="3021120"/>
            <a:ext cx="263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11400" y="3429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03160" y="3933720"/>
            <a:ext cx="122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709720" y="3722760"/>
            <a:ext cx="431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602160" y="2906640"/>
            <a:ext cx="2284200" cy="731880"/>
            <a:chOff x="3602160" y="2906640"/>
            <a:chExt cx="2284200" cy="731880"/>
          </a:xfrm>
        </p:grpSpPr>
        <p:sp>
          <p:nvSpPr>
            <p:cNvPr id="103" name="Oval 15"/>
            <p:cNvSpPr/>
            <p:nvPr/>
          </p:nvSpPr>
          <p:spPr>
            <a:xfrm>
              <a:off x="3602160" y="2906640"/>
              <a:ext cx="2284200" cy="731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3765240" y="2984400"/>
              <a:ext cx="19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Sunl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8"/>
          <p:cNvSpPr/>
          <p:nvPr/>
        </p:nvSpPr>
        <p:spPr>
          <a:xfrm>
            <a:off x="6454800" y="3014640"/>
            <a:ext cx="263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570800" y="34225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7064280" y="3927600"/>
            <a:ext cx="143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3608280" y="3811680"/>
            <a:ext cx="2284200" cy="731880"/>
            <a:chOff x="3608280" y="3811680"/>
            <a:chExt cx="2284200" cy="731880"/>
          </a:xfrm>
        </p:grpSpPr>
        <p:sp>
          <p:nvSpPr>
            <p:cNvPr id="109" name="Oval 23"/>
            <p:cNvSpPr/>
            <p:nvPr/>
          </p:nvSpPr>
          <p:spPr>
            <a:xfrm>
              <a:off x="3608280" y="3811680"/>
              <a:ext cx="2284200" cy="731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4"/>
            <p:cNvSpPr/>
            <p:nvPr/>
          </p:nvSpPr>
          <p:spPr>
            <a:xfrm>
              <a:off x="3771720" y="3936960"/>
              <a:ext cx="1911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9900"/>
                  </a:solidFill>
                  <a:latin typeface="Arial"/>
                </a:rPr>
                <a:t>Chlorophyl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actors needed for photosynthe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bon dioxide (a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es into the leaves from the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s the under-surface of leaves through tiny openings called stom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s the roots from the s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es up through the 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ers the leaves in the v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leafsun"/>
          <p:cNvPicPr/>
          <p:nvPr/>
        </p:nvPicPr>
        <p:blipFill>
          <a:blip r:embed="rId1"/>
          <a:stretch/>
        </p:blipFill>
        <p:spPr>
          <a:xfrm>
            <a:off x="5353200" y="2259000"/>
            <a:ext cx="3392280" cy="24415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/>
          <p:cNvSpPr/>
          <p:nvPr/>
        </p:nvSpPr>
        <p:spPr>
          <a:xfrm rot="19752600">
            <a:off x="5062680" y="4448160"/>
            <a:ext cx="777600" cy="133200"/>
          </a:xfrm>
          <a:prstGeom prst="rightArrow">
            <a:avLst>
              <a:gd name="adj1" fmla="val 50000"/>
              <a:gd name="adj2" fmla="val 1459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17097000">
            <a:off x="6490800" y="4350960"/>
            <a:ext cx="777960" cy="149400"/>
          </a:xfrm>
          <a:prstGeom prst="rightArrow">
            <a:avLst>
              <a:gd name="adj1" fmla="val 50000"/>
              <a:gd name="adj2" fmla="val 13018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246640" y="460692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310440" y="4811760"/>
            <a:ext cx="15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orm of sunlight, provides the energy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 green pigment or dye made by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as a catalyst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95280" y="236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actors needed for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2"/>
          <p:cNvGrpSpPr/>
          <p:nvPr/>
        </p:nvGrpSpPr>
        <p:grpSpPr>
          <a:xfrm>
            <a:off x="5054760" y="2273400"/>
            <a:ext cx="3661920" cy="3195360"/>
            <a:chOff x="5054760" y="2273400"/>
            <a:chExt cx="3661920" cy="3195360"/>
          </a:xfrm>
        </p:grpSpPr>
        <p:pic>
          <p:nvPicPr>
            <p:cNvPr id="121" name="Picture 9" descr="leafsun"/>
            <p:cNvPicPr/>
            <p:nvPr/>
          </p:nvPicPr>
          <p:blipFill>
            <a:blip r:embed="rId1"/>
            <a:stretch/>
          </p:blipFill>
          <p:spPr>
            <a:xfrm>
              <a:off x="5324400" y="2273400"/>
              <a:ext cx="33922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14"/>
            <p:cNvSpPr/>
            <p:nvPr/>
          </p:nvSpPr>
          <p:spPr>
            <a:xfrm rot="19752600">
              <a:off x="5033880" y="4462560"/>
              <a:ext cx="777600" cy="133200"/>
            </a:xfrm>
            <a:prstGeom prst="rightArrow">
              <a:avLst>
                <a:gd name="adj1" fmla="val 50000"/>
                <a:gd name="adj2" fmla="val 14594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6"/>
            <p:cNvSpPr/>
            <p:nvPr/>
          </p:nvSpPr>
          <p:spPr>
            <a:xfrm rot="17097000">
              <a:off x="6462000" y="4365360"/>
              <a:ext cx="777960" cy="149400"/>
            </a:xfrm>
            <a:prstGeom prst="rightArrow">
              <a:avLst>
                <a:gd name="adj1" fmla="val 50000"/>
                <a:gd name="adj2" fmla="val 1301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8"/>
            <p:cNvSpPr/>
            <p:nvPr/>
          </p:nvSpPr>
          <p:spPr>
            <a:xfrm>
              <a:off x="5217840" y="4621320"/>
              <a:ext cx="8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cc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9"/>
            <p:cNvSpPr/>
            <p:nvPr/>
          </p:nvSpPr>
          <p:spPr>
            <a:xfrm>
              <a:off x="6281640" y="4826160"/>
              <a:ext cx="15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cc00"/>
                  </a:solidFill>
                  <a:latin typeface="Arial"/>
                </a:rPr>
                <a:t>Carbon diox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8"/>
          <p:cNvGrpSpPr/>
          <p:nvPr/>
        </p:nvGrpSpPr>
        <p:grpSpPr>
          <a:xfrm>
            <a:off x="5878440" y="1766880"/>
            <a:ext cx="914400" cy="914400"/>
            <a:chOff x="5878440" y="1766880"/>
            <a:chExt cx="914400" cy="914400"/>
          </a:xfrm>
        </p:grpSpPr>
        <p:sp>
          <p:nvSpPr>
            <p:cNvPr id="127" name="AutoShape 25"/>
            <p:cNvSpPr/>
            <p:nvPr/>
          </p:nvSpPr>
          <p:spPr>
            <a:xfrm>
              <a:off x="5878440" y="1766880"/>
              <a:ext cx="914400" cy="9144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6"/>
            <p:cNvSpPr/>
            <p:nvPr/>
          </p:nvSpPr>
          <p:spPr>
            <a:xfrm>
              <a:off x="6076800" y="2067120"/>
              <a:ext cx="5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AutoShape 27"/>
          <p:cNvSpPr/>
          <p:nvPr/>
        </p:nvSpPr>
        <p:spPr>
          <a:xfrm rot="3366600">
            <a:off x="6277320" y="2823480"/>
            <a:ext cx="900360" cy="253800"/>
          </a:xfrm>
          <a:custGeom>
            <a:avLst/>
            <a:gdLst>
              <a:gd name="textAreaLeft" fmla="*/ 140400 w 900360"/>
              <a:gd name="textAreaRight" fmla="*/ 788040 w 900360"/>
              <a:gd name="textAreaTop" fmla="*/ 63360 h 253800"/>
              <a:gd name="textAreaBottom" fmla="*/ 190440 h 253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794200" y="2781360"/>
            <a:ext cx="7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0"/>
          <p:cNvSpPr/>
          <p:nvPr/>
        </p:nvSpPr>
        <p:spPr>
          <a:xfrm>
            <a:off x="7743960" y="3809880"/>
            <a:ext cx="46656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7618320" y="42861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00"/>
                </a:solidFill>
                <a:latin typeface="Arial"/>
              </a:rPr>
              <a:t>Chlorophy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ducts of photosyn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 sugar or carbohyd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be used in the plan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iration (i.e. it is broken down to release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age in the form of st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ing cell walls (i.e. it is converted to cellulose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ducts of photosyn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be used in the plant fo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ly passes out  of the stomata into the a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13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how that starch is made by a plant in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9:57:20Z</dcterms:created>
  <dc:creator>Sally</dc:creator>
  <dc:description/>
  <dc:language>en-US</dc:language>
  <cp:lastModifiedBy>7 materx 2010</cp:lastModifiedBy>
  <dcterms:modified xsi:type="dcterms:W3CDTF">2011-10-22T07:10:01Z</dcterms:modified>
  <cp:revision>37</cp:revision>
  <dc:subject/>
  <dc:title>Photosynthesis and  Plant Responses</dc:title>
</cp:coreProperties>
</file>