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0B7D-E1FA-4888-AC49-2FDB200C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2D11-6939-4C27-A79F-B0995059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D37E-5FD1-400B-8741-DDEBDB47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94F0-DC0D-4774-B299-A3958B2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6178-BD8C-40D5-9E3B-942C5898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12B-98CB-4F9A-AE4E-E7DE4D6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7CC-8A3C-4636-B451-BE8213A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A2B1-F84B-4B36-8B6C-1F1CA7D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20D-D3C5-4789-B55C-ABFA366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37E-8448-4253-9E94-9C3B567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E4FA-A41A-426A-9079-0C79443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BCC1-84AE-4679-8155-D00D228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C6C-4667-4485-9FF2-04D55E9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697-A66A-4E3A-9FB5-0C7CF5D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3C2-B19E-491F-B66B-067605D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325D-0019-47C6-A2CD-F53E74B9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428E-2D3A-495B-9798-4F0E263C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B0BC-3289-47BD-8272-3BD95E1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E166-8203-4E36-9D35-7A05D022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9E26-6756-4103-B20D-5E19A71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E33C-6637-4873-9066-918EA41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17A6-9DDB-4C38-87EF-7A27006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8027-053F-45FB-8709-DAC4F12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4A4C-F3D4-4C0A-B501-B8D80A5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60D-D56F-4AC0-9DA4-8C3FDA64D41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AFEA-42E3-4E62-9688-22FFA7A593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PQ.html#photosynthesis" TargetMode="External"/><Relationship Id="rId2" Type="http://schemas.openxmlformats.org/officeDocument/2006/relationships/hyperlink" Target="http://www.emc.maricopa.edu/faculty/farabee/biobk/BioBookglossA.html#adenosine triphosphate (ATP)" TargetMode="External"/><Relationship Id="rId3" Type="http://schemas.openxmlformats.org/officeDocument/2006/relationships/hyperlink" Target="http://www.emc.maricopa.edu/faculty/farabee/biobk/BioBookglossC.html#chlorophyll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helf/?book=mcb&amp;part=A7315&amp;rendertype=def-item&amp;id=A7752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mc.maricopa.edu/faculty/farabee/biobk/BioBookglossT.html#thylakoids" TargetMode="External"/><Relationship Id="rId3" Type="http://schemas.openxmlformats.org/officeDocument/2006/relationships/hyperlink" Target="http://www.emc.maricopa.edu/faculty/farabee/biobk/BioBookglossG.html#grana" TargetMode="External"/><Relationship Id="rId4" Type="http://schemas.openxmlformats.org/officeDocument/2006/relationships/hyperlink" Target="http://www.emc.maricopa.edu/faculty/farabee/biobk/BioBookglossS.html#stroma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ynthesi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Photosynthes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process by which plants, use the energy from sunlight to produce sugar, converts in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AT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 "fuel" used by all living things. The conversion of unusable sunlight energy into usable chemical energy, is associated with the actions of the green pigment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chlorophy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Energy transdu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nergy of excitation, in raising an electron to a higher energy orbital, dramatically changes the standard reduction potential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pigment such that it becomes a much more effective electron don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ction of this excited-state electron donor with an electron acceptor leads to the transformation, or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ransduction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ight energy (photons) to chemical energy (reducing power), the potential for electron-transfer rea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Garamond"/>
              </a:rPr>
              <a:t>Transduction of light energy into chemical energy, the photochemical event, is the essence of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r>
              <a:rPr b="0" i="1" lang="ar-SA" sz="2800" spc="-1" strike="noStrike">
                <a:solidFill>
                  <a:srgbClr val="ff0000"/>
                </a:solidFill>
                <a:latin typeface="Garamond"/>
              </a:rPr>
              <a:t>.</a:t>
            </a:r>
            <a:r>
              <a:rPr b="0" lang="ar-SA" sz="2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Role of chlorophyl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molecules are photochemically reactive, and it led to the concept that photosynthesis occurs in functionally discrete un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Chlorophyll serves two roles in photosynthe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nvolved in light harvesting and the transfer of light  energy to photo-reactive sites by excitation transf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t participates directly in the photochemical events whereby light energy becomes chemical energ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photosynthetic unit</a:t>
            </a:r>
            <a:r>
              <a:rPr b="0" lang="ar-SA" sz="3200" spc="-1" strike="noStrike">
                <a:solidFill>
                  <a:srgbClr val="ff339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serve as an antenna of several hundred light-harvesting chlorophyll molecules plus a special pair of photochemically reactive chlorophyll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lecules called th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action center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5292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in plants is excited by visible light, no flourescence or heat is ob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high energy electron moves from the excited chlorophyll molecule to the first components of a chain electron carriers leading to the generation of NADPH. H+ which coupled to form AT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ystem I and I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light reactions participate in oxygen-evolving photosynthetic cells, one using light of wavelength 700 nm and the other using light of wavelength 680 nm or l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istence of two light reactions established the presence of two photosystems I and II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hotosystem I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SI)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defined as containing reaction center chlorophylls with maximal red light absorption at 700 nm; PSI is not involved in oxyg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hotosystem II</a:t>
            </a:r>
            <a:r>
              <a:rPr b="0" lang="ar-SA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(PSII)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in oxyg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, using reaction centers that exhibit maximal red light absorption at 680 n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LUV_fig5_photosystem_v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Components of Photosystem 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308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An Oxygen-Evolving Complex in PSII Regenerates P68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1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 reaction center, two integr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protei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1 and D2, bind the special-pai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orophyll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0 ,two oth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orophyll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l), two pheophytins (Pheo), one Fe atom, and two quinones (Q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QB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f these are used f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transp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ing light absorption by an associated light harvesting comp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insic proteins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, 3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17 kDa) comprise the oxygen-evolving complex; they bind the four M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ns and the C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ns that function in the splitting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, and they maintain the environment essential for high rates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is tyrosine residue 161 of the D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eptid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ducts electrons from the Mn atoms to the oxidized reaction-center chlorophyll P68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ing it to the ground st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68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aw materials of photosynthesis, water and carbon dioxide, enter the cells of the leaf, and the products of photosynthesis, sugar and oxygen, leave the lea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صورة 1" descr="http://www.emc.maricopa.edu/faculty/farabee/biobk/leaf1.gif"/>
          <p:cNvPicPr/>
          <p:nvPr/>
        </p:nvPicPr>
        <p:blipFill>
          <a:blip r:embed="rId1"/>
          <a:stretch/>
        </p:blipFill>
        <p:spPr>
          <a:xfrm>
            <a:off x="6566040" y="3133800"/>
            <a:ext cx="2163600" cy="67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phosphory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97000"/>
            <a:ext cx="896472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s the process of converting energy from a light-excited electron into the pyrophosphate bond of an ADP molecule. This occurs when the electrons from water are excited by the light in the presence of P680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Light energy causes the removal of an electron from a molecule of P680 that is part of Photosystem II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P680 requires an electron, which is taken from a water molecule, breaking the water into 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 and 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. These 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 combine to form the diatomic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at is released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The electron is "boosted" to a higher energy state and attached to a primary electron acceptor, which begins a series of redox reactions, passing the electron through a series of electron carriers, eventually attaching it to a molecule in Photosystem I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صورة 15" descr="http://www.emc.maricopa.edu/faculty/farabee/biobk/lightrxn.gif"/>
          <p:cNvPicPr/>
          <p:nvPr/>
        </p:nvPicPr>
        <p:blipFill>
          <a:blip r:embed="rId1"/>
          <a:stretch/>
        </p:blipFill>
        <p:spPr>
          <a:xfrm>
            <a:off x="1785960" y="298440"/>
            <a:ext cx="6029280" cy="5065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50920" y="3068640"/>
            <a:ext cx="8642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ight acts on a molecule of P700 in Photosystem I, causing an electron to be "boosted" to a still higher potential. The electron is attached to a different primary electron acceptor (that is a different molecule from the one associated with Photosystem II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The electron is passed again through a series of redox reactions, eventually being attached to NADP</a:t>
            </a:r>
            <a:r>
              <a:rPr b="0" lang="en-US" sz="26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 and H</a:t>
            </a:r>
            <a:r>
              <a:rPr b="0" lang="en-US" sz="26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 to form NADPH, an energy carrier needed in the Light Independent Reac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.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lectron from Photosystem II replaces the excited electron in the P700 molecule. There is thus a continuous flow of electrons from water to NADP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yclic Electron Flow occurs in some eukaryotes and primitive photosynthetic bacteria.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No NADPH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produced,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only ATP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occurs when cells may require additional ATP, or when there is no NAD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duce to NADP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صورة 16" descr="http://www.emc.maricopa.edu/faculty/farabee/biobk/cyclicphos.gif"/>
          <p:cNvPicPr/>
          <p:nvPr/>
        </p:nvPicPr>
        <p:blipFill>
          <a:blip r:embed="rId1"/>
          <a:stretch/>
        </p:blipFill>
        <p:spPr>
          <a:xfrm>
            <a:off x="2432160" y="3828960"/>
            <a:ext cx="4383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photosystems I and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hotosystem 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s reducing power in the form of NADP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hotosystem I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plits water, producing oxygen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eeds the electrons released into an electron transport chain that couples PSII to PS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 transfer between PSII and PSI pumps protons for chemiosmotic ATP synthe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tosynthesis involves the reduction of NADP</a:t>
            </a:r>
            <a:r>
              <a:rPr b="0" lang="ar-EG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electrons derived from water and activated by light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v</a:t>
            </a:r>
            <a:r>
              <a:rPr b="0" i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ATP is generated in the process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andard reduction potential for the NAD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H couple is -0.32 V. Thus, a strong reductant wit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negative than -0.32 V is required to reduce NAD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standard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similar reasoning, a very strong oxidant will be required to oxidize water to oxygen because(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is +0.82 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ion of the oxidizing and reducing aspect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photosynthesis is accomplished in nature by devoting PSI to NADP</a:t>
            </a:r>
            <a:r>
              <a:rPr b="0" lang="ar-SA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and PSII to water oxid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I and PSII are linked via an electron transport chain so that the weak reductant generated by PSII can provide an electron to reduce the weak oxidant side of P70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ctrons flow from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to NADP</a:t>
            </a:r>
            <a:r>
              <a:rPr b="0" lang="ar-EG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ven by light energy absorbed at the reaction centers. Oxygen is a by-product of the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otolysis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-splitting of water</a:t>
            </a:r>
            <a:r>
              <a:rPr b="0" lang="ar-EG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panying electron flow is production of a proton gradient and ATP 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This light-driven phosphorylation is termed</a:t>
            </a:r>
            <a:r>
              <a:rPr b="0" lang="ar-SA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photophosphorylation</a:t>
            </a:r>
            <a:r>
              <a:rPr b="0" lang="ar-SA" sz="2800" spc="-1" strike="noStrike">
                <a:solidFill>
                  <a:srgbClr val="ff3399"/>
                </a:solidFill>
                <a:latin typeface="Garamond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..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only absorbed light can excite molecules and thus deliver its energy, so a photosynthetic pigment can act as absorbers of visible l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ves of higher plants contain two kinds of chlorophyll which differ only slightly in structure and absorption spectra. Chlorophyll a and chlorophyll 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b has a CHO group instead of the methyl group at the position sh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photosynthetic cells contain, in addition to chlorophyll, other l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orbing pigments, known as accessory pig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:</a:t>
            </a:r>
            <a:r>
              <a:rPr b="0" lang="ar-E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rotenes (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cc9900"/>
                </a:solidFill>
                <a:latin typeface="Garamond"/>
              </a:rPr>
              <a:t>brow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3200" spc="-1" strike="noStrike">
                <a:solidFill>
                  <a:srgbClr val="cc0000"/>
                </a:solidFill>
                <a:latin typeface="Garamond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cocyanins   (</a:t>
            </a:r>
            <a:r>
              <a:rPr b="0" lang="en-US" sz="3200" spc="-1" strike="noStrike">
                <a:solidFill>
                  <a:srgbClr val="00ffff"/>
                </a:solidFill>
                <a:latin typeface="Garamond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coerythrins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Structure of chlorophyll a  and 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صورة 9" descr="http://www.emc.maricopa.edu/faculty/farabee/biobk/chlphl.gif"/>
          <p:cNvPicPr/>
          <p:nvPr/>
        </p:nvPicPr>
        <p:blipFill>
          <a:blip r:embed="rId1"/>
          <a:stretch/>
        </p:blipFill>
        <p:spPr>
          <a:xfrm>
            <a:off x="60480" y="1450800"/>
            <a:ext cx="4749480" cy="6834240"/>
          </a:xfrm>
          <a:prstGeom prst="rect">
            <a:avLst/>
          </a:prstGeom>
          <a:ln w="0">
            <a:noFill/>
          </a:ln>
        </p:spPr>
      </p:pic>
      <p:pic>
        <p:nvPicPr>
          <p:cNvPr id="110" name="صورة 10" descr="http://www.emc.maricopa.edu/faculty/farabee/biobk/pigment.gif"/>
          <p:cNvPicPr/>
          <p:nvPr/>
        </p:nvPicPr>
        <p:blipFill>
          <a:blip r:embed="rId2"/>
          <a:stretch/>
        </p:blipFill>
        <p:spPr>
          <a:xfrm>
            <a:off x="4668840" y="2962440"/>
            <a:ext cx="4511520" cy="68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981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If a pigment absorbs light energy, one of three things will occu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ergy is dissipated as h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energy may be emitted immediately as a longer wavelength, a phenomenon known as fluoresc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ergy may trigger a chemical reaction, as in photosynthesi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only triggers a chemical reaction when it is associated with proteins embedded in a membrane (as in a chloropla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hloroplastCartoon"/>
          <p:cNvPicPr/>
          <p:nvPr/>
        </p:nvPicPr>
        <p:blipFill>
          <a:blip r:embed="rId1"/>
          <a:stretch/>
        </p:blipFill>
        <p:spPr>
          <a:xfrm>
            <a:off x="5175360" y="3968640"/>
            <a:ext cx="3876480" cy="5565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468360" y="1890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The structure of the chloroplast and photosynthetic membra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95280" y="1268280"/>
            <a:ext cx="874872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thylakoid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s the structural unit of photosynthesi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ylakoids are stacked like pancakes in stacks known collectively as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gran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The areas between grana are referred to as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strom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chloroplast has three membranes, forming three compart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Stages of Photosynth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1341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 is a two stage process. The first process is the Light Dependent Process (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ight rea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requires the direct energy of light to make energy carrier molecules that are used in the second proc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ght Independent Process (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rk rea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occurs when the products of the Light Reaction are used to form C-C covalent bonds of carbohydr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ght Reactions occur in th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gran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 Dark Reactions take place in th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tro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chloropla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صورة 13" descr="http://www.emc.maricopa.edu/faculty/farabee/biobk/psoverview.gif"/>
          <p:cNvPicPr/>
          <p:nvPr/>
        </p:nvPicPr>
        <p:blipFill>
          <a:blip r:embed="rId1"/>
          <a:stretch/>
        </p:blipFill>
        <p:spPr>
          <a:xfrm>
            <a:off x="4737240" y="1670040"/>
            <a:ext cx="3778200" cy="9333000"/>
          </a:xfrm>
          <a:prstGeom prst="rect">
            <a:avLst/>
          </a:prstGeom>
          <a:ln w="0">
            <a:noFill/>
          </a:ln>
        </p:spPr>
      </p:pic>
      <p:sp>
        <p:nvSpPr>
          <p:cNvPr id="118" name="Right Arrow 4"/>
          <p:cNvSpPr/>
          <p:nvPr/>
        </p:nvSpPr>
        <p:spPr>
          <a:xfrm>
            <a:off x="3132000" y="2492280"/>
            <a:ext cx="1944720" cy="2160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ight Arrow 5"/>
          <p:cNvSpPr/>
          <p:nvPr/>
        </p:nvSpPr>
        <p:spPr>
          <a:xfrm>
            <a:off x="3059280" y="4941720"/>
            <a:ext cx="1944360" cy="216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68360" y="23493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Light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1280" y="472428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Dark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08:17:09Z</dcterms:created>
  <dc:creator>Yano</dc:creator>
  <dc:description/>
  <dc:language>en-US</dc:language>
  <cp:lastModifiedBy>Administrator</cp:lastModifiedBy>
  <dcterms:modified xsi:type="dcterms:W3CDTF">2011-06-06T13:03:39Z</dcterms:modified>
  <cp:revision>22</cp:revision>
  <dc:subject/>
  <dc:title>Photosynthesis</dc:title>
</cp:coreProperties>
</file>