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EFA6E-2364-40CE-8698-764D2F78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998DC-A232-49FC-9D4B-1BE8FB90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74D2-9145-4F99-8A8C-42017537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8AA3-7C75-4924-BE5F-18E6DA0C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FB03-8886-42D1-A7C4-979BE168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2019-CE18-42A8-9747-8FB1F385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8BC3-BE7C-4ED5-AFFF-3F54E9FE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7317-1C63-4169-A653-0233A7B0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03AC-4FB4-4B11-A1A2-DDB246CB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E193-961C-4C3C-8CD7-71B55273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C338-0955-48BA-8142-5A3DC405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8F76-3FB4-4762-960A-133231F3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5857-CD82-4B9C-A111-81E37DF9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49BE-6FD5-4678-AEF5-0C135160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9C78-1223-42FE-8537-F25C03F5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446C-BE26-4CB7-BB7C-BCCCC554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197A-E7F6-4D11-963E-2C82136F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2EF0-1CB3-4B1D-AA1E-B7F8C43D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6C26-DF9E-4BD9-8450-CA308D8D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D9C6-581B-43C3-B1B5-2F696E76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B3A5-AEBA-42EB-8C90-FB2F96BE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87C8-E00F-4D35-B64D-FFEB0155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C062-9B2E-49C2-B9BA-F2694A3F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50942-C38E-4F3F-A61C-64D47F41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68D4-FCBF-41D1-A497-B56D5CBDFB7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823E-6563-4006-9C12-F8D3B0ED45F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mc.maricopa.edu/faculty/farabee/biobk/BioBookglossPQ.html#photosynthesis" TargetMode="External"/><Relationship Id="rId2" Type="http://schemas.openxmlformats.org/officeDocument/2006/relationships/hyperlink" Target="http://www.emc.maricopa.edu/faculty/farabee/biobk/BioBookglossA.html#adenosine triphosphate (ATP)" TargetMode="External"/><Relationship Id="rId3" Type="http://schemas.openxmlformats.org/officeDocument/2006/relationships/hyperlink" Target="http://www.emc.maricopa.edu/faculty/farabee/biobk/BioBookglossC.html#chlorophyll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cbi.nlm.nih.gov/bookshelf/?book=mcb&amp;part=A7315&amp;rendertype=def-item&amp;id=A7752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mc.maricopa.edu/faculty/farabee/biobk/BioBookglossT.html#thylakoids" TargetMode="External"/><Relationship Id="rId3" Type="http://schemas.openxmlformats.org/officeDocument/2006/relationships/hyperlink" Target="http://www.emc.maricopa.edu/faculty/farabee/biobk/BioBookglossG.html#grana" TargetMode="External"/><Relationship Id="rId4" Type="http://schemas.openxmlformats.org/officeDocument/2006/relationships/hyperlink" Target="http://www.emc.maricopa.edu/faculty/farabee/biobk/BioBookglossS.html#stroma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Photosynthesis</a:t>
            </a:r>
            <a:r>
              <a:rPr b="1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540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Photosynthesi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process by which plants, use the energy from sunlight to produce sugar, converts in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AT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e "fuel" used by all living things. The conversion of unusable sunlight energy into usable chemical energy, is associated with the actions of the green pigment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chlorophy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Energy transduc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energy of excitation, in raising an electron to a higher energy orbital, dramatically changes the standard reduction potential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the pigment such that it becomes a much more effective electron don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ction of this excited-state electron donor with an electron acceptor leads to the transformation, or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ransduction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light energy (photons) to chemical energy (reducing power), the potential for electron-transfer reac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Garamond"/>
              </a:rPr>
              <a:t>Transduction of light energy into chemical energy, the photochemical event, is the essence of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r>
              <a:rPr b="0" i="1" lang="ar-SA" sz="2800" spc="-1" strike="noStrike">
                <a:solidFill>
                  <a:srgbClr val="ff0000"/>
                </a:solidFill>
                <a:latin typeface="Garamond"/>
              </a:rPr>
              <a:t>.</a:t>
            </a:r>
            <a:r>
              <a:rPr b="0" lang="ar-SA" sz="2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Role of chlorophyl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lorophyll molecules are photochemically reactive, and it led to the concept that photosynthesis occurs in functionally discrete uni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Garamond"/>
              </a:rPr>
              <a:t>Chlorophyll serves two roles in photosynthesi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nvolved in light harvesting and the transfer of light  energy to photo-reactive sites by excitation transf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2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t participates directly in the photochemical events whereby light energy becomes chemical energ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Garamond"/>
              </a:rPr>
              <a:t>photosynthetic unit</a:t>
            </a:r>
            <a:r>
              <a:rPr b="0" lang="ar-SA" sz="3200" spc="-1" strike="noStrike">
                <a:solidFill>
                  <a:srgbClr val="ff3399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serve as an antenna of several hundred light-harvesting chlorophyll molecules plus a special pair of photochemically reactive chlorophyll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lecules called the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reaction center.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5292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lorophyll in plants is excited by visible light, no flourescence or heat is ob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high energy electron moves from the excited chlorophyll molecule to the first components of a chain electron carriers leading to the generation of NADPH. H+ which coupled to form AT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Photosystem I and I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light reactions participate in oxygen-evolving photosynthetic cells, one using light of wavelength 700 nm and the other using light of wavelength 680 nm or l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xistence of two light reactions established the presence of two photosystems I and II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hotosystem I</a:t>
            </a:r>
            <a:r>
              <a:rPr b="0" lang="ar-EG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)</a:t>
            </a:r>
            <a:r>
              <a:rPr b="0" lang="ar-SA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SI)</a:t>
            </a:r>
            <a:r>
              <a:rPr b="0" lang="ar-EG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defined as containing reaction center chlorophylls with maximal red light absorption at 700 nm; PSI is not involved in oxyge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olu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hotosystem II</a:t>
            </a:r>
            <a:r>
              <a:rPr b="0" lang="ar-SA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(PSII)</a:t>
            </a:r>
            <a:r>
              <a:rPr b="0" lang="ar-EG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 in oxyge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olution, using reaction centers that exhibit maximal red light absorption at 680 n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5" descr="LUV_fig5_photosystem_v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Components of Photosystem 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3308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An Oxygen-Evolving Complex in PSII Regenerates P680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514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 reaction center, two integra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  <a:hlinkClick r:id="rId1"/>
              </a:rPr>
              <a:t>protein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1 and D2, bind the special-pai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lorophyll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80 ,two othe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lorophyll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hl), two pheophytins (Pheo), one Fe atom, and two quinones (Q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QB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of these are used for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 transpor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ing light absorption by an associated light harvesting compl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insic proteins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, 3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17 kDa) comprise the oxygen-evolving complex; they bind the four M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ns and the Ca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l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ns that function in the splitting of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, and they maintain the environment essential for high rates of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olu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is tyrosine residue 161 of the D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peptid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conducts electrons from the Mn atoms to the oxidized reaction-center chlorophyll P68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ing it to the ground state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68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aw materials of photosynthesis, water and carbon dioxide, enter the cells of the leaf, and the products of photosynthesis, sugar and oxygen, leave the lea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Andalus"/>
                <a:ea typeface="Andalus"/>
              </a:rPr>
              <a:t>Continue</a:t>
            </a:r>
            <a:r>
              <a:rPr b="1" i="1" lang="en-GB" sz="3600" spc="-1" strike="noStrike">
                <a:solidFill>
                  <a:srgbClr val="ff0000"/>
                </a:solidFill>
                <a:latin typeface="Andalus"/>
                <a:ea typeface="Andalus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صورة 1" descr="http://www.emc.maricopa.edu/faculty/farabee/biobk/leaf1.gif"/>
          <p:cNvPicPr/>
          <p:nvPr/>
        </p:nvPicPr>
        <p:blipFill>
          <a:blip r:embed="rId1"/>
          <a:stretch/>
        </p:blipFill>
        <p:spPr>
          <a:xfrm>
            <a:off x="6566040" y="3133800"/>
            <a:ext cx="2163600" cy="67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Photophosphoryl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197000"/>
            <a:ext cx="8964720" cy="60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s the process of converting energy from a light-excited electron into the pyrophosphate bond of an ADP molecule. This occurs when the electrons from water are excited by the light in the presence of P680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Light energy causes the removal of an electron from a molecule of P680 that is part of Photosystem II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P680 requires an electron, which is taken from a water molecule, breaking the water into H</a:t>
            </a:r>
            <a:r>
              <a:rPr b="0" lang="en-US" sz="26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ions and 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Garamond"/>
              </a:rPr>
              <a:t>-2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ions. These O</a:t>
            </a:r>
            <a:r>
              <a:rPr b="0" lang="en-US" sz="2600" spc="-1" strike="noStrike" baseline="30000">
                <a:solidFill>
                  <a:srgbClr val="ffffff"/>
                </a:solidFill>
                <a:latin typeface="Garamond"/>
              </a:rPr>
              <a:t>-2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ions combine to form the diatomic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that is released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The electron is "boosted" to a higher energy state and attached to a primary electron acceptor, which begins a series of redox reactions, passing the electron through a series of electron carriers, eventually attaching it to a molecule in Photosystem I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صورة 15" descr="http://www.emc.maricopa.edu/faculty/farabee/biobk/lightrxn.gif"/>
          <p:cNvPicPr/>
          <p:nvPr/>
        </p:nvPicPr>
        <p:blipFill>
          <a:blip r:embed="rId1"/>
          <a:stretch/>
        </p:blipFill>
        <p:spPr>
          <a:xfrm>
            <a:off x="1785960" y="298440"/>
            <a:ext cx="6029280" cy="50655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250920" y="3068640"/>
            <a:ext cx="8642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ight acts on a molecule of P700 in Photosystem I, causing an electron to be "boosted" to a still higher potential. The electron is attached to a different primary electron acceptor (that is a different molecule from the one associated with Photosystem II)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The electron is passed again through a series of redox reactions, eventually being attached to NADP</a:t>
            </a:r>
            <a:r>
              <a:rPr b="0" lang="en-US" sz="2600" spc="-1" strike="noStrike" baseline="30000">
                <a:solidFill>
                  <a:srgbClr val="ffff00"/>
                </a:solidFill>
                <a:latin typeface="Garamond"/>
              </a:rPr>
              <a:t>+</a:t>
            </a: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 and H</a:t>
            </a:r>
            <a:r>
              <a:rPr b="0" lang="en-US" sz="2600" spc="-1" strike="noStrike" baseline="30000">
                <a:solidFill>
                  <a:srgbClr val="ffff00"/>
                </a:solidFill>
                <a:latin typeface="Garamond"/>
              </a:rPr>
              <a:t>+</a:t>
            </a: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 to form NADPH, an energy carrier needed in the Light Independent Reaction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Continue</a:t>
            </a:r>
            <a:r>
              <a:rPr b="1" i="1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.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33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electron from Photosystem II replaces the excited electron in the P700 molecule. There is thus a continuous flow of electrons from water to NADPH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33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yclic Electron Flow occurs in some eukaryotes and primitive photosynthetic bacteria.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No NADPH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produced,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only ATP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33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occurs when cells may require additional ATP, or when there is no NAD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duce to NADP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صورة 16" descr="http://www.emc.maricopa.edu/faculty/farabee/biobk/cyclicphos.gif"/>
          <p:cNvPicPr/>
          <p:nvPr/>
        </p:nvPicPr>
        <p:blipFill>
          <a:blip r:embed="rId1"/>
          <a:stretch/>
        </p:blipFill>
        <p:spPr>
          <a:xfrm>
            <a:off x="2432160" y="3828960"/>
            <a:ext cx="4383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le of photosystems I and 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hotosystem I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vides reducing power in the form of NADPH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hotosystem II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plits water, producing oxygen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feeds the electrons released into an electron transport chain that couples PSII to PS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ron transfer between PSII and PSI pumps protons for chemiosmotic ATP synthesi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otosynthesis involves the reduction of NADP</a:t>
            </a:r>
            <a:r>
              <a:rPr b="0" lang="ar-EG" sz="32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ing electrons derived from water and activated by light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v</a:t>
            </a:r>
            <a:r>
              <a:rPr b="0" i="1" lang="ar-SA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ATP is generated in the process</a:t>
            </a: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.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andard reduction potential for the NADP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H couple is -0.32 V. Thus, a strong reductant with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o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negative than -0.32 V is required to reduce NADP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 standard condi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similar reasoning, a very strong oxidant will be required to oxidize water to oxygen because(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) is +0.82 V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ion of the oxidizing and reducing aspect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photosynthesis is accomplished in nature by devoting PSI to NADP</a:t>
            </a:r>
            <a:r>
              <a:rPr b="0" lang="ar-SA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tion and PSII to water oxid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SI and PSII are linked via an electron transport chain so that the weak reductant generated by PSII can provide an electron to reduce the weak oxidant side of P70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us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ectrons flow from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to NADP</a:t>
            </a:r>
            <a:r>
              <a:rPr b="0" lang="ar-EG" sz="2800" spc="-1" strike="noStrike" baseline="30000">
                <a:solidFill>
                  <a:srgbClr val="ffffff"/>
                </a:solidFill>
                <a:latin typeface="Garamond"/>
              </a:rPr>
              <a:t>+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iven by light energy absorbed at the reaction centers. Oxygen is a by-product of the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hotolysis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ght-splitting of water</a:t>
            </a:r>
            <a:r>
              <a:rPr b="0" lang="ar-EG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mpanying electron flow is production of a proton gradient and ATP synthe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3399"/>
                </a:solidFill>
                <a:latin typeface="Garamond"/>
                <a:ea typeface="Times New Roman"/>
              </a:rPr>
              <a:t>This light-driven phosphorylation is termed</a:t>
            </a:r>
            <a:r>
              <a:rPr b="0" lang="ar-SA" sz="2600" spc="-1" strike="noStrike">
                <a:solidFill>
                  <a:srgbClr val="ff3399"/>
                </a:solidFill>
                <a:latin typeface="Garamond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3399"/>
                </a:solidFill>
                <a:latin typeface="Garamond"/>
                <a:ea typeface="Times New Roman"/>
              </a:rPr>
              <a:t>photophosphorylation</a:t>
            </a:r>
            <a:r>
              <a:rPr b="0" lang="ar-SA" sz="2800" spc="-1" strike="noStrike">
                <a:solidFill>
                  <a:srgbClr val="ff3399"/>
                </a:solidFill>
                <a:latin typeface="Garamond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Andalus"/>
                <a:ea typeface="Andalus"/>
              </a:rPr>
              <a:t>Continue</a:t>
            </a:r>
            <a:r>
              <a:rPr b="1" i="1" lang="en-GB" sz="3600" spc="-1" strike="noStrike">
                <a:solidFill>
                  <a:srgbClr val="ff0000"/>
                </a:solidFill>
                <a:latin typeface="Andalus"/>
                <a:ea typeface="Andalus"/>
              </a:rPr>
              <a:t>..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ce only absorbed light can excite molecules and thus deliver its energy, so a photosynthetic pigment can act as absorbers of visible li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eaves of higher plants contain two kinds of chlorophyll which differ only slightly in structure and absorption spectra. Chlorophyll a and chlorophyll 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lorophyll b has a CHO group instead of the methyl group at the position show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photosynthetic cells contain, in addition to chlorophyll, other ligh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sorbing pigments, known as accessory pig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.g:</a:t>
            </a:r>
            <a:r>
              <a:rPr b="0" lang="ar-EG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arotenes (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Yellow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cc9900"/>
                </a:solidFill>
                <a:latin typeface="Garamond"/>
              </a:rPr>
              <a:t>brow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lang="en-US" sz="3200" spc="-1" strike="noStrike">
                <a:solidFill>
                  <a:srgbClr val="cc0000"/>
                </a:solidFill>
                <a:latin typeface="Garamond"/>
              </a:rPr>
              <a:t>r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cocyanins   (</a:t>
            </a:r>
            <a:r>
              <a:rPr b="0" lang="en-US" sz="3200" spc="-1" strike="noStrike">
                <a:solidFill>
                  <a:srgbClr val="00ffff"/>
                </a:solidFill>
                <a:latin typeface="Garamond"/>
              </a:rPr>
              <a:t>Blu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coerythrins (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R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Structure of chlorophyll a  and b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صورة 9" descr="http://www.emc.maricopa.edu/faculty/farabee/biobk/chlphl.gif"/>
          <p:cNvPicPr/>
          <p:nvPr/>
        </p:nvPicPr>
        <p:blipFill>
          <a:blip r:embed="rId1"/>
          <a:stretch/>
        </p:blipFill>
        <p:spPr>
          <a:xfrm>
            <a:off x="60480" y="1450800"/>
            <a:ext cx="4749480" cy="6834240"/>
          </a:xfrm>
          <a:prstGeom prst="rect">
            <a:avLst/>
          </a:prstGeom>
          <a:ln w="0">
            <a:noFill/>
          </a:ln>
        </p:spPr>
      </p:pic>
      <p:pic>
        <p:nvPicPr>
          <p:cNvPr id="110" name="صورة 10" descr="http://www.emc.maricopa.edu/faculty/farabee/biobk/pigment.gif"/>
          <p:cNvPicPr/>
          <p:nvPr/>
        </p:nvPicPr>
        <p:blipFill>
          <a:blip r:embed="rId2"/>
          <a:stretch/>
        </p:blipFill>
        <p:spPr>
          <a:xfrm>
            <a:off x="4668840" y="2962440"/>
            <a:ext cx="4511520" cy="68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981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If a pigment absorbs light energy, one of three things will occu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1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nergy is dissipated as hea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energy may be emitted immediately as a longer wavelength, a phenomenon known as fluorescenc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3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Energy may trigger a chemical reaction, as in photosynthesi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lorophyll only triggers a chemical reaction when it is associated with proteins embedded in a membrane (as in a chloropla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hloroplastCartoon"/>
          <p:cNvPicPr/>
          <p:nvPr/>
        </p:nvPicPr>
        <p:blipFill>
          <a:blip r:embed="rId1"/>
          <a:stretch/>
        </p:blipFill>
        <p:spPr>
          <a:xfrm>
            <a:off x="5175360" y="3968640"/>
            <a:ext cx="3876480" cy="5565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468360" y="18900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The structure of the chloroplast and photosynthetic membra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95280" y="1268280"/>
            <a:ext cx="8748720" cy="42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lang="en-US" sz="26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thylakoid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is the structural unit of photosynthesi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ylakoids are stacked like pancakes in stacks known collectively as </a:t>
            </a:r>
            <a:r>
              <a:rPr b="0" lang="en-US" sz="26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grana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 The areas between grana are referred to as </a:t>
            </a:r>
            <a:r>
              <a:rPr b="0" lang="en-US" sz="26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stroma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he chloroplast has three membranes, forming three compartment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Stages of Photosynthe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000" y="134136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tosynthesis is a two stage process. The first process is the Light Dependent Process (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Light reac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, requires the direct energy of light to make energy carrier molecules that are used in the second proc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ight Independent Process (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ark reac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occurs when the products of the Light Reaction are used to form C-C covalent bonds of carbohydra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ight Reactions occur in th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gran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the Dark Reactions take place in th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trom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the chloroplas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صورة 13" descr="http://www.emc.maricopa.edu/faculty/farabee/biobk/psoverview.gif"/>
          <p:cNvPicPr/>
          <p:nvPr/>
        </p:nvPicPr>
        <p:blipFill>
          <a:blip r:embed="rId1"/>
          <a:stretch/>
        </p:blipFill>
        <p:spPr>
          <a:xfrm>
            <a:off x="4737240" y="1670040"/>
            <a:ext cx="3778200" cy="9333000"/>
          </a:xfrm>
          <a:prstGeom prst="rect">
            <a:avLst/>
          </a:prstGeom>
          <a:ln w="0">
            <a:noFill/>
          </a:ln>
        </p:spPr>
      </p:pic>
      <p:sp>
        <p:nvSpPr>
          <p:cNvPr id="118" name="Right Arrow 4"/>
          <p:cNvSpPr/>
          <p:nvPr/>
        </p:nvSpPr>
        <p:spPr>
          <a:xfrm>
            <a:off x="3132000" y="2492280"/>
            <a:ext cx="1944720" cy="2160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ight Arrow 5"/>
          <p:cNvSpPr/>
          <p:nvPr/>
        </p:nvSpPr>
        <p:spPr>
          <a:xfrm>
            <a:off x="3059280" y="4941720"/>
            <a:ext cx="1944360" cy="2160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68360" y="234936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Garamond"/>
              </a:rPr>
              <a:t>Light Re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611280" y="472428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Garamond"/>
              </a:rPr>
              <a:t>Dark Re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08:17:09Z</dcterms:created>
  <dc:creator>Yano</dc:creator>
  <dc:description/>
  <dc:language>en-US</dc:language>
  <cp:lastModifiedBy>Administrator</cp:lastModifiedBy>
  <dcterms:modified xsi:type="dcterms:W3CDTF">2011-06-06T13:03:39Z</dcterms:modified>
  <cp:revision>22</cp:revision>
  <dc:subject/>
  <dc:title>Photosynthesis</dc:title>
</cp:coreProperties>
</file>