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14.jpeg" ContentType="image/jpeg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3.png" ContentType="image/pn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42F7-2FBF-4405-993A-39FBA7E55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EAE4-6B24-4FBE-BA6B-0EC2DB2C365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D637-2A09-433D-8792-D7C55BAD24E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F364-0CA9-4DEF-B721-9F0F41F4D49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74CB-0568-4F59-AB4E-EB01B66F37A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2426-E033-4266-BCC2-1D0A9F9750F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0F39-9625-4BB9-BBB8-DFF9201CB95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02B1-94F9-4063-8485-1F2302E1FB0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0A25-A43E-4AA5-BC6A-B06717BCCD9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8541-352D-4074-BD15-96E901C41EE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B248-039C-47DC-BB28-504FCB91830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AA7E-0323-4B8B-A15B-16E6195469D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4343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. 3.  Lambers et al. 1998.  Plant Physiological Ecology, Spring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ress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over seconds, minutes, hours and days.  Will reduce the performance of th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cclimation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phological and physiological adjustments that occur in individual plants to compensate for the decline in performance.  Can result in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omeostatic adjustm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daptation/evolution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 from genetic changes in a population of a plant species, leading to morphological and physiological compensation for the decline in performance caused by 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Not all genetic differences among populations reflect adaptation.  Plants may differ genetically because their ancestral species or populations were genetically distinct before they arrived in a particular habitat.  Also, not all traits exhibited by a species are necessarily beneficial or that they resulted from natural selection in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07C2-56FC-46E2-B503-318261A2480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2FF4-880A-4A7F-A96A-E2E3A76D853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CF49-1FA9-4A31-BD4D-A0489ACF07A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21A3-2EFC-4019-B9B8-EB9FD073657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4AA5-18BD-4779-940F-1DC6755D131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1026-5B81-42F7-950E-2576830C80B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EC9C-8EAA-4598-90A3-0165E4B01C6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D34-C557-4844-9301-38BCE462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AFC-404A-470F-987D-2E7001A0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46B-B1C5-4563-826C-D4A1ACA4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EEA-9EBE-4263-A1C8-82902683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EA0F-18BD-4302-B422-3B3F8A20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6E9B-464B-4CDC-9C95-F7C1D9B9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76A1-8F3F-4C6B-BFA5-692A8D38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50BD-1C99-41EB-973E-ADC1C1CC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F3C4-EF99-47B6-AA46-B4AA5082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560" y="22824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F011-48E1-4B9C-A8FF-B3D6A058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5607-BEAF-4719-A287-D52B89E2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F96-6973-41AD-9CFC-91C14503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442C-B6FF-449E-807F-0DF57172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3066-241E-43D0-BA4B-721BB73C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55B9-04BF-4E2E-B07A-C8378896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9895-B6D9-4612-8E4B-2E789A44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88568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4064760"/>
            <a:ext cx="28526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04DB-3E20-440C-B98B-FD9E60DA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E55-A1BC-438A-B874-4AF225E6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423-8C77-45C9-A6FC-0EDE6D9B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C87-10D6-4BF0-94DC-59DDBD75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560" y="22824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39B-F364-4CA0-8129-903FD345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FD1-DAD4-4941-A903-1D279D75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406476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592-F119-4816-8A39-0EDC1B63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885680"/>
            <a:ext cx="4323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1BA-2CAD-4137-BD29-AD7B7C16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6868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686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294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2944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Environmental Plant Physiology. University of Y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91440" y="62294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9393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2A2F-6880-40C6-911E-59E5F243B223}" type="slidenum">
              <a:rPr b="0" lang="ar-SA" sz="1400" spc="-1" strike="noStrike">
                <a:solidFill>
                  <a:srgbClr val="39393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90720" y="1314360"/>
            <a:ext cx="89154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90720" y="1828800"/>
            <a:ext cx="89154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360" y="1885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6868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686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Environmental Plant Physiology. University of Y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066A-2CAE-4B10-B8F9-7461CDC4A05F}" type="slidenum">
              <a:rPr b="0" lang="ar-SA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desert"/>
          <p:cNvPicPr/>
          <p:nvPr/>
        </p:nvPicPr>
        <p:blipFill>
          <a:blip r:embed="rId1"/>
          <a:stretch/>
        </p:blipFill>
        <p:spPr>
          <a:xfrm>
            <a:off x="5530680" y="4017960"/>
            <a:ext cx="4375440" cy="2840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92966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iology 633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nvironmental Plant Phys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rainforest QLD2"/>
          <p:cNvPicPr/>
          <p:nvPr/>
        </p:nvPicPr>
        <p:blipFill>
          <a:blip r:embed="rId2"/>
          <a:stretch/>
        </p:blipFill>
        <p:spPr>
          <a:xfrm>
            <a:off x="0" y="1905120"/>
            <a:ext cx="312120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lpinetundra"/>
          <p:cNvPicPr/>
          <p:nvPr/>
        </p:nvPicPr>
        <p:blipFill>
          <a:blip r:embed="rId3"/>
          <a:stretch/>
        </p:blipFill>
        <p:spPr>
          <a:xfrm>
            <a:off x="3124080" y="2743200"/>
            <a:ext cx="4292640" cy="2738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360" y="533412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pical rainfore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115160" y="297180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pine tundr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8004240" y="41148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534240" y="617220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erfasi@yahoo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413160" y="1946160"/>
            <a:ext cx="61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of how the environment affects the function of pla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30492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3300"/>
                </a:solidFill>
                <a:latin typeface="Arial"/>
              </a:rPr>
              <a:t>Temporal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variation in tempera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921996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30492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i="1" lang="en-GB" sz="2800" spc="-1" strike="noStrike">
                <a:solidFill>
                  <a:srgbClr val="ff3300"/>
                </a:solidFill>
                <a:latin typeface="Arial"/>
              </a:rPr>
              <a:t>.and light intens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92504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941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Global environment is also chan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e.g. greenhouse gases, temperature,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 nutrients, UV-rad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co2"/>
          <p:cNvPicPr/>
          <p:nvPr/>
        </p:nvPicPr>
        <p:blipFill>
          <a:blip r:embed="rId1"/>
          <a:stretch/>
        </p:blipFill>
        <p:spPr>
          <a:xfrm>
            <a:off x="328680" y="152280"/>
            <a:ext cx="9577440" cy="6705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4802400" y="6338880"/>
            <a:ext cx="951840" cy="5205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 rot="16200000">
            <a:off x="-1876320" y="3018240"/>
            <a:ext cx="4803480" cy="4406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mospheric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ncentration (ppm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723400" y="3925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999080" y="228600"/>
            <a:ext cx="68713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ising atmospheric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concentr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523880" y="890640"/>
            <a:ext cx="6096240" cy="5967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-609480" y="304920"/>
            <a:ext cx="990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……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.enormous flow of CO</a:t>
            </a:r>
            <a:r>
              <a:rPr b="1" lang="en-GB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 in and out of lea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5713200" cy="6248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6400800" y="533520"/>
            <a:ext cx="3276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……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.and these are cells that remove CO</a:t>
            </a:r>
            <a:r>
              <a:rPr b="1" lang="en-GB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 from the atmosphe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9525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hat is Environmental Plant Physiology (EPP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941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how the environment affects the function of pl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s knowledge of biochemistry, physiology, anatomy and morphology of pl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causal, mechanistic explanations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cologic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66ff"/>
                </a:solidFill>
                <a:latin typeface="Tahoma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ch a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y does a species live where it doe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How does it survive, and why is t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species absent from other 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Ques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how do plants cope with excess light when it is very c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095880" y="243828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e.g. avoid the morning su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525840" cy="5257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5486400" y="3581280"/>
            <a:ext cx="3971880" cy="30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70588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Ques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how do plants cope with soils deficient in phosphorus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e.g. grow cluster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H"/>
          <p:cNvPicPr/>
          <p:nvPr/>
        </p:nvPicPr>
        <p:blipFill>
          <a:blip r:embed="rId1"/>
          <a:stretch/>
        </p:blipFill>
        <p:spPr>
          <a:xfrm>
            <a:off x="4724280" y="2286000"/>
            <a:ext cx="4648320" cy="4272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"/>
          <p:cNvPicPr/>
          <p:nvPr/>
        </p:nvPicPr>
        <p:blipFill>
          <a:blip r:embed="rId2"/>
          <a:stretch/>
        </p:blipFill>
        <p:spPr>
          <a:xfrm>
            <a:off x="762120" y="2286000"/>
            <a:ext cx="31096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Ques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how do plants cope with excessive sa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6324480" y="3733920"/>
            <a:ext cx="2934000" cy="2238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5257800" cy="35244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6095880" y="243828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e.g. sequester salt in salt bladd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9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Module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99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uss interplay between the genetic potential of plants and environments in which they g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f short-term changes in the environment on physiology, morphology and growth of pl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ss response, acclimation and adaptation of plants in response to changes in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 lectures and 4 practical se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Ques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how do plants manage to grow in deep shade?</a:t>
            </a:r>
            <a:br>
              <a:rPr sz="2800"/>
            </a:b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e.g. use light fl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sun flecks"/>
          <p:cNvPicPr/>
          <p:nvPr/>
        </p:nvPicPr>
        <p:blipFill>
          <a:blip r:embed="rId1"/>
          <a:stretch/>
        </p:blipFill>
        <p:spPr>
          <a:xfrm>
            <a:off x="990720" y="2057400"/>
            <a:ext cx="31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5210280" cy="4257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nvironmental Plant Physiology &amp; 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griculture/Fore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447920"/>
            <a:ext cx="941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PP is also closely linked to the study of plant performance in agricultu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ricultural production is limited in many countries by stresses such as drought, nutrient availability, salinity, 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develop crops that are less sensitive to those stresses, so we can grow them in less favorable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ing required of the physiological mechanisms that enable plants to 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9372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Ques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what mechanisms enable the barley variety on the left cope better with manganese deficiency than the variety on the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553080" cy="4900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nvironmental Plant Physiology &amp; 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Global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3960" y="1828800"/>
            <a:ext cx="918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predict effect of future changes in global environment on crop productivity, competitive interactions among species et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need to know the extent to which plants could reduce future increases in elevated atmospheric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global carbon cycles(2)"/>
          <p:cNvPicPr/>
          <p:nvPr/>
        </p:nvPicPr>
        <p:blipFill>
          <a:blip r:embed="rId1"/>
          <a:stretch/>
        </p:blipFill>
        <p:spPr>
          <a:xfrm>
            <a:off x="1371600" y="984240"/>
            <a:ext cx="7238880" cy="58737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3505320" y="984240"/>
            <a:ext cx="106668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hoto-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648320" y="907920"/>
            <a:ext cx="9903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lant respi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2514600" y="3956040"/>
            <a:ext cx="1676520" cy="1676520"/>
          </a:xfrm>
          <a:prstGeom prst="ellipse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0" y="304920"/>
            <a:ext cx="9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Global atmospheric CO</a:t>
            </a:r>
            <a:r>
              <a:rPr b="1" lang="en-GB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 concentrations: importance of pla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nvironmental Plant Physiology &amp; 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olecular B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45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utants/transgenics may allow a rigorous test of hypothes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e.g. transgenic tobacco plants to assess importance of Rubisco (CO</a:t>
            </a:r>
            <a:r>
              <a:rPr b="0" lang="en-GB" sz="2800" spc="-1" strike="noStrike" baseline="-25000">
                <a:solidFill>
                  <a:srgbClr val="0066ff"/>
                </a:solidFill>
                <a:latin typeface="Tahoma"/>
              </a:rPr>
              <a:t>2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 fixing enzyme in plants) for plant grow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5" descr=""/>
          <p:cNvPicPr/>
          <p:nvPr/>
        </p:nvPicPr>
        <p:blipFill>
          <a:blip r:embed="rId1"/>
          <a:stretch/>
        </p:blipFill>
        <p:spPr>
          <a:xfrm>
            <a:off x="5638680" y="3581280"/>
            <a:ext cx="3581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762120" y="228600"/>
            <a:ext cx="8648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hy so few plant species in one plac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18120" y="457200"/>
            <a:ext cx="4788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Intro Fig"/>
          <p:cNvPicPr/>
          <p:nvPr/>
        </p:nvPicPr>
        <p:blipFill>
          <a:blip r:embed="rId1"/>
          <a:stretch/>
        </p:blipFill>
        <p:spPr>
          <a:xfrm>
            <a:off x="0" y="1447920"/>
            <a:ext cx="4548240" cy="5410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18120" y="1752480"/>
            <a:ext cx="454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species do not occur in the UK, because they were never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arrived, but never made it to mat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evolved locally, or were introduced and ‘made it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s are constantly changing/interac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228240"/>
            <a:ext cx="899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Response of plants to their environment: 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im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41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scale of physiological response is important in determining how a plant copes with changes in the environ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 short- and long-term changes in temperat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ss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limation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ation/evolution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Stress and acclim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of an individual) vs.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adapt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 long-term genetic respon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Intro Fig"/>
          <p:cNvPicPr/>
          <p:nvPr/>
        </p:nvPicPr>
        <p:blipFill>
          <a:blip r:embed="rId1"/>
          <a:stretch/>
        </p:blipFill>
        <p:spPr>
          <a:xfrm>
            <a:off x="165240" y="2038320"/>
            <a:ext cx="9493200" cy="4286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99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verview of le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Environmental Plant Phys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se of plants to their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t growth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tosynthesis; mostly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l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CAM pl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i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, drought and plant grow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daptation of plants to growth on the sea flo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Recommended tex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lvl="1" marL="534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675"/>
              </a:spcBef>
              <a:buClr>
                <a:srgbClr val="86868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Lambers, Chapin &amp; Pons (1998) </a:t>
            </a:r>
            <a:r>
              <a:rPr b="0" i="1" lang="en-GB" sz="2700" spc="-1" strike="noStrike">
                <a:solidFill>
                  <a:srgbClr val="000000"/>
                </a:solidFill>
                <a:latin typeface="Arial"/>
              </a:rPr>
              <a:t>Plant Physiological Ecology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675"/>
              </a:spcBef>
              <a:buClr>
                <a:srgbClr val="86868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Atwell, Kreidemann &amp; Turnbull (1999)  </a:t>
            </a:r>
            <a:r>
              <a:rPr b="0" i="1" lang="en-GB" sz="2700" spc="-1" strike="noStrike">
                <a:solidFill>
                  <a:srgbClr val="000000"/>
                </a:solidFill>
                <a:latin typeface="Arial"/>
              </a:rPr>
              <a:t>Plants in Action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675"/>
              </a:spcBef>
              <a:buClr>
                <a:srgbClr val="86868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Fitter &amp; Hay (1987)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2700" spc="-1" strike="noStrike">
                <a:solidFill>
                  <a:srgbClr val="000000"/>
                </a:solidFill>
                <a:latin typeface="Arial"/>
              </a:rPr>
              <a:t>nvironmental Physiology of Plants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675"/>
              </a:spcBef>
              <a:buClr>
                <a:srgbClr val="86868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Larcher (1995) </a:t>
            </a:r>
            <a:br>
              <a:rPr sz="2700"/>
            </a:br>
            <a:r>
              <a:rPr b="0" i="1" lang="en-GB" sz="2700" spc="-1" strike="noStrike">
                <a:solidFill>
                  <a:srgbClr val="000000"/>
                </a:solidFill>
                <a:latin typeface="Arial"/>
              </a:rPr>
              <a:t>Physiological Plant Ecology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649"/>
              </a:spcBef>
              <a:buClr>
                <a:srgbClr val="86868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aiz &amp; Zeiger (1991)</a:t>
            </a:r>
            <a:br>
              <a:rPr sz="2700"/>
            </a:br>
            <a:r>
              <a:rPr b="0" i="1" lang="en-GB" sz="2700" spc="-1" strike="noStrike">
                <a:solidFill>
                  <a:srgbClr val="000000"/>
                </a:solidFill>
                <a:latin typeface="Arial"/>
              </a:rPr>
              <a:t>Plant Physiology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book cover"/>
          <p:cNvPicPr/>
          <p:nvPr/>
        </p:nvPicPr>
        <p:blipFill>
          <a:blip r:embed="rId1"/>
          <a:stretch/>
        </p:blipFill>
        <p:spPr>
          <a:xfrm>
            <a:off x="6248520" y="1600200"/>
            <a:ext cx="326052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9880" y="1026720"/>
            <a:ext cx="899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ecture 1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2362320"/>
            <a:ext cx="899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Physiological Ec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eciate dynamic nature of the plant/environment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familiar with variations in environmental conditions between and within habi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ce of time scales in determining response of plants to their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95000" y="2057400"/>
            <a:ext cx="941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Plants: static or dynami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844960" cy="6019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2860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Visually stunn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95360" y="2057400"/>
            <a:ext cx="902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Their structures respond to changes in environment (e.g. sha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95360" y="2057400"/>
            <a:ext cx="902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heir metabolism is constantly changing response to large variations in environ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3T14:32:14Z</dcterms:created>
  <dc:creator>Owen Atkin</dc:creator>
  <dc:description/>
  <dc:language>en-US</dc:language>
  <cp:lastModifiedBy>user</cp:lastModifiedBy>
  <cp:lastPrinted>2001-05-02T12:47:56Z</cp:lastPrinted>
  <dcterms:modified xsi:type="dcterms:W3CDTF">2012-02-05T13:13:34Z</dcterms:modified>
  <cp:revision>351</cp:revision>
  <dc:subject/>
  <dc:title>Ecology 1 Physiological Ecology of Plants</dc:title>
</cp:coreProperties>
</file>