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image14.jpeg" ContentType="image/jpeg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3.png" ContentType="image/pn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1B99-32A4-41EB-86DA-73ACE95385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5750-3F3F-4183-AB5C-20D82711208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0448-DD86-4CE0-81D8-ECC07949C95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A4FA-033B-4AFA-85FA-7C783985977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6300-85A6-46E8-A3DD-6CA0FE51173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3E8C-360B-427E-98CA-D21E5B1F245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A0A2-1039-4D15-BBC2-A9F714DB709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4BDF-859E-4A7E-9C9A-D128C2398EB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E03F-1FE6-47CD-9FF7-D3FBFEEB5DE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46D2-945C-4CA7-BDBF-B9800DD7F86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D3E8-96A6-4A43-82F5-32261040A20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6CEE-9C06-4890-B022-0FDE39D6E70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09480" y="434340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. 3.  Lambers et al. 1998.  Plant Physiological Ecology, Spring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ress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curs over seconds, minutes, hours and days.  Will reduce the performance of th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cclimation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phological and physiological adjustments that occur in individual plants to compensate for the decline in performance.  Can result in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omeostatic adjustm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daptation/evolutionary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s from genetic changes in a population of a plant species, leading to morphological and physiological compensation for the decline in performance caused by st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Not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Not all genetic differences among populations reflect adaptation.  Plants may differ genetically because their ancestral species or populations were genetically distinct before they arrived in a particular habitat.  Also, not all traits exhibited by a species are necessarily beneficial or that they resulted from natural selection in thei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3DF6-8AA2-4D00-AD2F-7717F4AF149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EEE3-0753-4E0B-A9DF-A7855133C0F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364F-27F0-43A5-B131-E9D4707C2F6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C0E8-56CF-43C5-BFE8-DDD798401F9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E9A6-1F9F-4E5D-9DEF-1D87CA91C6C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3258-41D9-4C33-A6D7-B1FF3535BAE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E97F-0CE9-4236-9A26-BE527CB432A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02A2-5878-44BE-A3AA-B086C716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80CE-A7D7-4070-AB16-1BFC834D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FB2C-E00E-4967-9140-CBA01A05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796E-6E25-400D-83B6-688B5510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ED82-371E-452C-BCCC-5ED80CD6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6C6C-1FFA-4A18-826A-7A2D4C82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9DFE-7FDC-4C98-9D24-94BC95D0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E2DC-0EAA-479F-B4D1-D0459502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B7D3-33FE-46F1-84F1-84BDA540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560" y="228240"/>
            <a:ext cx="8420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C6EF-8341-42D8-8C6E-7880A345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57F1-FF04-4693-97D2-0E565162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5ABA-90C6-48B7-B469-77BD1036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6FBD-71E0-4863-BD0B-65C977E3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5077-8BE8-4245-B1D7-5C827B15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FE63-35D3-4846-BD02-F3BE2B65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A99F-CB72-4B3C-808B-96E556E2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C2D5-DD48-402A-9BD1-1EABC1A2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CC4D-0989-4045-A878-0F00A30B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FF4C-0676-4CB3-9366-0CD14C59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B48C-0CA9-412D-815F-C1B9DE0E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560" y="228240"/>
            <a:ext cx="8420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7F23-EE1C-495F-BC9F-BA323094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EF83-2D47-4993-BE15-0550C5A6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EFAA-7E1C-42D0-8204-C5F1F20B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5EC3-DF24-48BF-BD65-CDC87F4A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6868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686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2944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2944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Environmental Plant Physiology. University of Y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91440" y="622944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9393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597A-3441-4A5A-AC7E-08BC10CE1B87}" type="slidenum">
              <a:rPr b="0" lang="ar-SA" sz="1400" spc="-1" strike="noStrike">
                <a:solidFill>
                  <a:srgbClr val="393939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90720" y="1314360"/>
            <a:ext cx="89154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90720" y="1828800"/>
            <a:ext cx="89154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6868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686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Environmental Plant Physiology. University of Y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E08D-F0C8-4CE9-8C1D-D2F0B5AEF690}" type="slidenum">
              <a:rPr b="0" lang="ar-SA" sz="1400" spc="-1" strike="noStrike">
                <a:solidFill>
                  <a:srgbClr val="5e574e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8" descr="desert"/>
          <p:cNvPicPr/>
          <p:nvPr/>
        </p:nvPicPr>
        <p:blipFill>
          <a:blip r:embed="rId1"/>
          <a:stretch/>
        </p:blipFill>
        <p:spPr>
          <a:xfrm>
            <a:off x="5530680" y="4017960"/>
            <a:ext cx="4375440" cy="28400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929664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Biology 633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Environmental Plant Physi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rainforest QLD2"/>
          <p:cNvPicPr/>
          <p:nvPr/>
        </p:nvPicPr>
        <p:blipFill>
          <a:blip r:embed="rId2"/>
          <a:stretch/>
        </p:blipFill>
        <p:spPr>
          <a:xfrm>
            <a:off x="0" y="1905120"/>
            <a:ext cx="3121200" cy="4114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alpinetundra"/>
          <p:cNvPicPr/>
          <p:nvPr/>
        </p:nvPicPr>
        <p:blipFill>
          <a:blip r:embed="rId3"/>
          <a:stretch/>
        </p:blipFill>
        <p:spPr>
          <a:xfrm>
            <a:off x="3124080" y="2743200"/>
            <a:ext cx="4292640" cy="2738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9"/>
          <p:cNvSpPr/>
          <p:nvPr/>
        </p:nvSpPr>
        <p:spPr>
          <a:xfrm>
            <a:off x="360" y="533412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opical rainfore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4115160" y="297180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pine tundr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8004240" y="41148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534240" y="6172200"/>
            <a:ext cx="29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erfasi@yahoo.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413160" y="1946160"/>
            <a:ext cx="61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of how the environment affects the function of pla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304920"/>
            <a:ext cx="9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3300"/>
                </a:solidFill>
                <a:latin typeface="Arial"/>
              </a:rPr>
              <a:t>Temporal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variation in temperatu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9219960" cy="55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304920"/>
            <a:ext cx="9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3300"/>
                </a:solidFill>
                <a:latin typeface="Arial"/>
              </a:rPr>
              <a:t>……</a:t>
            </a:r>
            <a:r>
              <a:rPr b="1" i="1" lang="en-GB" sz="2800" spc="-1" strike="noStrike">
                <a:solidFill>
                  <a:srgbClr val="ff3300"/>
                </a:solidFill>
                <a:latin typeface="Arial"/>
              </a:rPr>
              <a:t>.and light intens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92504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-360" y="1371600"/>
            <a:ext cx="941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Global environment is also chan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e.g. greenhouse gases, temperature, 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  nutrients, UV-rad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co2"/>
          <p:cNvPicPr/>
          <p:nvPr/>
        </p:nvPicPr>
        <p:blipFill>
          <a:blip r:embed="rId1"/>
          <a:stretch/>
        </p:blipFill>
        <p:spPr>
          <a:xfrm>
            <a:off x="328680" y="152280"/>
            <a:ext cx="9577440" cy="6705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4802400" y="6338880"/>
            <a:ext cx="951840" cy="5205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 rot="16200000">
            <a:off x="-1876320" y="3018240"/>
            <a:ext cx="4803480" cy="4406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mospheric CO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oncentration (ppm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2723400" y="3925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999080" y="228600"/>
            <a:ext cx="68713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ising atmospheric 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concentr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523880" y="890640"/>
            <a:ext cx="6096240" cy="5967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-609480" y="304920"/>
            <a:ext cx="9905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……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.enormous flow of CO</a:t>
            </a:r>
            <a:r>
              <a:rPr b="1" lang="en-GB" sz="24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 in and out of lea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5713200" cy="62485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6400800" y="533520"/>
            <a:ext cx="3276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……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.and these are cells that remove CO</a:t>
            </a:r>
            <a:r>
              <a:rPr b="1" lang="en-GB" sz="24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 from the atmosphe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9525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What is Environmental Plant Physiology (EPP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941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y of how the environment affects the function of pl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s knowledge of biochemistry, physiology, anatomy and morphology of pl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causal, mechanistic explanations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cologic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66ff"/>
                </a:solidFill>
                <a:latin typeface="Tahoma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uch a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Why does a species live where it does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How does it survive, and why is tha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species absent from other 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4200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Ques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how do plants cope with excess light when it is very co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095880" y="2438280"/>
            <a:ext cx="342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e.g. avoid the morning su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3525840" cy="5257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5486400" y="3581280"/>
            <a:ext cx="3971880" cy="30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70588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Ques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how do plants cope with soils deficient in phosphorus?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e.g. grow cluster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H"/>
          <p:cNvPicPr/>
          <p:nvPr/>
        </p:nvPicPr>
        <p:blipFill>
          <a:blip r:embed="rId1"/>
          <a:stretch/>
        </p:blipFill>
        <p:spPr>
          <a:xfrm>
            <a:off x="4724280" y="2286000"/>
            <a:ext cx="4648320" cy="4272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"/>
          <p:cNvPicPr/>
          <p:nvPr/>
        </p:nvPicPr>
        <p:blipFill>
          <a:blip r:embed="rId2"/>
          <a:stretch/>
        </p:blipFill>
        <p:spPr>
          <a:xfrm>
            <a:off x="762120" y="2286000"/>
            <a:ext cx="31096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Ques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how do plants cope with excessive sal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6324480" y="3733920"/>
            <a:ext cx="2934000" cy="2238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5257800" cy="35244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8"/>
          <p:cNvSpPr/>
          <p:nvPr/>
        </p:nvSpPr>
        <p:spPr>
          <a:xfrm>
            <a:off x="6095880" y="2438280"/>
            <a:ext cx="342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e.g. sequester salt in salt bladde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99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Module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99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uss interplay between the genetic potential of plants and environments in which they gr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act of short-term changes in the environment on physiology, morphology and growth of pl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ess response, acclimation and adaptation of plants in response to changes in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 lectures and 4 practical se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Ques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how do plants manage to grow in deep shade?</a:t>
            </a:r>
            <a:br>
              <a:rPr sz="2800"/>
            </a:b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e.g. use light fl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sun flecks"/>
          <p:cNvPicPr/>
          <p:nvPr/>
        </p:nvPicPr>
        <p:blipFill>
          <a:blip r:embed="rId1"/>
          <a:stretch/>
        </p:blipFill>
        <p:spPr>
          <a:xfrm>
            <a:off x="990720" y="2057400"/>
            <a:ext cx="3138480" cy="434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4343400" y="2133720"/>
            <a:ext cx="5210280" cy="4257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000" y="22824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Environmental Plant Physiology &amp; 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Agriculture/Fore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000" y="1447920"/>
            <a:ext cx="941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PP is also closely linked to the study of plant performance in agricultu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ricultural production is limited in many countries by stresses such as drought, nutrient availability, salinity, tempera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to develop crops that are less sensitive to those stresses, so we can grow them in less favorable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ing required of the physiological mechanisms that enable plants to co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9372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Ques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what mechanisms enable the barley variety on the left cope better with manganese deficiency than the variety on the r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553080" cy="4900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22824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Environmental Plant Physiology &amp; 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Global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3960" y="1828800"/>
            <a:ext cx="9182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to predict effect of future changes in global environment on crop productivity, competitive interactions among species et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need to know the extent to which plants could reduce future increases in elevated atmospheric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global carbon cycles(2)"/>
          <p:cNvPicPr/>
          <p:nvPr/>
        </p:nvPicPr>
        <p:blipFill>
          <a:blip r:embed="rId1"/>
          <a:stretch/>
        </p:blipFill>
        <p:spPr>
          <a:xfrm>
            <a:off x="1371600" y="984240"/>
            <a:ext cx="7238880" cy="58737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3505320" y="984240"/>
            <a:ext cx="1066680" cy="4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Photo-</a:t>
            </a:r>
            <a:br>
              <a:rPr sz="1200"/>
            </a:b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648320" y="907920"/>
            <a:ext cx="990360" cy="4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Plant respi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5"/>
          <p:cNvSpPr/>
          <p:nvPr/>
        </p:nvSpPr>
        <p:spPr>
          <a:xfrm>
            <a:off x="2514600" y="3956040"/>
            <a:ext cx="1676520" cy="1676520"/>
          </a:xfrm>
          <a:prstGeom prst="ellipse">
            <a:avLst/>
          </a:pr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0" y="304920"/>
            <a:ext cx="990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Global atmospheric CO</a:t>
            </a:r>
            <a:r>
              <a:rPr b="1" lang="en-GB" sz="24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 concentrations: importance of pla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Environmental Plant Physiology &amp; 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Molecular Bi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457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utants/transgenics may allow a rigorous test of hypothes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e.g. transgenic tobacco plants to assess importance of Rubisco (CO</a:t>
            </a:r>
            <a:r>
              <a:rPr b="0" lang="en-GB" sz="2800" spc="-1" strike="noStrike" baseline="-25000">
                <a:solidFill>
                  <a:srgbClr val="0066ff"/>
                </a:solidFill>
                <a:latin typeface="Tahoma"/>
              </a:rPr>
              <a:t>2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 fixing enzyme in plants) for plant grow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15" descr=""/>
          <p:cNvPicPr/>
          <p:nvPr/>
        </p:nvPicPr>
        <p:blipFill>
          <a:blip r:embed="rId1"/>
          <a:stretch/>
        </p:blipFill>
        <p:spPr>
          <a:xfrm>
            <a:off x="5638680" y="3581280"/>
            <a:ext cx="35816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762120" y="228600"/>
            <a:ext cx="8648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Why so few plant species in one place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118120" y="457200"/>
            <a:ext cx="478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Intro Fig"/>
          <p:cNvPicPr/>
          <p:nvPr/>
        </p:nvPicPr>
        <p:blipFill>
          <a:blip r:embed="rId1"/>
          <a:stretch/>
        </p:blipFill>
        <p:spPr>
          <a:xfrm>
            <a:off x="0" y="1447920"/>
            <a:ext cx="4548240" cy="54100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18120" y="1752480"/>
            <a:ext cx="4540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species do not occur in the UK, because they were never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arrived, but never made it to mat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evolved locally, or were introduced and ‘made it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ters are constantly changing/interac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228240"/>
            <a:ext cx="899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Response of plants to their environment: 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im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941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scale of physiological response is important in determining how a plant copes with changes in the environm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 short- and long-term changes in temperatu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ess respon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limation respon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ation/evolution respon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Stress and acclim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of an individual) vs.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adapt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a long-term genetic respon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Intro Fig"/>
          <p:cNvPicPr/>
          <p:nvPr/>
        </p:nvPicPr>
        <p:blipFill>
          <a:blip r:embed="rId1"/>
          <a:stretch/>
        </p:blipFill>
        <p:spPr>
          <a:xfrm>
            <a:off x="165240" y="2038320"/>
            <a:ext cx="9493200" cy="4286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99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Overview of le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 to Environmental Plant Physi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se of plants to their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t growth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otosynthesis; mostly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l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CAM pl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i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, drought and plant grow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daptation of plants to growth on the sea flo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Recommended tex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60958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lvl="1" marL="534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46960" indent="-246960">
              <a:lnSpc>
                <a:spcPct val="100000"/>
              </a:lnSpc>
              <a:spcBef>
                <a:spcPts val="675"/>
              </a:spcBef>
              <a:buClr>
                <a:srgbClr val="86868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Lambers, Chapin &amp; Pons (1998) </a:t>
            </a:r>
            <a:r>
              <a:rPr b="0" i="1" lang="en-GB" sz="2700" spc="-1" strike="noStrike">
                <a:solidFill>
                  <a:srgbClr val="000000"/>
                </a:solidFill>
                <a:latin typeface="Arial"/>
              </a:rPr>
              <a:t>Plant Physiological Ecology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46960" indent="-246960">
              <a:lnSpc>
                <a:spcPct val="100000"/>
              </a:lnSpc>
              <a:spcBef>
                <a:spcPts val="675"/>
              </a:spcBef>
              <a:buClr>
                <a:srgbClr val="86868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Atwell, Kreidemann &amp; Turnbull (1999)  </a:t>
            </a:r>
            <a:r>
              <a:rPr b="0" i="1" lang="en-GB" sz="2700" spc="-1" strike="noStrike">
                <a:solidFill>
                  <a:srgbClr val="000000"/>
                </a:solidFill>
                <a:latin typeface="Arial"/>
              </a:rPr>
              <a:t>Plants in Action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46960" indent="-246960">
              <a:lnSpc>
                <a:spcPct val="100000"/>
              </a:lnSpc>
              <a:spcBef>
                <a:spcPts val="675"/>
              </a:spcBef>
              <a:buClr>
                <a:srgbClr val="86868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Fitter &amp; Hay (1987)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GB" sz="2700" spc="-1" strike="noStrike">
                <a:solidFill>
                  <a:srgbClr val="000000"/>
                </a:solidFill>
                <a:latin typeface="Arial"/>
              </a:rPr>
              <a:t>nvironmental Physiology of Plants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46960" indent="-246960">
              <a:lnSpc>
                <a:spcPct val="100000"/>
              </a:lnSpc>
              <a:spcBef>
                <a:spcPts val="675"/>
              </a:spcBef>
              <a:buClr>
                <a:srgbClr val="86868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Larcher (1995) </a:t>
            </a:r>
            <a:br>
              <a:rPr sz="2700"/>
            </a:br>
            <a:r>
              <a:rPr b="0" i="1" lang="en-GB" sz="2700" spc="-1" strike="noStrike">
                <a:solidFill>
                  <a:srgbClr val="000000"/>
                </a:solidFill>
                <a:latin typeface="Arial"/>
              </a:rPr>
              <a:t>Physiological Plant Ecology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46960" indent="-246960">
              <a:lnSpc>
                <a:spcPct val="100000"/>
              </a:lnSpc>
              <a:spcBef>
                <a:spcPts val="649"/>
              </a:spcBef>
              <a:buClr>
                <a:srgbClr val="86868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Taiz &amp; Zeiger (1991)</a:t>
            </a:r>
            <a:br>
              <a:rPr sz="2700"/>
            </a:br>
            <a:r>
              <a:rPr b="0" i="1" lang="en-GB" sz="2700" spc="-1" strike="noStrike">
                <a:solidFill>
                  <a:srgbClr val="000000"/>
                </a:solidFill>
                <a:latin typeface="Arial"/>
              </a:rPr>
              <a:t>Plant Physiology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book cover"/>
          <p:cNvPicPr/>
          <p:nvPr/>
        </p:nvPicPr>
        <p:blipFill>
          <a:blip r:embed="rId1"/>
          <a:stretch/>
        </p:blipFill>
        <p:spPr>
          <a:xfrm>
            <a:off x="6248520" y="1600200"/>
            <a:ext cx="326052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9880" y="1026720"/>
            <a:ext cx="899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Lecture 1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9880" y="2362320"/>
            <a:ext cx="899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Physiological Ec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reciate dynamic nature of the plant/environment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familiar with variations in environmental conditions between and within habi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rtance of time scales in determining response of plants to their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95000" y="2057400"/>
            <a:ext cx="941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Plants: static or dynamic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5844960" cy="60195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22860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Visually stunn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95360" y="2057400"/>
            <a:ext cx="9029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Their structures respond to changes in environment (e.g. sha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95360" y="2057400"/>
            <a:ext cx="9029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Their metabolism is constantly changing response to large variations in environ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3T14:32:14Z</dcterms:created>
  <dc:creator>Owen Atkin</dc:creator>
  <dc:description/>
  <dc:language>en-US</dc:language>
  <cp:lastModifiedBy>user</cp:lastModifiedBy>
  <cp:lastPrinted>2001-05-02T12:47:56Z</cp:lastPrinted>
  <dcterms:modified xsi:type="dcterms:W3CDTF">2012-02-05T13:13:34Z</dcterms:modified>
  <cp:revision>351</cp:revision>
  <dc:subject/>
  <dc:title>Ecology 1 Physiological Ecology of Plants</dc:title>
</cp:coreProperties>
</file>