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CA1-BA3E-4F9B-9C54-232EB2B0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CE0-33FC-497C-8366-CBCEC3CF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C8D-F6F9-48DF-BBCA-690C7858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B9C-B465-4C4B-8D25-0905CC1C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12359-4E46-4602-B9A6-FF9296B5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FC3E0-D739-4128-A01B-CCCA3673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27DB0-DE7F-464C-8C9C-D6750D98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C312F-4BB4-46C3-99C3-DE7BB055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285B0-7F5B-4620-8F91-3377BF0D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58664-D37B-454E-83DD-5E5251C7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98529-DA6D-4D52-B489-799FE13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617-ACDC-43A3-892A-1113D1D6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A09DE-A535-4827-8E58-8357D252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25F21-E126-4039-85DC-3C125DDB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8FA3D-FC05-446D-B746-70EBFC18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5389F-89EC-45F2-BD1C-027AEE64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885A7-C1ED-4C26-8F7B-648BA87B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0FE-24D3-479D-A25E-579B3134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AF6-88CA-4D8B-8A81-F42F186B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F2F-F2C5-490A-806E-CCE01878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D15-EB93-43B7-8B98-D310EB9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C23-7174-4605-8885-E84F029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3C0-0723-4D5E-A047-C37377B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DC8-3156-41E7-8263-E925DEC8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09D4-142E-4B2A-BC76-C14241C8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47E6-9ADC-4B1D-8F07-EA2A5A00F3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9" descr="world.gif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eory of plate tecton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ith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stheno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nnection between the tw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types of pl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Plate Boundarie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Divergen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y between two plates that are moving apart o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f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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FT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ause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EAFLOOR SPRE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Features of Divergent Boundarie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id-ocean rid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ift valle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issure volcano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id-Atlantic Ridge gif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opomap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Fig16"/>
          <p:cNvPicPr/>
          <p:nvPr/>
        </p:nvPicPr>
        <p:blipFill>
          <a:blip r:embed="rId1"/>
          <a:stretch/>
        </p:blipFill>
        <p:spPr>
          <a:xfrm>
            <a:off x="1295280" y="0"/>
            <a:ext cx="66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nvergen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ies between two plates that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li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60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3 typ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 less dens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where the less dense plate slides under the more dense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OLCANO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ccur at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Fig21oceancont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ory of Plate Tectoni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 Bounda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 of Plate Tecton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Nazca-SoAm plates gif"/>
          <p:cNvPicPr/>
          <p:nvPr/>
        </p:nvPicPr>
        <p:blipFill>
          <a:blip r:embed="rId1"/>
          <a:stretch/>
        </p:blipFill>
        <p:spPr>
          <a:xfrm>
            <a:off x="0" y="1452600"/>
            <a:ext cx="9144000" cy="54054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ndes Mountains,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uth Americ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noth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cean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ess dense plate slides under the more dense plate creating 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ubduction zone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led 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E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Fig21oceanocean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Aleutian Trench; Artemis Corona gif"/>
          <p:cNvPicPr/>
          <p:nvPr/>
        </p:nvPicPr>
        <p:blipFill>
          <a:blip r:embed="rId1"/>
          <a:srcRect l="0" t="0" r="0" b="52604"/>
          <a:stretch/>
        </p:blipFill>
        <p:spPr>
          <a:xfrm>
            <a:off x="0" y="936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0604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leutian Islands, Alask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ype 3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lliding with anoth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tinental 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ave Collision Zon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lace where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old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rust faulted mountai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Fig21contcont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Fig24tibet"/>
          <p:cNvPicPr/>
          <p:nvPr/>
        </p:nvPicPr>
        <p:blipFill>
          <a:blip r:embed="rId1"/>
          <a:stretch/>
        </p:blipFill>
        <p:spPr>
          <a:xfrm>
            <a:off x="1523880" y="0"/>
            <a:ext cx="61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ransform Fault Boundar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undary between two plates that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lid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ast each 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THQUAKE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ong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Fig25"/>
          <p:cNvPicPr/>
          <p:nvPr/>
        </p:nvPicPr>
        <p:blipFill>
          <a:blip r:embed="rId1"/>
          <a:stretch/>
        </p:blipFill>
        <p:spPr>
          <a:xfrm>
            <a:off x="1828800" y="0"/>
            <a:ext cx="506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an Andreas fault gif"/>
          <p:cNvPicPr/>
          <p:nvPr/>
        </p:nvPicPr>
        <p:blipFill>
          <a:blip r:embed="rId1"/>
          <a:stretch/>
        </p:blipFill>
        <p:spPr>
          <a:xfrm>
            <a:off x="2209680" y="1219320"/>
            <a:ext cx="4686480" cy="5638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an Andreas Fault, 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Plate Tectonic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types of bound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o plates go for 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undary has a subduction zone…what occurs at a subduction z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Causes of Plate </a:t>
            </a:r>
            <a:br>
              <a:rPr sz="6000"/>
            </a:b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Tectonic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nvection Curren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t magm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n the Earth moves toward the surface, cools, then sinks agai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e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vec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urre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neath the plates that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use the plates to mo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Fig32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70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.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uses plates to m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is a convection current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Plate Tectoni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arth’s crust and upper mantle are broken into sections called pl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tes move around on top of the mantle like raf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EFPlateP1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the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rust and part of the upper mantle =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km thick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dense than the material below it so it “float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hat is the 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Asthenoshere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stic layer below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then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tes of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hospher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loat on the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then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Fi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 Types of P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cean pla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plates below the oce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inental pla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- plates below the conti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9:28:33Z</dcterms:created>
  <dc:creator>Nicolas V. Bates</dc:creator>
  <dc:description/>
  <dc:language>en-US</dc:language>
  <cp:lastModifiedBy>Dell</cp:lastModifiedBy>
  <dcterms:modified xsi:type="dcterms:W3CDTF">2011-10-09T17:04:18Z</dcterms:modified>
  <cp:revision>18</cp:revision>
  <dc:subject/>
  <dc:title>Theory of Plate Tecton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