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167-70D1-4738-B3E4-2F24AD94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BDF-52B8-44F5-A37F-4CC0EE5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146-B71C-4F0F-B29B-0222602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6A7-BE37-4F52-A5EC-241B357E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B1B08-ADDC-4645-8BF1-DE8300A3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F5727-D51D-4D34-87EF-BBF8087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DB9C0-EB88-443C-90D5-B094B2E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4D6C-F313-4046-9387-FF9CEF2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03B5-8BA7-4D05-BA52-32576D3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97709-8E5E-46C6-BE40-D43FDC7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809F-F37A-4542-9E7C-A653E14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A69-040E-4910-802B-1EA465F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C70CD-FE87-4A76-B34A-12CA17E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4652E-82BC-4494-8C8E-161ABF4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77CEF-E827-4193-9F5D-03611E4A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3C89-7A0C-4462-A4C9-6C3E0A3D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49EE1-6798-4145-B7FD-46F1276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B5B-D636-4920-A38E-D795DF7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544-CEDB-4080-9A95-10159437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411-F71B-4663-AEAC-A40C7DBA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D65-326B-4305-83DE-F217967A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B3C-5DE0-4C82-8BF7-5FDFFD2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852-5105-43ED-A5AC-366A5D6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7C6-9CB8-4704-A61B-F53AAC9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196D-289F-438A-B521-809D00C02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D77-47DE-4B7E-BE9E-2C2C03D4A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world.gif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eory of plate tecton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th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hen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nnection between the tw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types of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moving apart 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FT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aus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FLOOR SP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Features of Divergent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-ocean rid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 vall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ssure volcan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id-Atlantic Ridge 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opomap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Fig16"/>
          <p:cNvPicPr/>
          <p:nvPr/>
        </p:nvPicPr>
        <p:blipFill>
          <a:blip r:embed="rId1"/>
          <a:stretch/>
        </p:blipFill>
        <p:spPr>
          <a:xfrm>
            <a:off x="1295280" y="0"/>
            <a:ext cx="66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ies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i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3 typ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 less dens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where the less dense plate slides under the more dense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ccur 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Fig21oceancont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ory of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Bound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Nazca-SoAm plates gif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ndes Mountains,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uth Americ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ess dense plate slides under the more dense plate creating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Fig21oceanocean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Aleutian Trench; Artemis Corona gif"/>
          <p:cNvPicPr/>
          <p:nvPr/>
        </p:nvPicPr>
        <p:blipFill>
          <a:blip r:embed="rId1"/>
          <a:srcRect l="0" t="0" r="0" b="52604"/>
          <a:stretch/>
        </p:blipFill>
        <p:spPr>
          <a:xfrm>
            <a:off x="0" y="93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604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eutian Islands, Alask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ve Collision Zon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ce wher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ld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rust faulted mountai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Fig21contcont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Fig24tibet"/>
          <p:cNvPicPr/>
          <p:nvPr/>
        </p:nvPicPr>
        <p:blipFill>
          <a:blip r:embed="rId1"/>
          <a:stretch/>
        </p:blipFill>
        <p:spPr>
          <a:xfrm>
            <a:off x="1523880" y="0"/>
            <a:ext cx="61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form Faul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ast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Fig25"/>
          <p:cNvPicPr/>
          <p:nvPr/>
        </p:nvPicPr>
        <p:blipFill>
          <a:blip r:embed="rId1"/>
          <a:stretch/>
        </p:blipFill>
        <p:spPr>
          <a:xfrm>
            <a:off x="1828800" y="0"/>
            <a:ext cx="506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an Andreas fault gif"/>
          <p:cNvPicPr/>
          <p:nvPr/>
        </p:nvPicPr>
        <p:blipFill>
          <a:blip r:embed="rId1"/>
          <a:stretch/>
        </p:blipFill>
        <p:spPr>
          <a:xfrm>
            <a:off x="2209680" y="1219320"/>
            <a:ext cx="4686480" cy="563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an Andreas Fault, 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types of bound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 plates go for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undary has a subduction zone…what occurs at a subduction 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uses of Plate 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ction Curren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 mag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 the Earth moves toward the surface, cools, then sinks ag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vec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rr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neath the plates th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use the plates to mo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Fig32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uses plates to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a convection current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arth’s crust and upper mantle are broken into sections called 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s move around on top of the mantle like raf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EFPlateP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rust and part of the upper mantle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km thic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dense than the material below it so it “floa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sthenos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stic layer below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tes of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loat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F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Types of P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oce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ental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conti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8:33Z</dcterms:created>
  <dc:creator>Nicolas V. Bates</dc:creator>
  <dc:description/>
  <dc:language>en-US</dc:language>
  <cp:lastModifiedBy>Dell</cp:lastModifiedBy>
  <dcterms:modified xsi:type="dcterms:W3CDTF">2011-10-09T17:04:18Z</dcterms:modified>
  <cp:revision>18</cp:revision>
  <dc:subject/>
  <dc:title>Theory of Plate Tecton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