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824-59EE-4081-97BD-97F197E9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44B-0C26-420C-AC1B-CDE273F0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E6F-4C42-40D4-B601-87F57A34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0F0-2D92-4721-9F43-A51CBFC7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8F4DE-CE48-4FF5-991E-A816F900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29A25-B219-42B2-92E4-0C17D6E7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C612-7471-48E3-A1F0-D03CF2D0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FD10A-AF35-442A-95D6-5A00B5ED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FB5F6-F887-4BA5-B1CF-0657878B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B9B7-18C8-486A-80F5-7DE0264A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EB62-AAF5-4AEE-86DA-E630F3DC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2FB-EC19-482C-86F3-B201E48A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4D55-0D92-40FC-89B3-075DF70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64E75-0B50-42CF-8FBB-E8772D61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44C19-5C0B-49F5-B56E-BE2F116F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525C6-24D6-4EFF-890B-278C0E0F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FF198-F204-44BA-93E6-8DED1354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15D-2BCB-437C-BFAD-88D4462C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5F2-01AB-46F9-9FD4-E544818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B07-5E42-47BE-B984-016E286B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2D9-14F2-476F-A856-52C9698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3E2-37C2-4DE1-AEB3-25C82E4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3ED-7BCB-4390-881A-8D2F788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C11-3039-4394-969C-ECC2D12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F6E1-BE54-4D9D-B6B9-C2C6848A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C342-0F46-4C17-A38A-55239D82E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world.gif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eory of plate tecton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th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hen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nnection between the tw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types of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moving apart 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FT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aus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FLOOR SP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Features of Divergent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-ocean rid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 vall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ssure volcan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id-Atlantic Ridge 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opomap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Fig16"/>
          <p:cNvPicPr/>
          <p:nvPr/>
        </p:nvPicPr>
        <p:blipFill>
          <a:blip r:embed="rId1"/>
          <a:stretch/>
        </p:blipFill>
        <p:spPr>
          <a:xfrm>
            <a:off x="1295280" y="0"/>
            <a:ext cx="66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ies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i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3 typ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 less dens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where the less dense plate slides under the more dense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ccur 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Fig21oceancont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ory of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Bound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Nazca-SoAm plates gif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ndes Mountains,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uth Americ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ess dense plate slides under the more dense plate creating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Fig21oceanocean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Aleutian Trench; Artemis Corona gif"/>
          <p:cNvPicPr/>
          <p:nvPr/>
        </p:nvPicPr>
        <p:blipFill>
          <a:blip r:embed="rId1"/>
          <a:srcRect l="0" t="0" r="0" b="52604"/>
          <a:stretch/>
        </p:blipFill>
        <p:spPr>
          <a:xfrm>
            <a:off x="0" y="93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604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eutian Islands, Alask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ve Collision Zon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ce wher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ld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rust faulted mountai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Fig21contcont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Fig24tibet"/>
          <p:cNvPicPr/>
          <p:nvPr/>
        </p:nvPicPr>
        <p:blipFill>
          <a:blip r:embed="rId1"/>
          <a:stretch/>
        </p:blipFill>
        <p:spPr>
          <a:xfrm>
            <a:off x="1523880" y="0"/>
            <a:ext cx="61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form Faul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ast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Fig25"/>
          <p:cNvPicPr/>
          <p:nvPr/>
        </p:nvPicPr>
        <p:blipFill>
          <a:blip r:embed="rId1"/>
          <a:stretch/>
        </p:blipFill>
        <p:spPr>
          <a:xfrm>
            <a:off x="1828800" y="0"/>
            <a:ext cx="506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an Andreas fault gif"/>
          <p:cNvPicPr/>
          <p:nvPr/>
        </p:nvPicPr>
        <p:blipFill>
          <a:blip r:embed="rId1"/>
          <a:stretch/>
        </p:blipFill>
        <p:spPr>
          <a:xfrm>
            <a:off x="2209680" y="1219320"/>
            <a:ext cx="4686480" cy="563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an Andreas Fault, 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types of bound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 plates go for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undary has a subduction zone…what occurs at a subduction 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uses of Plate 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ction Curren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 mag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 the Earth moves toward the surface, cools, then sinks ag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vec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rr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neath the plates th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use the plates to mo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Fig32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uses plates to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a convection current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arth’s crust and upper mantle are broken into sections called 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s move around on top of the mantle like raf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EFPlateP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rust and part of the upper mantle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km thic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dense than the material below it so it “floa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sthenos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stic layer below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tes of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loat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F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Types of P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oce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ental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conti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8:33Z</dcterms:created>
  <dc:creator>Nicolas V. Bates</dc:creator>
  <dc:description/>
  <dc:language>en-US</dc:language>
  <cp:lastModifiedBy>Dell</cp:lastModifiedBy>
  <dcterms:modified xsi:type="dcterms:W3CDTF">2011-10-09T17:04:18Z</dcterms:modified>
  <cp:revision>18</cp:revision>
  <dc:subject/>
  <dc:title>Theory of Plate Tecton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