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46C-5269-4D59-AD50-C1D2CB4B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E78-698D-4A7E-8317-3A8CA086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A0D-67AF-4E82-BA38-FC05244D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277-3681-433B-B1CC-1E92BAA2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66F32-3D67-4A48-BE26-51754CD2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BEDAC-6F2C-442E-BEEF-2544C3A4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53892-8B7B-447B-A8D1-8BAFDD80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29D5-8254-421A-A369-522A27FC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7BB96-E4F0-4624-8E05-18B29FC4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A767E-B639-4B7B-9201-0EF25043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91637-3527-40AA-B84D-95034CB1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95A-6280-4852-86F8-FCA46B2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6F4B5-8623-4304-9652-D69314D2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4FDA6-E7D3-4CD7-A33F-4EF5A233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890B1-34B6-446C-8908-8AF2E0EA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BE9F3-DA46-45BA-8A6E-1567A024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2F98B-D67C-4926-BDFE-31C4EE3C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E40-5479-4E45-B197-29DAB54C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160-053B-4908-B322-610DEC42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E95-EC90-431D-8545-4FE2BDDC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CD2-9E1F-4B28-A1AE-F077B8F1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95C-3039-4AEB-84F8-EDA7DA6A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EB2-AB07-484B-8CD1-044A0CCB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0BD-5EA3-4EBA-BEEF-8EC7313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BCAB-466D-44A5-9E3A-652F6AA9C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6115-BC21-447C-8F63-DAB33398D1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world.gif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eory of plate tecton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ith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sthen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nnection between the tw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types of pl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Plate Boundarie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Divergen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y between two plates that are moving apart o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f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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FT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ause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FLOOR SPR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Features of Divergent Boundarie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d-ocean rid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ft valle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ssure volcan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id-Atlantic Ridge 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opomap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Fig16"/>
          <p:cNvPicPr/>
          <p:nvPr/>
        </p:nvPicPr>
        <p:blipFill>
          <a:blip r:embed="rId1"/>
          <a:stretch/>
        </p:blipFill>
        <p:spPr>
          <a:xfrm>
            <a:off x="1295280" y="0"/>
            <a:ext cx="66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nvergen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ies between two plates that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li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3 typ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 less dens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where the less dense plate slides under the more dense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LCAN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ccur at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Fig21oceancont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ory of Plate Tectoni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 Bounda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 of Plate Tecton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Nazca-SoAm plates gif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ndes Mountains,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uth Americ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noth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ess dense plate slides under the more dense plate creating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led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E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Fig21oceanocean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Aleutian Trench; Artemis Corona gif"/>
          <p:cNvPicPr/>
          <p:nvPr/>
        </p:nvPicPr>
        <p:blipFill>
          <a:blip r:embed="rId1"/>
          <a:srcRect l="0" t="0" r="0" b="52604"/>
          <a:stretch/>
        </p:blipFill>
        <p:spPr>
          <a:xfrm>
            <a:off x="0" y="936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604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leutian Islands, Alask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3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noth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ave Collision Zon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lace wher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old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rust faulted mountai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Fig21contcont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Fig24tibet"/>
          <p:cNvPicPr/>
          <p:nvPr/>
        </p:nvPicPr>
        <p:blipFill>
          <a:blip r:embed="rId1"/>
          <a:stretch/>
        </p:blipFill>
        <p:spPr>
          <a:xfrm>
            <a:off x="1523880" y="0"/>
            <a:ext cx="61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ransform Faul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y between two plates that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lid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ast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THQUAKE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ong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Fig25"/>
          <p:cNvPicPr/>
          <p:nvPr/>
        </p:nvPicPr>
        <p:blipFill>
          <a:blip r:embed="rId1"/>
          <a:stretch/>
        </p:blipFill>
        <p:spPr>
          <a:xfrm>
            <a:off x="1828800" y="0"/>
            <a:ext cx="506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an Andreas fault gif"/>
          <p:cNvPicPr/>
          <p:nvPr/>
        </p:nvPicPr>
        <p:blipFill>
          <a:blip r:embed="rId1"/>
          <a:stretch/>
        </p:blipFill>
        <p:spPr>
          <a:xfrm>
            <a:off x="2209680" y="1219320"/>
            <a:ext cx="4686480" cy="5638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an Andreas Fault, 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Plate Tectonic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types of bound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o plates go for 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undary has a subduction zone…what occurs at a subduction z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auses of Plate 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Tectonic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nvection Curren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t magm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n the Earth moves toward the surface, cools, then sinks agai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e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vec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rr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neath the plates that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use the plates to mo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Fig32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70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uses plates to m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a convection current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Plate Tectoni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arth’s crust and upper mantle are broken into sections called pl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s move around on top of the mantle like raf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EFPlateP1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the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rust and part of the upper mantle =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km thick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dense than the material below it so it “float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the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sthenosher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stic layer below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then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tes of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loat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then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Fi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 Types of P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cean pla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plates below the oce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ental pla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plates below the conti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9:28:33Z</dcterms:created>
  <dc:creator>Nicolas V. Bates</dc:creator>
  <dc:description/>
  <dc:language>en-US</dc:language>
  <cp:lastModifiedBy>Dell</cp:lastModifiedBy>
  <dcterms:modified xsi:type="dcterms:W3CDTF">2011-10-09T17:04:18Z</dcterms:modified>
  <cp:revision>18</cp:revision>
  <dc:subject/>
  <dc:title>Theory of Plate Tecton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