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2EB-FA87-4D8E-81F3-66801A0B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ACB-7261-4FB4-A03C-91A68F62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5EF-C54D-4E0E-A497-2D002AC2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7F6-DCC6-4D2B-AD29-2E948D95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24046-47FA-46C7-8718-90BF4016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C8A67-3241-4D98-8F1C-A02EA127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B7B35-7DE7-4948-9A80-B61DD2C8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534A9-8DDF-4EF0-AE4F-B491EBCE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8D4C0-B3E9-4031-ABB3-80AEE00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739DE-CB13-4C9E-B4B4-2AD08C91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8C03D-7F17-4FB8-AAA1-0F7ED37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A68-8891-491E-A101-81814CEB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306A5-149B-4044-BEBC-A2E5797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7773B-71D2-4228-A8C1-4BF82F62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2C94-569A-4BB7-8EFC-B87166C4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FF44-B576-454E-8969-9E5536D2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FBFFB-CA54-4746-9486-B3D0323A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3EF-CAD6-4824-83E2-1E42DAA9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1EE-52D2-4942-9CD6-A5402609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DFF-FCEC-471B-98AB-1DB1DF4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5F2-205C-4B44-8C04-CA04A58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A3F-83E8-4BED-85CB-674B4BE0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8BC-E184-4576-93F5-73FA044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27C-C3BA-4A09-9AC0-520BC38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C32-6BD3-4E59-AFAA-0BF182658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9BA-BB1B-448F-BCC8-35BB33E4A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ksu.edu.sa/57217/PublishingImages/Practical%20Book.doc" TargetMode="External"/><Relationship Id="rId3" Type="http://schemas.openxmlformats.org/officeDocument/2006/relationships/hyperlink" Target="http://fac.ksu.edu.sa/khasayen/classes/zoo-145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b33"/>
                </a:solidFill>
                <a:latin typeface="Tahoma"/>
              </a:rPr>
              <a:t>ZOO 14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anual textboo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d86"/>
                </a:solidFill>
                <a:latin typeface="Tahoma"/>
              </a:rPr>
              <a:t>Laboratory manual of General Zo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d86"/>
                </a:solidFill>
                <a:latin typeface="Tahoma"/>
              </a:rPr>
              <a:t>For premedical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faculty.ksu.edu.sa/57217/PublishingImages/Practical%20Book.do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ahoma"/>
              </a:rPr>
              <a:t>Lecturer: Khalid Hasay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fac.ksu.edu.sa/khasayen/classes/zoo-1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as pp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b33"/>
                </a:solidFill>
                <a:latin typeface="Tahoma"/>
              </a:rPr>
              <a:t>Practice scores: 30%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actical marks 30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exams: Mid-term and Final ex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10 marks for each exa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10 marks for attendance, student’s notebook, activities and discipline during every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20:24:33Z</dcterms:created>
  <dc:creator>khale</dc:creator>
  <dc:description/>
  <dc:language>en-US</dc:language>
  <cp:lastModifiedBy>خالد</cp:lastModifiedBy>
  <dcterms:modified xsi:type="dcterms:W3CDTF">2013-01-30T10:42:11Z</dcterms:modified>
  <cp:revision>6</cp:revision>
  <dc:subject/>
  <dc:title>ZOO 14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