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B9E0-A808-4E4A-ABB5-E51D3B40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25B0-2EA1-4F0B-9FBE-F7DE9DDB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269-EAD5-431B-9A5C-9F894F7E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6424-A4B6-4394-88F4-6CB2EC58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9012E-03F6-4888-A53A-F0FB0F16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D4A364-CC3A-4BBA-B9E4-97732701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E6E8D-F5DF-4BC3-A7EB-CF8E3937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194B0-8331-40E9-A6B4-BAFE770E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F9DD2-DB8A-4C1F-9818-17F25614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1207A8-BFB0-4FA0-A88F-656ED019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946EA-09E4-4067-A978-33F82682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680F-628B-43EA-855D-67F49269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DD8640-1D9C-4B28-B9DA-94CFE0B7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5ADACA-EBEE-4EA4-AF9D-96D73848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38624-DDE4-4800-92FF-F5D147195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052DE-F092-41DC-ABCE-92CF2719A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71F0B-D663-4942-BE1C-FC2DC0E2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CE5-2193-4B0D-A5B1-D1984D9F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C7B-F561-4C9C-8BB7-EA38F9C0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EF5-B380-4366-9E75-218A6C0E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EED-8F65-47FB-A979-7CA4BB06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FB00-03EE-494E-9003-A82A82CE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73A-C2AE-458E-9683-0996FA12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9D4-7B10-4BC2-819C-76A7FDCC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125F-BB5B-4C61-BAC0-E434B3EB01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7C925-B253-4753-82B8-3A49150C6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aculty.ksu.edu.sa/57217/PublishingImages/Practical%20Book.doc" TargetMode="External"/><Relationship Id="rId3" Type="http://schemas.openxmlformats.org/officeDocument/2006/relationships/hyperlink" Target="http://fac.ksu.edu.sa/khasayen/classes/zoo-145" TargetMode="Externa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b33"/>
                </a:solidFill>
                <a:latin typeface="Tahoma"/>
              </a:rPr>
              <a:t>ZOO 14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483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ahoma"/>
              </a:rPr>
              <a:t>Manual textboo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d86"/>
                </a:solidFill>
                <a:latin typeface="Tahoma"/>
              </a:rPr>
              <a:t>Laboratory manual of General Zo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d86"/>
                </a:solidFill>
                <a:latin typeface="Tahoma"/>
              </a:rPr>
              <a:t>For premedical 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a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faculty.ksu.edu.sa/57217/PublishingImages/Practical%20Book.doc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cc33"/>
                </a:solidFill>
                <a:latin typeface="Tahoma"/>
              </a:rPr>
              <a:t>Lecturer: Khalid Hasay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http://fac.ksu.edu.sa/khasayen/classes/zoo-14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(as pp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fb33"/>
                </a:solidFill>
                <a:latin typeface="Tahoma"/>
              </a:rPr>
              <a:t>Practice scores: 30%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507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ractical marks 30 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exams: Mid-term and Final exa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 - 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10 marks for each exa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 - </a:t>
            </a:r>
            <a:r>
              <a:rPr b="0" lang="en-US" sz="3200" spc="-1" strike="noStrike">
                <a:solidFill>
                  <a:srgbClr val="33cc33"/>
                </a:solidFill>
                <a:latin typeface="Tahoma"/>
              </a:rPr>
              <a:t>10 marks for attendance, student’s notebook, activities and discipline during every cl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8T20:24:33Z</dcterms:created>
  <dc:creator>khale</dc:creator>
  <dc:description/>
  <dc:language>en-US</dc:language>
  <cp:lastModifiedBy>خالد</cp:lastModifiedBy>
  <dcterms:modified xsi:type="dcterms:W3CDTF">2013-01-30T10:42:11Z</dcterms:modified>
  <cp:revision>6</cp:revision>
  <dc:subject/>
  <dc:title>ZOO 14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