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CF1-D495-4B57-A1EB-3A36AD0A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73E-AA29-4B1B-B1F1-0E14EC24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FC1C3-C089-46A7-9664-459BAF4F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2EB54-CC19-4AD7-927D-5776D28E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072D1-9779-4BF7-923B-574D20EF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E62B2-466A-47D2-9A0F-7D986FC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D6E19-4495-4DC7-9339-00BC49F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6518A-EE80-4A5D-AB93-22AD4AF7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5ED77-088D-4CB4-8117-729A9737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0BEFD-0DFA-4C56-8F51-3FE62BFE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71254-A28A-4399-BCC5-4E9E524B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A8E9B-4E4B-4917-AB57-66255DF8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DC1-ECF1-44FE-A546-DE0654E9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74484-D4DB-4F6E-832F-D469C71B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6ECDD-4ED8-4ACF-9677-D635F15D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3F2F4-F56B-41FB-A291-117C3296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24B09-ABAC-48F6-BF4F-28914A1C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6DBE7-0F55-4BAA-A464-E738B328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2DB17-7347-461F-99B4-480A694C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95CB9-D001-4179-B516-153BA0D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99E2D-D748-440A-9B24-13436368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5AEE7-F6F4-4A3F-83E6-70DA5E5A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902B6-6F9B-4181-B322-B2393DDD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0F7-E857-4CD7-82DB-0F827D47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5F445-3063-4682-BF11-A98E2CD0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51F9F-5C28-4551-BB71-B6478DF6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DD234-B38C-4AF6-B321-51353E88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2F9C9-E604-42AB-ABD3-C8A4C8F7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B6762-8561-401F-9DC9-FFFCAC8D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2502E-0164-4C55-81C5-DF2BC329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D089A-3308-4FA3-992A-20DACA4C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18622-218A-4673-9278-E802D2F3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CA28D-480D-40CF-820E-BDB36D8A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5F47F-C69D-4C8D-A81A-D154301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4AC4-3915-4C6C-A77E-573D426F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2D5ED-D5E6-4153-AF34-D65D4A3E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57D17-5078-4EA4-9875-DDBFC6AF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D1B19-4837-436B-AC14-9A57EE5B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AF43A-4A15-48A0-9354-E5F8511E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3104F-1E3E-4EF1-8DAF-26B11BE9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84FC0-E996-438E-9A1D-C6AA7CF9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00A6E-AE8B-4691-99C1-A878C864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EA506-3F17-4E01-BF4D-B3CA6B87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AD52C-4C03-47F6-AE9A-A626B44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BDA38-D436-4736-9774-AEBEA56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3969-9411-48D7-82C5-2058A6AD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ED281-A542-4615-9B4E-122994FE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7D54F-4D56-40BB-AADF-1A28C430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18110-C991-4FA6-A188-59147AF1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D519A-99A3-4373-8C77-47224461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10F5D-441C-4C76-9E44-4B4446FF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80F4-D814-447A-8DB7-8A2041B9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375C-6490-429C-A759-B33C53DF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1842-39DB-4A6C-906B-1C316018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447E-F71A-4731-8E0D-21348EEA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7978-5EB4-4FDA-AE47-8CFC4BB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057-164B-4C1D-8FD2-4CB9CE13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71B1-50C0-40D5-837A-E11B4B9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BE87-1F4C-4961-A438-7A1C8272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E03-28D6-431D-8F78-D2F29F07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441D-7EE9-49DE-8DEC-5276AEB2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FE5-E1AC-48DB-8A88-C5E0145A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B2DB-07DE-47A5-BE81-0C5D6754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B62E-4DBF-4C74-8EEE-7DD2A0DD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DE60-AF0E-4236-B540-613E92A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00E08-A087-45CC-9EA2-7C86528D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D71C-D40C-4AD5-89C7-9A7F9A18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4C7-EA7A-4E10-BF12-38B2E6AD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B358-B60C-4D0A-99F1-CC985658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15D3-E88E-4504-8789-59B44E9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C4A8E-C040-4139-A5A1-5E33A4DC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CB83-4A89-488B-A560-5043825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BE15-FA69-460C-B5BF-149D4259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37FB-11EF-43D1-8A0E-A519E0BF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C4A9-7C12-46A5-8B00-0CA5E239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5A7C-3D22-4919-9D2B-C0FCAE83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7D5A-B2CC-4BFF-A1DD-DAFA8D9E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B866-99B7-4076-BAEF-E6145CFC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249-07FD-4C9C-8334-EDCBECB9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9149-19F4-4B2F-BB5B-BEE0E488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B08E7-571C-4813-BFE5-0CF89CF4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D2627-7F21-45DF-B6D9-7AFAAD83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AC29-7A8B-43FC-B68C-915B85F8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7FA8-7192-4EAF-B03E-70ED636C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E522-D843-44E2-8655-0F38E926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F328B-C161-4D58-9037-46D8656C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7B48-82A9-489F-BAD3-357DFE1A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14A4-BAFA-4199-B548-6FEA0EB3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1EBC-1891-4165-89F5-BC713650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94A-53DE-4F68-8A66-DA750D34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7A44-EDB7-449F-B1E7-55A21313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1E061-1BB0-4368-8F7A-BB6A412B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A630E-CAAA-4535-A727-23299CBA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66BA-B80D-404B-A953-78855B44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88EFD-7002-4F8D-9BC8-DE1D7F0D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A1F9-4E42-4D11-B469-7D3D9CFC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E5BDA-4E84-4A79-A25D-30789FD2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4A0B-4D3C-4AEB-959F-2B14A486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03370-BAE3-4FBB-B98D-457378D8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C0589-A520-4789-BD2B-44699163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59B-F423-422F-AED6-3736AB8B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AB3F3-AB7C-414A-A15B-1FF8D301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C7D4F-E769-4DF6-91E9-6811923E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8453-F02E-4E2C-9F5F-5B2326EA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80E33-4C31-464C-A949-61A152EE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35E35-F0F6-4FE7-B43A-5CD02F85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86D2C-D0CE-41D4-A1BD-28E4E439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F4801-3539-4162-B51A-FE1E7005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991E-2E4D-4460-84F8-636C45B5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E92F9-D9A5-4EC5-992A-09ED88EC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24B05-1E67-405F-B50E-0EBC7CD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2DF-5FE8-4355-9949-0DF9B071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F0C11-1E10-4F7B-B8F0-3325D935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7E06-9DBE-4449-818A-A99513B6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ED62D-A2F6-4ABA-A7E4-9A9880AF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E3EF4-3239-4970-BF17-49848D26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68D85-9AD0-4229-B0F4-02426E4A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5B944-24AE-4E1A-9BC2-7D17221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D5DF2-D410-432B-B307-4342EF37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24966-EF36-451B-B755-215A465D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C3BE-448C-4F4D-818D-4C611777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E6197-8EF7-482E-9C92-1F38FACC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E14-C24B-429F-8068-1ED94FEB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F2FA-0A04-4791-811F-32DEBB9C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9BFEA-4277-4421-8E15-7D4EFB4F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C9FAA-2071-4CE1-8498-13267547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8281-FC22-4D45-99C6-C1E270A9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58A4-29CF-4379-9BEB-CB2F671F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672E4-6ECD-4CEA-856C-8FE65C66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C7541-9C05-49B7-99C9-1BBE7667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DC737-23E3-4905-8DC8-C90A8EE4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6F5ED-1B5E-42F7-9AE7-193AD3CF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56D71-760D-4080-9741-429C3A4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E26-EDB5-49C2-9782-D7CBF52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973C2-6EFE-4DC2-B893-99CCA745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E03F7-94D2-4B34-8A56-08EE12D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143D2-2859-4CE2-B0E6-1FF860EF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07994-5C9F-4B4F-A6EF-3C495E9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3D0F-D4BC-48F6-9346-A05D9E99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B181D-89C9-497A-8963-D4FAFE27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27C66-E215-43E9-B773-DC54617C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DA3EA-5D1B-4D9A-9EE0-2205CF66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B5662-C57B-4BA8-998C-0CC98E3E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EDF17-EA07-4A95-94F1-60692954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4CD9-70B7-421D-B98F-BFFDF92402C5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D7DE-DB5E-4121-9E1A-BBA0C5237A1D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8CC3-E5B8-4280-9245-06B96265D10A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0BCD-19F2-4567-9FBE-A6D8B3458E6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6195-E71C-4ECB-963B-328DA3BFA23F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4826-69CF-42FE-A1AF-44B06F4C697B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7B30-63DC-412E-B39A-08090722554A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2972-04E7-4395-BBC1-8D8E9E49E0FC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D2D1-DE22-45A1-A08D-1607F3A7DEBC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4571-8FA3-4C00-B4A5-321D7AE6D0DD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4A0B-65A6-48F1-9485-4D801D6A502C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F140-4B25-492B-A3A3-24FA92992000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9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GE 26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sent Perfect Tens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s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Actions or situations that happened  at an unspecified time in the pas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to Canad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Repeated actions ay unspecified times in the pas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see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this building tw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Actions or situations that began in the past and continue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 since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s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ennis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not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s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m since last we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n’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miss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 single clas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expressions with present per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For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n amount of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for an hour, for a week, for 5 years,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occer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five yea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inc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 time or point in the past time. The phrase tells when an activity or a condition start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since 7:00, since Monday, since April 1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since my birthd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est friends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rried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si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use it for a complete time perio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all day, all night, all week, all my lif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her friend’s hous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way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for an action or a state that began in the past and continues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wan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o go skydiv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comes after have/has and the main ver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0:03:34Z</dcterms:created>
  <dc:creator>sony</dc:creator>
  <dc:description/>
  <dc:language>en-US</dc:language>
  <cp:lastModifiedBy>sony</cp:lastModifiedBy>
  <dcterms:modified xsi:type="dcterms:W3CDTF">2012-04-11T17:31:39Z</dcterms:modified>
  <cp:revision>2</cp:revision>
  <dc:subject/>
  <dc:title>Present Perfect Tense</dc:title>
</cp:coreProperties>
</file>