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4BE-5409-42D1-81A5-72494861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101-A7AC-4D8E-86F4-D5C31864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484B8-B524-449C-A252-5A3B0037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FE862-27E4-4856-A69A-7B410C93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72A60-CAF5-48BF-A683-ED027D7C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74D22-8962-4C7E-92A1-2C4B3697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1E65E-101B-45EE-B243-7FC85438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56078-AA84-4536-A235-94B50F2C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6EE55-E46C-41A8-B41B-DAB9FD1E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7FF06-8119-4847-939F-DFD8405D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3C86A-574A-4E05-953D-73FA108A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31128-2582-4945-A97F-B94433B5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C49-321F-4981-8991-73AEB180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570ED-26CC-48C4-BA52-1CDCD86E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24C4F-5E8A-48D5-8F14-C9A79F7A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341D9-BB9F-4594-B4D7-57F865B9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F754F-A52E-43E0-9606-3CE2CC78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30023-7850-437D-95C7-EA85EDA9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C5953-885D-478A-9A72-1C685B44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3FDE4-0308-4BFE-8F13-2B580134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E23A9-C600-4F4A-980E-9B371AB2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22AD3-F0CC-4A59-8681-6654922C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082E1-A3F6-439D-8521-FB550A29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14F-B3A6-4BA3-B8BF-24F13C7A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91975-0905-45B5-9C3B-946088A8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8367C-FDEC-4F4D-8573-37E1B3E7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DB5A4-43DF-430B-BEB9-9ED20393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AB3E8-CC75-46E3-AC24-8570C8D0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FAE42-AC94-4DDE-8953-0C32673B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2BAC6-78B9-496F-9768-88BAB093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2C8C1-602E-479E-A65C-364EDDA0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91253-7187-478E-B557-D9F6CF94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BEC75-0A5C-46A4-BCE5-7C1E0420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03908-2CDD-44BE-9BD4-1A479FE8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01AD-0AA6-49CF-8FCE-89ECE5A8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3AB86-338E-41FD-B9DB-2648BFDF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EEFAF-8773-4255-AF92-BC77C357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4C33B-DC04-4D6F-BCEA-8A388281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1F7DF-F23A-462B-9E33-20DEC7F1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2F0B1-EBA8-4353-8E25-27C76B85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C5BD1-5042-421C-BCC6-0BCB8A2D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C8094-4AAF-4C60-B2C7-7BDFBDCD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ED0C5-027B-4FB2-8741-F572457A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84581C-5840-4AF8-97AB-4BC56913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AA1D0-62C0-423E-85A5-31F8842D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380B-B740-4FD3-B6CF-6DB384AB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5F529-5A8A-46E5-B476-3F9715FF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B593A-0F7C-4949-BA3E-DE086A0C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AC6DC-5917-4C01-AA8C-3094895A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25B35-6A18-498E-BC27-B792C2D8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B7B64-5E23-4BF7-8C87-008EB7D2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24C5-6451-4EA0-A441-D5FDB032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9E94-D7FD-4804-BDEE-A5391ABB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7B58-D819-442B-B944-77027E66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064C-7038-4A60-8D4F-4B9CB728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6420-3271-46CA-8A27-642400D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CC3-6E9B-45AC-BB6F-7CEA2689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4C80-200B-4D95-AA53-4B65EFEE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E376-A0D4-49AF-998E-0E433C4E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9A26-A4F9-4219-827F-616B4DC4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68BC-F953-4647-85D6-B0E547B9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2AEF-4C92-41A6-8F53-9AFBF582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19DD-BE15-4D04-AEE2-F7DD9FEA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FA2D-DE3F-43E6-AF4C-301ADC3F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C2276-99BD-41E5-BFC8-0FB2C8AE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A020C-904E-4612-9AA5-AE59904F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88001-13CA-40D8-9A45-9E0E5B37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52D-30E8-484F-A528-8093213A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4DE7-8AE6-447D-BFD1-89362A5B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381A-6062-45C7-8FC5-289EFF75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5D89-505C-49A2-AC3F-CDE7D34E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81F3F-A9A6-4980-94F9-4B7219F9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9CD1-C722-4961-812C-6BA7F2C7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64B4-3C24-4B18-A8EB-3642B4A1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501B3-9BFE-419B-8B35-6F67F32A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2ED1-1514-4213-AFC7-12E83CC6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480D3-2EF1-4EFB-B93E-F590B766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7398C-4D05-4B97-B167-B6E3332E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880-14FA-45D2-AFDF-70987864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BA0FE-6681-44C2-8084-698DEFBF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41FE4-A6EC-4C12-8611-B59841D4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4C974-5878-4DDF-8897-8386D08F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9D9E1-AF3B-4CA0-BECE-435AB487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80ECB-D774-4A22-A627-8271E672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7B6E-60AF-4F97-941A-841F4E3C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91C74-7A0C-4430-A86B-C61F56A5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82ABC-D9D6-491D-8E5A-63C60C0D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0E641-6A49-4C47-A2F3-AA7A58A0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5B023-968E-411E-A588-440B7A33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AAD-D024-4FBE-98C8-087B4B4B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1B96C-3B5D-4F34-A53B-AA918A13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6F823-29B3-49D1-9B84-0311103A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2A716-7F20-49ED-A43A-5A7CC128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FDF96-D8E2-4E4B-92A4-D535316B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45906-653F-4793-A94F-16389514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BDC88-F623-46E3-A112-A1080D14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9FAE-FD3D-4F2F-A4F0-EEA03181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ECF51-5499-4E18-B26A-C47B64D6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00BC7-7FC2-474D-9FFA-CE9A43DF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1B630-913C-46A4-9767-D3667096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C7E-E7AC-431E-9457-FF7A666E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34628-D856-4423-A9E7-C3E63E37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19307-350F-431D-B867-A5243172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36AC2-21BA-4BA2-9670-EB2C75A6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90C34-67C8-4878-8545-F4C7251E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E7D0A-F426-4F17-A5B0-9B5FEEB6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8596E-0CCA-4564-9300-D3220417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B113C-214C-4AC2-8A38-39AA324B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6B412-7E8E-44FD-B2B9-49EE5ECD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F76D2-9B77-4081-866F-54279337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625AF-02A5-4014-9D4E-3347D6EC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74D-545A-43EF-9945-C5E2F106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D49AB-D34B-42BC-B2CF-C17A6237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795E4-805E-4C68-9A21-FBE1F639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BF613-C5B6-4C5E-B629-0FD309B5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6C8AF-01C8-4245-B4A7-57A1149A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434F2-FB8F-4A8E-A2C8-FA96CF89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353AB-5DBF-488B-B8B8-9356437D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9D7DF-9AAF-45E9-9811-196FE467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0BA9B-ACBE-4271-9A41-C822C291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8F127-D5A5-406D-9345-0EFBE2F4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E9C80-3BEB-4E3C-A056-8F9B0712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F28-4BDE-47DE-9E9D-BD1A22AC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DAF45-3806-4EED-95AC-EC721581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800CA-120E-4553-AB8A-FA418644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00850-CD2E-4BB3-811D-4CBCD175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DA772-2BBA-4FE6-BD13-4099E270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373E6-61B9-485E-BE64-23DED0DB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107F5-85BE-4F79-B28B-EE80588F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4D6A4-7B75-411E-AA5A-F19769DA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1F4B0-C202-46E4-9097-CDB9FEF9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B779E-0DE7-4EAF-BACB-282F6C2B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2B725-B813-406B-BDA2-785329D8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A01-991B-4E18-8C8E-3295F9FE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4C29C-5A93-4576-A775-21D2A414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4B25F-8F7F-45D9-88BB-FC64D816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512B4-7D3A-49E7-9F14-E599E617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B3109-14BE-4F10-804F-052608EF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1CB85-B979-4B82-820F-A79372C6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70891-B638-4BE1-9A26-C39321ED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B05EE-393E-4341-A7E8-700F7248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EB5A8-78E3-4791-941D-0CBCED2C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0D354-03F7-443B-84BB-0AEFFCA5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C7069-A7C5-4507-A9E7-C11ABB3D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D581-DEF6-4447-BD52-4BFAD5E156D8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D9F9-0403-4090-8F59-BE98D4ECBB69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5D15-D7A5-4515-AD80-39D44E57AFBF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22E4-EABA-4814-9BC6-AFBD2E141071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AA5A-5ED3-4941-BBB9-4596BE37D307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D46B-E394-43F3-B388-FFC657DC3F22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6441-505F-4D9E-B614-A32197939B24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EBCD-1D0C-48EC-8FBC-5E8519C3B3D2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2D3A-444F-4AED-BC91-CCC40F8069A7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C91D-05D9-4584-BC0A-285AAF303BDC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87CE-51AC-4C87-8155-FD90D95ED015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6852-7F1C-4519-97DD-FC4F70A565A6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9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AGE 26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esent Perfect Tens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s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Actions or situations that happened  at an unspecified time in the pas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to Canad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Repeated actions ay unspecified times in the pas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seen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this building twi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Actions or situations that began in the past and continue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 since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os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ennis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not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s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em since last week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n’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miss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 single clas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me expressions with present per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For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n amount of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for an hour, for a week, for 5 years,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occer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fo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five year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Since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 time or point in the past time. The phrase tells when an activity or a condition starte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since 7:00, since Monday, since April 15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since my birthd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best friends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married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sin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 use it for a complete time perio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all day, all night, all week, all my lif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y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t her friend’s hous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wee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way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for an action or a state that began in the past and continues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wa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want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o go skydiv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comes after have/has and the main ver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20:03:34Z</dcterms:created>
  <dc:creator>sony</dc:creator>
  <dc:description/>
  <dc:language>en-US</dc:language>
  <cp:lastModifiedBy>sony</cp:lastModifiedBy>
  <dcterms:modified xsi:type="dcterms:W3CDTF">2012-04-11T17:31:39Z</dcterms:modified>
  <cp:revision>2</cp:revision>
  <dc:subject/>
  <dc:title>Present Perfect Tense</dc:title>
</cp:coreProperties>
</file>