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11C0-3D08-4353-BD6C-67CD7325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6D30-AE7D-4433-B697-28BA5F97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BF5F54-8E62-4F00-90F5-1528D56C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F59708-7732-448B-B0B8-2D5DE957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FA5388-AC34-432F-AFB2-8C323247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7C3126-BF1C-4423-9168-E6C3B941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289335-9615-47E8-99BA-382575C3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C96132-1C60-432C-948B-5F58558E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46593F-6AE9-42A2-86A3-185C00E3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A04C80-5CE7-4475-8922-3C1D872E1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53F439-111F-498B-BC5D-4CBFC828D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F1DA1D-EC95-4D2F-9873-E40BA869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219E-377D-4581-9911-8B98E3793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DA5C72-6852-4645-BA31-9DDA0DFC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99FDEC-D3C9-4C26-80E6-B377D869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AF6422-9642-4CC9-BBB9-5383CB8A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33B345-204C-4CE9-9D66-42C34490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0E4953-541B-4625-83E8-4569269D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A5394F-43FB-48C6-9607-2CAC013E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86827E-5792-4D26-97F4-0CE7351C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2368D4-3527-456E-AD1F-2F7AD5BE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C58672-FF32-460C-98FE-F3D13057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A18CEF-189F-4D20-AC2A-A81E44B03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9D4B-04F8-42A7-B891-EFE12FBD1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5B34B2-E6E0-4808-8E7D-248CA430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64956-25A4-4259-A34F-78F775CF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322CD-B8CB-4D53-804D-06E08BAB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F42F1-DAE4-48CC-A6CD-396460FB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A1C0B-CBA5-49F6-8636-03BAA5F4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E8330-D0F0-4E8E-9D6F-22A52B88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0B3CC-43B1-4C1E-850F-400C7511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15227-0880-4BFC-A664-AABAD4B1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7AF0C-7B9E-4303-B127-CDE2AC26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6E460-24A4-43DD-B959-7D1C8E19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D376-920C-4783-AEB3-602345CE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A3480-183F-492D-A444-41296DEA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9BCB2-7B88-435C-8344-B42B2DAF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CE3F0-83A0-44B9-9063-6443ECA7F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F14508-F22D-4112-92CB-AA27B84C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1ABDF0-F4F1-46BE-BD5F-29055AE6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CFF2DD-5A8E-4386-9D86-1B473682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9AFA38-3B00-4D91-A824-81B3ABE1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DFB22C-5E2B-401F-877F-F5F7D695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470BB7-2AD4-446B-8B17-253616FC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C46E53-35BA-444F-9A0F-607CFECB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F0AC-BC99-4C05-9DF2-DD50088A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739E78-8A46-4A0A-912F-7847D161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5469FD-423A-4F1B-8275-AE755EA9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162E2A-8135-4530-94A7-8FBAC8F8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8F1CBC-DFCB-4E04-8CAA-A9217C73D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CE24B8-8242-4105-A64B-78A13F1EE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8BA4-B35F-4FFE-8861-103C3DD7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D2FF-5C46-4245-B3BD-23D82CDF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0271-15F2-4917-9861-D278A20A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6FB2-9676-4F08-AE42-0C3FD589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89EB-3B88-4983-8E50-98FB6554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D793-B7A4-4773-B703-A1EDD00F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6BEA-8BCC-41D5-94A5-71AAB7D9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15D3-3DD7-429F-A326-0D696D2E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EA6E-7B23-4BE6-8684-A5955A9E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A897-59C0-4CC8-ACAC-10CADDFDA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51CA-F59A-48F8-A307-31C156DC7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1E1A7-DF58-426A-95A1-AF0A420C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F7562-9160-49AF-B7D2-641901CB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7756B-E90E-47AB-A756-7A4F2350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4F24B-537F-4D54-A510-77D185F1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41BEF-7B1F-4F88-9333-50C71E21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23FC-08E6-4F33-ACCE-889D2154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A6BE2-CC4F-41D5-94E7-481E71A7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F3424-5894-452E-B975-348A9E8B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F973A-2292-4BBC-94C7-349D32EC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4FDD5-E14B-437E-94FE-5CAC6A2B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A35DC-FD0F-46C4-AB7C-5F0B18F7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491D9-F9E0-4180-BF94-BE0164468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3949A-478D-4A59-9E52-14E6914D3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42A1F-77AC-49D0-A5BB-D7B5D2314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F4C23-C8FA-4395-AD8C-E73E7771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701A5-BBF9-4908-A799-847A281A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7CDC-9E90-4275-A60E-581E5906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BD855-0BF0-4F8A-AED3-47EA7BC0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C7A99-12BC-4FE1-9782-C6A536DC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728B3-374D-4035-B3C9-80A26BC3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E1F8D-6436-4404-9E62-7EB1F5E5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DCA9E-FC74-4DC6-8A62-56AB4954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44147-D38B-4DFD-A546-5DE07411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C6662-775E-4B1C-9687-7B9C6CEA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E9C58-6C47-4D4A-BB7B-D32993B27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DCF03-2CAB-4574-8574-8BFF72E44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CDE7B-BC61-4C85-870C-6A18923FF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617F-4DFA-44C6-B303-2DCB3890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20117-C1C7-47B0-B454-4A3F2ED6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8E475-9680-4D95-A8D5-4CBF53BA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BF781-0B2C-4DDF-AC10-5061C78A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C1394-2664-4E44-B697-1A405AB7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FFB42-03EF-4C3C-A6B5-36314790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C93BD-1617-497F-95DB-CEE99EAD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7765C-3DB8-473C-82BE-97962707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B7BBC-2F9E-4FD7-99E7-89287719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C4A3B-88DD-43FF-BFA6-3ABD50E6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638E3-EA7E-449D-A72D-BE32241D2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A562-7F7A-45C7-8465-9FA766E6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90A77-1149-4451-8889-BC6A8A4C9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35EA1-9A62-4487-A236-799FDA4E2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70F27-764A-4CDF-8982-8925F718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A2C95-906E-4D3C-B119-31FDC41E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423DF-34C6-4015-9CF2-DAFE40DF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744DA-F1B5-4B00-81BC-62A71090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E7332-8E10-4A85-B759-80BBA0B5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CE9E3-3B7B-43AB-8852-E037A959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EF50C-5BC8-41FD-A61E-03A77711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7BA53-0B7E-47CB-8FDB-5B16D2B1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2610-D173-44FE-9749-14036829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BC918-357A-4BB4-955C-5655A4CC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AD867-0667-4610-B6B8-577E2A493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28ABC-BDD4-4EF3-A0C7-6B4277B26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81CEB-CB9E-463E-9715-77A811FD3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D82E6-CEAF-4FA6-9267-BB41AE3A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DBDBC-4E9C-4538-ACC4-28C08F07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9E786-FA60-4B74-9DB4-7DED73BF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62810-5044-45E6-AE43-828D18FD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288F3-0324-4454-8D17-34D0782F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9B132-632B-4F01-AD4F-D3A6676D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708F-5DD7-4A32-9D5C-92B27C40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DB05B-2BE9-4C6B-9D87-D94C8880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C32B2-E1E8-41B0-892A-086FD532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74331-6C3E-43A8-81EA-18634C33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F3B59-C253-4E37-8CEC-C9332699D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243F8-65B1-41F0-9768-5C476C4E3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441B1-D3B2-4DE7-83D1-E497B936F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59FEF-CEBA-4736-A07B-2881C5FD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D4F1B-7AA8-4AAB-88C2-A548002D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DA8AC-280E-4D4B-9B17-C2FF6DF5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DB8C4-0CC9-459A-A7F2-9A59170A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C98D-4986-4053-90A0-B6C0373C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F739E-72B7-475A-8790-494DDA86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68F03-5A18-4A8F-9F4E-402B5A5A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42479-779B-4B7F-AB8F-0C2BF587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CD6E2-68C5-4023-AAEA-FE14F13E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55575-6102-428B-A20B-FA98C628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FF7D6-0181-4B09-AC59-774ADA66D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895D4-16E6-43F9-A187-B2A3E4885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32C485-EEB0-437C-B527-7754BF88B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DFF808-3D20-4103-AFFB-ED72F077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75C491-6C17-4BA1-92CE-8BC46F2C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CA8A-CDE8-4D07-AFB1-C00BF3B5EAB7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FE80-837D-42EE-BAC1-7C8C1178AB18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3FBB-7E2F-4FA4-9300-5CC4E2ED994C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C712-BACF-43B1-9F4C-6366506B44F4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2AAB-FC67-4000-9426-9CBF0F3B7066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AA8E-FA3A-4A11-A9C1-EB4FBCD47230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9DA0-5829-491B-880B-260479BC51DD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E970-DE8B-48C6-A458-6B89BA3CB996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AC93-0AD4-492B-A343-FC7A67336468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0762-4B6C-4C25-B54D-01BA8FD77AA2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97BF-F1E0-47AA-A71C-8FCA8828041E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BEB2-7CE1-4257-A502-C93EDFC44E24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CHAPTER 9</a:t>
            </a: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PAGE 260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Present Perfect Tense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Uses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.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Actions or situations that happened  at an unspecified time in the past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  <a:ea typeface="Arial"/>
              </a:rPr>
              <a:t>hav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  <a:ea typeface="Arial"/>
              </a:rPr>
              <a:t>been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to Canada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Repeated actions ay unspecified times in the past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  <a:ea typeface="Arial"/>
              </a:rPr>
              <a:t>hav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  <a:ea typeface="Arial"/>
              </a:rPr>
              <a:t>seen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this building twic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. Actions or situations that began in the past and continue to the present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v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been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here since January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ose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playe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tennis for a long tim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ve not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seen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them since last week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e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sn’t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misse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a single clas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ime expressions with present perfec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For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 it with an amount of tim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amples: for an hour, for a week, for 5 years, for a long tim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v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playe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soccer </a:t>
            </a:r>
            <a:r>
              <a:rPr b="0" lang="en-US" sz="2700" spc="-1" strike="noStrike">
                <a:solidFill>
                  <a:srgbClr val="a9432b"/>
                </a:solidFill>
                <a:latin typeface="Georgia"/>
              </a:rPr>
              <a:t>for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five year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Since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 it with a time or point in the past time. The phrase tells when an activity or a condition started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amples: since 7:00, since Monday, since April 15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, since my birthday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y best friends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v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been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married </a:t>
            </a:r>
            <a:r>
              <a:rPr b="0" lang="en-US" sz="2700" spc="-1" strike="noStrike">
                <a:solidFill>
                  <a:srgbClr val="a9432b"/>
                </a:solidFill>
                <a:latin typeface="Georgia"/>
              </a:rPr>
              <a:t>sinc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January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All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: use it for a complete time period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amples: all day, all night, all week, all my lif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ya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been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at her friend’s house </a:t>
            </a:r>
            <a:r>
              <a:rPr b="0" lang="en-US" sz="2700" spc="-1" strike="noStrike">
                <a:solidFill>
                  <a:srgbClr val="a9432b"/>
                </a:solidFill>
                <a:latin typeface="Georgia"/>
              </a:rPr>
              <a:t>all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week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Always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 it for an action or a state that began in the past and continues to the present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ve </a:t>
            </a:r>
            <a:r>
              <a:rPr b="0" lang="en-US" sz="2700" spc="-1" strike="noStrike">
                <a:solidFill>
                  <a:srgbClr val="a9432b"/>
                </a:solidFill>
                <a:latin typeface="Georgia"/>
              </a:rPr>
              <a:t>alway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wante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to go skydiving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lways comes after have/has and the main verb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20:03:34Z</dcterms:created>
  <dc:creator>sony</dc:creator>
  <dc:description/>
  <dc:language>en-US</dc:language>
  <cp:lastModifiedBy>sony</cp:lastModifiedBy>
  <dcterms:modified xsi:type="dcterms:W3CDTF">2012-04-11T17:31:39Z</dcterms:modified>
  <cp:revision>2</cp:revision>
  <dc:subject/>
  <dc:title>Present Perfect Tense</dc:title>
</cp:coreProperties>
</file>