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26A-9F55-4E75-9683-8793C383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9F9-0FCD-4B7A-838F-18E4DB7A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3BE13-9831-43FB-9BE2-705CA4E0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7C3DD-E250-40F3-8B10-598FC374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4860E-481A-401D-A2E6-D8E18328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F8AEB-C693-4395-9A11-ED8A6C8D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7B9E3-AF00-4357-B012-93C8D2A1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FA041-43AF-4E4E-8C05-01005DFA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554F5-207F-42DA-94A1-BB9B7E54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26260-B6B7-495F-95A6-D86E0FF0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F2A07-AFC4-4FD8-87A1-67A59FAF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4F27D-940B-4E4C-94ED-AF509C98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E97-CA43-4631-ABB0-2AEBB911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FE1C6-8537-4BE1-9B9B-BD79F195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B6A35-A3DB-40AC-BD8A-2A0117D9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8A13F-54F6-409D-9530-82FB19A9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8D7D7-F4A8-4D37-9934-0946FC7E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8AE49-8BFB-4A98-AC65-E8A8F4AA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02119-FEF9-4012-BE3F-150C03A2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02733-615F-4E5E-B90A-C8A3837B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52D45-7A55-4DF7-B6BF-7BE5EC92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B6F46-C614-418A-A381-D651C61C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397A6-FD7B-41E7-871F-F24F43FA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A00-7FB2-4691-951F-164DC836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5BBDA-7189-43F5-B911-2C8EEB99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C7C5F-21AD-4EDF-AEBB-DBFD4E8C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ADE40-717D-438B-B372-B2107F6F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9515A-05B1-4614-B6B2-BAF0FFB2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5D034-A372-4514-BEF3-0A0ED339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808AA-3FE5-4ABD-A73F-644492B9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A3DE4-6DE1-48CA-8460-6AD92A37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9FA3B-4BA7-456C-91AF-4E6DB87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C2376-5373-4C32-8E5E-CFC2B93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07AAB-A95F-499F-852E-C4DD3D06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08C4-B337-4BEB-B9C0-045D90D1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155E5-E052-4FFD-8CC7-0BEE346E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301BA-FC8D-4676-A004-07EC52AE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A7E65-2254-4B7F-B055-69B3FFC4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37EB3-58E6-4D4D-A8FE-C7823D9F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7CBAC-39C8-4757-A4DE-E6F1F08A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456DF-6EC9-4750-A730-3C265A98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E69D4-2723-4EAD-8956-9DF3CECF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4EB93-7039-4922-B951-535E010E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38F32-473C-4F5E-99B6-9BA5FCCF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70D72-8C92-41F7-80EE-2AE5AAF7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4EA3-ADCB-4A5B-A338-DD4E43F5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D6151-0BF7-44AF-8F56-CF9D03C6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C65BB-BB9D-4F91-AC7C-A79D37A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E8B26-99C8-4869-B126-2E75F9D6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E7542-B988-4EBF-9BB5-CF824AD8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4E4B9-E6F1-4A73-B1D0-FF3C59A9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BA9E-AED3-42FA-B547-014E1D97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BDC5-7644-4935-B76F-8400810B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CC5F-3D8F-4798-8136-B437D99D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E918-8D75-490A-845A-3D7225F3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6163-5EB9-4001-AB82-0A30118E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F8A-B3D4-45F3-B0D3-B0596AE5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07E7-6F9E-436F-999D-383E8107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CE1B-F5A2-45C2-9369-D5FA6D19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04D7-D992-4442-B82B-0D9A509B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8EAE-5970-4562-AF20-535AD4E5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AC23-FF89-4705-B61C-E77045A6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DC72-FA59-4546-B508-C64E59FD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5B65-8FBB-474C-8BEE-3F68DEF7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7BD3-ACAD-408D-A105-4DB21142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0BD1-8A73-4523-91F9-EEDC504F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9FDCB-B7D9-4F2D-BC58-18BD9E80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E9A-1904-4242-9869-94B85723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B919-6986-44DB-B28F-A79E7C82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75B5-D7D2-42F8-BF12-C28C001F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742C-EFD7-417B-B262-6B786116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D9BE-65C4-475B-A71A-B9C9703B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4F6C-85AB-455D-A3A9-275B923F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0143-5255-44F9-AB39-3343396D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6289-1247-4AE8-A9DA-0A75BC05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98D07-45BC-4555-9829-EAD1208A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7763-5ADE-49AA-AB2D-773DDCF3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B61A-97C1-499E-BEC7-3CCDFF1D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BE7-F52A-41E0-AAA7-43395E2A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FEED-EAD8-4DF4-9AE4-018B736A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9F4F-3644-4721-9731-32F28EF0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6015-8E3C-441B-8727-1AA87047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3A63-02EE-4A9C-A8CC-87718007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16E0C-5010-44B7-845B-699A5B6C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559B-5AC9-40CD-A669-72748A6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ADB80-1F56-4C26-B78A-9A80A7D4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0E2F-91F3-4407-BCE1-E942E099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4862-C996-4359-814B-4DCFA5BD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17FA1-8197-4B1F-91A3-E40F1CB5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880-EFCC-4EB8-86AA-04AD2ED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11DC-4510-4F73-970B-B92A14DB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B4ABC-98EE-4896-96E6-49044E37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6C976-DE10-4BAE-B203-BB641E8F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350C-2737-497B-9B27-ABCAC654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54BAC-0FF6-442F-90F1-4C5E20E4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A0F9-48E0-4391-B307-3C84452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E8598-13E8-4582-83C7-C0AED66B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DBEA-3BD0-4CB2-8393-EF534A4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A597-BA74-4609-8DEB-5539EB95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FF6C-83F8-4C1C-805A-1855D0AE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D14-FBD6-4936-964D-99F0B0B0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0494-0B66-4FD5-B4FC-969BF479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F9AFF-84EF-42C8-909D-2C21EE38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2FA3F-EDDE-4D7A-B0A6-7BC61AC8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0B9D9-9BBC-4A13-88C7-7C5E1E47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132E3-D07F-407C-BDD7-5A64A81D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84BDD-1B0D-4B4A-AACB-6E0B0594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A03E5-694C-4C61-8A04-102B8FFC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A9191-16DE-4F21-9148-62314C7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7EFA5-2C5A-42BF-AC3E-E064D8E7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A099F-E97F-4566-9591-03F047B9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2E9-0BC7-4C84-9BD8-BD02267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BAD4C-02D6-489C-99AD-0E89E108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EB66B-52DE-4841-9AC2-F2C5E20A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34150-C9EE-41DB-BEFE-64F35C9E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FE2FA-A76C-4923-BDF9-000A5BD1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ED067-8588-4954-94BB-E12F9FB8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49383-FE10-44D6-82C7-CCB63FD9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677B-C0ED-4F18-BB6B-CC1D1E18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2AF51-CA47-4758-90B6-41CBBD81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3DD7B-C084-4D8A-BC37-B4F94AD4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0C880-2B1C-4689-A2BD-32FD1CDE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517-A18F-441C-8A74-03304D2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55A40-407E-44F5-98C8-59898237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D9662-468D-4E80-904D-E72885E7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F19EB-1DC2-498D-A9EB-C121B859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D3B8-781B-4868-9776-3BA57165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E1C28-6EDD-4E65-99CE-D95BA68D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3F493-2A90-4F9E-825C-29238B11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CBA8C-CDCB-49B6-B0E3-166499BB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EFE65-B4D4-4336-92ED-986D15BA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B7304-5AAB-4C2B-BC1D-175600B3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9ABE1-94B8-45FC-A600-B1816D06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B88-2F91-4FAA-A9E1-19EE02BC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EF2EA-7D22-4336-B191-0A66119A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A595F-0455-4EE1-BDA5-6BA8AAB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21221-D35E-4A7E-ADCA-CD5941D2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FBF6F-F2D7-45CC-B2FC-71F8B6F0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DA4D-5BED-459D-BC57-5092BFE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FF4DE-C6D0-42F9-8208-468F1B4D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FFDF-C922-4AA6-8922-3D471B89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A2289-1EF1-4CAD-9B06-1C7C1C0F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1CED8-FC83-4FBB-BB45-156B9070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D0F0D-EC5A-4DF6-89CF-CB1350C0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5C02-851C-4561-B83D-65E4D9D36B7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948B-2D69-44D2-BA73-7E1A016094B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3524-CC60-43BB-9CA7-CE0C181661AD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BEC3-5DAC-4632-B334-BD0A9F39B10A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0E3C-13A4-40B4-A583-742DACECC21D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A5E3-3B72-40F1-A0B1-262D6A8AF141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55E8-67DE-46F2-B9B1-461534E23960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78B8-3019-46E0-AFEB-5E2853C3B663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4073-6F26-4373-BD19-CFB2E5AEDF1E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A679-576B-47AB-B954-256BF64F7A89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81B3-F29B-44EA-9944-B30D37655CB9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60FF-70CE-4EEF-B4D8-BCFDE8151119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9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AGE 26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sent Perfect Tens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s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Actions or situations that happened  at an unspecified time in the pas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to Canad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Repeated actions ay unspecified times in the pas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seen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this building tw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Actions or situations that began in the past and continue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 since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s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ennis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not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s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em since last wee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n’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miss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 single clas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 expressions with present per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For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n amount of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for an hour, for a week, for 5 years,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occer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five year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inc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 time or point in the past time. The phrase tells when an activity or a condition start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since 7:00, since Monday, since April 1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since my birthd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best friends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rried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si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use it for a complete time perio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all day, all night, all week, all my lif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y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t her friend’s hous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we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way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for an action or a state that began in the past and continues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wa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wan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o go skydiv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comes after have/has and the main ver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20:03:34Z</dcterms:created>
  <dc:creator>sony</dc:creator>
  <dc:description/>
  <dc:language>en-US</dc:language>
  <cp:lastModifiedBy>sony</cp:lastModifiedBy>
  <dcterms:modified xsi:type="dcterms:W3CDTF">2012-04-11T17:31:39Z</dcterms:modified>
  <cp:revision>2</cp:revision>
  <dc:subject/>
  <dc:title>Present Perfect Tense</dc:title>
</cp:coreProperties>
</file>