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6E30-A7CD-425D-8149-08725892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DAE7-BEC7-4896-99BF-8D403627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0CD05-30B9-4465-9C77-7A04A417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857E31-B649-4B1C-98BF-50134F66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5E46BF-B96C-4D0B-BA80-CC435098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472F2F-989C-43A9-BD16-3DFD85B4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81A744-2DBF-4D23-85DA-1D70EC59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D5434B-67C0-48CC-A645-D0886217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531978-1244-438C-9406-9D23FCD5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B5678-0602-4723-BF87-2F6FCFC1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A1B1C2-C8F1-4673-B3AB-336A50C3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1DA7A-AA15-4784-AA9E-4250510F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FAC-D7F0-439E-B4E0-D29D11CE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1B9613-3B5C-42C0-ABA3-0195C2C6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F0C67D-9365-48EA-98BD-17B2574A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AA8148-6BFE-4934-9D3C-AEB845BF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9E8B77-0910-43BF-BB96-A38A27C2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B6BF16-52C3-4174-AD83-8E5C0D40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D4F5B8-8AA6-44F6-A181-CE0FF51A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7A08AC-EF5D-4E4F-B098-260BD915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80D638-3E6D-4CDF-BF4B-7E178A95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C6607F-7C7E-4133-9661-CAE752D4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C68108-8F59-4FAC-AEEA-99E0714B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58EC-72A9-42A3-9A58-C9BB5F49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FD3DD7-F620-4A60-B193-2CDF501D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1380C-93AA-4A53-A83A-00BCAACA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9C78A-6D22-405B-B68D-D539787B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E5D3A-EB55-479B-BDA8-4E560022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67AA6-62F9-4989-B2DC-09D1012E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BA0DA-D1E3-414C-BB0F-EEB91522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C5C3C-B323-4499-B955-28131C6E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11CCE-CC65-4E61-BB22-0C6C41AE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A98B3-1D8F-45B0-AA6E-859E4EC8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E105A-4727-4CCE-8F6C-8AAB4A5B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6367-798B-4308-A69D-AA22B8D5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5B528-6B74-46BF-A257-5EFFCDC1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6655A-6AF3-4067-ACE3-0D94562D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D9DB1-F4C2-410A-BB4E-2C870E65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624740-DC04-4F12-ABEE-8BE643B2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2E647-EEAA-4967-8A5B-8A44B868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B2AD73-8096-4880-B376-2300234D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7F1129-FF53-49A4-924C-87D7E5CA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BFD684-407D-4136-B04D-2DEA61AF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F709A-6F31-4481-855C-BF832A23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C995F-E54D-4A23-88D7-E58CE4FA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DDF7-AFE8-4F35-89D9-2F16D7C5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5EF887-1A34-4C03-9A8E-ACE716EA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944DB0-656D-44C5-888A-DA8CC5D3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30D4B3-4166-40D8-B560-8C09C623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ECDA98-E878-4B96-BBF5-71CA1832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4452D1-AD37-4CE5-8EB7-4358C70A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1175-C15C-4FF2-BC8F-51ED0553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4686-9692-4342-9360-CA17B81F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7D8D-239E-44C9-9ECD-3FA96A04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463B-8D4C-4CC6-B126-CB6936DB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CB3F-8DAE-446F-BA1F-A6CC918A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A40C-5753-4692-8120-6BD80237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5003-9BF6-45CC-9567-A9065013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77D9-26BD-41DD-9BD8-178BC539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2414-7DDB-4051-84CC-C5883FFF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4C65-050A-4B95-9722-EA65ECE2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7DEB-1338-4A55-A275-97A1A061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6719F-817A-431A-93E7-30B46875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228CE-BFB7-4547-A701-69F7B368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D37DA-A2C9-4DCD-A983-FCB7E334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405C9-29EB-4AD6-8474-A221644C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496B2-E34C-4EED-9B2C-0DCF7E98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83FB-0B9A-4416-83B9-DA499E1B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D793C-A3BD-4159-9133-FA58C12E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989C0-3ED6-4322-8E1F-0C4C7BBD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458B9-6DDF-4CF6-8701-BD49597D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D996C-43DB-4F1D-A15E-B9CD5500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DA550-8A13-4A93-B936-D560942C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5CD6D-AA90-48BA-9E8D-A7015114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8572C-BCB0-4E33-9C0C-870D756C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5F55D-9DD4-495F-A07E-0B30F75C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D133C-E5E0-4060-A494-D1BA914F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4257B-72CA-4B9C-9097-0053314D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067F-BB0A-48BA-A26B-AD05120A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42468-7FF0-4022-AEE2-C0D81407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0DD0B-A0A9-4EC3-909A-263F53F0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2B4B0-A2CF-46A9-92A3-BE2A1D90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5BF3C-FAC7-46E2-A967-568332F9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7CE72-6725-408D-AD20-54E7EDA2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45D04-0D90-49CA-B9D9-E8376512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F563D-5EF4-4AED-8EBE-9ED40207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5CC20-8D5B-4815-AC10-A29E704B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14495-D993-4D70-A253-187B4D53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FB394-1554-4891-8611-1A18A415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7422-F322-4379-8CA3-7D40933C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2435A-A551-4D5B-8C51-76EA65D6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3C8A9-F0CD-401A-A65B-F7E668A3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69AB7-F70F-4B27-AE36-3EAFA44A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90904-6B38-4C2B-9D47-25CAA8A6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4E64F-1B5C-4FEC-8AC8-98F44A9F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2DAE5-A08D-45E4-B958-847FE68F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BCDF6-C72D-4C70-8662-EA0B632C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4C314-E176-433A-B5F9-1A455D0C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B83F0-592F-4CAA-8472-0DECC392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C3E23-992E-455F-9E25-BC4749D5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81A7-B9EB-4C5D-855E-B0AB91D4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E020A-95AE-446C-9E3F-A833F0B6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D47C2-8542-407F-BA3E-1A457576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05E71-19A6-4A82-88CF-38CE1AD8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E8B7C-1FEC-4DA6-B6C8-50E67BAF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33400-41F1-4588-892D-6DACEFC3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190E3-0B23-402A-A56A-EAE5CB0C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95D47-D319-461D-89FE-9A4FABD1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0A9AA-589E-4751-AE23-89310248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B3100-2E34-4821-967B-F0FD89F1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129E5-B44F-4470-9EB2-480528F3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5FB9-15B0-438D-9773-D29A7CD3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D9FA2-88A1-4258-8900-163D5032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96F88-0FAE-4529-AFC6-5FE45803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0E44B-575A-42E3-830D-1F4CC308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6E66D-65A2-421A-888B-6440D92A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0A62D-64AD-4D46-8445-08FE8E87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2C031-1541-49FE-AE7E-873AD743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F65D2-35AE-4E0B-BD8C-7BE3ACA3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83AFF-8E4F-4073-AFDD-F9A63D9A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B7806-1FD8-4BC2-B6CB-48533DA1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EB2CA-44BF-48F2-9D67-B7562520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AAB2-AC26-45C2-AE75-BC67C699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8E0D5-52D0-42A0-B5B7-7799AF15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E9055-9EFC-486D-A341-70A903A7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F0F7E-F057-4054-B164-B253D2FE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78549-26E4-4D74-865F-97331A29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32800-5457-48AF-93D3-16DE6B72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9BEA4-1CC1-4AA0-9CFB-49D2B495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AB10E-6FE9-4B66-A43B-D41F9AF9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187BD-A65F-4C96-9EBB-8103C782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EC11A-B495-432D-A05C-75D92B37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55142-D8A1-48CF-912D-2F797847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3638-5CBB-4DB4-8731-8A901CC4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81DB0-4F62-4C85-A820-D1847911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A8BBA-307A-44A9-9648-E9F84EB4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096D3-6817-43C9-A347-60EA717F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36FA2-BB35-4E39-ADBB-B4F5595E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E6C81-7435-4C7E-B6EC-4F317053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E3C8A-2F22-4621-BB8A-627C9237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97582-58FD-4D51-A750-2F8BE23D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B93E8F-F36B-40CB-B621-22DF8242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DC3CD8-0681-475C-8651-65D15C63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319EC3-0843-436C-8969-DC2E0FF0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DBED-5434-41E1-A23F-5EEA854A8632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77A5-4BC4-468E-9F4D-94486485152C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4E4D-1640-4081-8ABE-6DA534436AD3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7BC0-BBFE-42EE-AE1A-FDA13865885A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B528-C0CF-4196-8A00-4AAEA4B949A3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4212-8F4C-46BD-BA10-479E504FDB8A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D64A-2CAB-43FF-9F3D-0E7D2A81C63C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9336-E837-474E-8740-C3B3CECC475B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69A1-D4AF-43CE-AE3A-5A5720D77063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027E-78F3-4969-AE7C-DF3E1AB571C2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60B5-FEDE-48D9-A49A-8033CCDF45DE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81C6-45DE-4901-A0F6-73AB13EA943D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HAPTER 9</a:t>
            </a: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AGE 260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esent Perfect Tens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Uses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Actions or situations that happened  at an unspecified time in the past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  <a:ea typeface="Arial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  <a:ea typeface="Arial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to Canada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Repeated actions ay unspecified times in the pas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  <a:ea typeface="Arial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  <a:ea typeface="Arial"/>
              </a:rPr>
              <a:t>seen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this building twic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. Actions or situations that began in the past and continue to the presen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ere since Januar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os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play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ennis for a long tim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 not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s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hem since last week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sn’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miss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a single clas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ime expressions with present perfec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For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it with an amount of tim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amples: for an hour, for a week, for 5 years, for a long tim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play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occer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for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five year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Since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it with a time or point in the past time. The phrase tells when an activity or a condition starte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amples: since 7:00, since Monday, since April 15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, since my birthda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y best friends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married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sinc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Januar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All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: use it for a complete time perio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amples: all day, all night, all week, all my lif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ya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at her friend’s house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all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wee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Alway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it for an action or a state that began in the past and continues to the presen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alway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want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o go skydiving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ways comes after have/has and the main verb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20:03:34Z</dcterms:created>
  <dc:creator>sony</dc:creator>
  <dc:description/>
  <dc:language>en-US</dc:language>
  <cp:lastModifiedBy>sony</cp:lastModifiedBy>
  <dcterms:modified xsi:type="dcterms:W3CDTF">2012-04-11T17:31:39Z</dcterms:modified>
  <cp:revision>2</cp:revision>
  <dc:subject/>
  <dc:title>Present Perfect Tense</dc:title>
</cp:coreProperties>
</file>