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1CCF-C269-4CB8-B116-2D4EDDA96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5305-333E-448A-B9A6-1CF5C55B6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9EF6FA-B832-4434-A10C-831530A19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261003-4E00-4A1C-A806-4C3BBF79D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D954AE-6FA7-447B-8901-D51965BA1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0F1088-A097-4B02-87F6-C6E91FFD0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F6A5D4-B836-4F38-B54B-909067965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1EBAB8-7EEE-4D53-BEF4-540CC5896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272EC7-B735-435E-B187-1DFA547BC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566B54-1A43-42F4-A79E-3C9315F3F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A34C38-AA82-4D7F-8C67-2DBA31857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4BA5ED-8717-4F8F-91A4-567B5D300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5439-7F52-4BB2-8FA9-EB9240A4F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4B70FA-EE88-479E-BD15-AE6B2AAE3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5C166E-16F1-41A6-B1D5-7E1C289D0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9792A6-7DBF-4291-9A2D-C5AF67D26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14C707-EAE6-4F4B-AC95-8BA624F59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516E5B-4C61-4ED8-B084-54062C91C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ED79AE-1E85-4CB4-AED9-3E9C25F38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B7943C-2AE1-4379-AAC0-772D88F8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9F0D94-71A4-4784-9F43-37EBF31D1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5A0701-335B-4D92-8371-92F984F7C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634029-5E35-4B66-A2A7-E1EB6F069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3E73-87AF-4303-B55E-2B91E53F8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EC8988-B9C4-40B6-BC25-60A4E3DA0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07A0F1-EDE7-4E72-AA1F-D8856976A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8D9467-58DA-4C3B-B8CD-3810292DE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C249C4-FC26-4332-988B-E6FF6ADBE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0C290B-9124-479B-B284-4BE643B33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0FB1D1-C3C5-428B-B6D6-D81EDF816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530959-21C5-49BC-9169-4BBFDDB53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EA94DA-87E8-490F-B87A-9AA1544CE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75DB36-28B5-4FDF-AE30-F16EDEC6D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9C6949-0D77-4707-9738-7A0993A84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7471E-4FAA-4D29-8742-BDCD94270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FB2B60-5BC1-4CAD-9833-1CCBF1FCD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3F1A39-2073-480B-84E8-47CDC5F17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623241-625E-4076-98AC-C7697C5E3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6F6F0E-6958-492B-B586-329AC0672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26F863-816C-4C8B-BF57-E8998B428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7174B6-E341-4499-AAAB-46A01E687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26A179-E210-4861-A705-7A6DB7A12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08E542-8B2A-4336-A704-D55862545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40D17B-E7A5-491B-BE43-EF6E577F7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B4ACDB-04D6-4AFF-974F-934277B6A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285F1-2F09-4858-B3EE-539DDA513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91D279-7B09-49CC-B5D1-9861E626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BF88CD-9150-41C2-9BE8-5F13AE02B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B133C6-B0D4-490C-8C24-05E94F578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09CF19-BACD-4FF6-92B7-4086BE2D9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934F68-9B4C-4428-852B-AF2D76042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86024-5A45-45EC-BC99-47366B470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78553-FA18-463B-A9C9-E42AE11CE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5AE49-11EC-44F9-848D-12251F549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ECA08-EF0D-4637-BF42-F6ACBB2F9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CAEFF-C2AA-4A27-A41E-25AE2443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5F4A-5F0D-4035-B379-050FDD1C1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4F759-1BFF-4CEB-914D-53F3FB34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0E67B-6B8C-4ABE-92DA-1313BFC0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AB188-3BBC-4CD9-B34F-108DAA358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AF25D-A1C0-4A67-87C6-6A7E07944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154D8-9447-4B26-B553-9C2B40621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E7245-559D-4B22-A322-EBFE7878F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BBD31-E2C2-4DDC-BBAA-AB5F6B15E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CA5FC-1DE9-4380-AD76-22E9742C7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AFB0C-DB3B-4F84-959C-BF42CB6D7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1A9A5-CA95-420B-A36A-45D438A4E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96DA-355E-4461-9BE2-578FC21FC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4F069-8443-441A-BA29-7E868F662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A5698-81E5-4A5B-9DB7-350B899C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7359C-BEE1-4A58-97B1-B23495F34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B1014-7080-4F79-8EE0-D5321585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71953-273D-4654-A779-7AA4924BD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BF202-DF80-4911-9D19-BC70A151A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63EFC-CE7A-414A-8A6D-C19640737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142FB-809A-4817-8A21-2ACD9C998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C5EE1-EE83-4C16-B90B-BA22696CD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DC607-C8DD-4EEB-B64D-5F0447CC4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CAB9-9CAA-4EEA-A38A-74BEACC56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77B63-9584-430E-8FA3-E757D8B37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FE26C-42DC-4869-AFA7-11883778C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3AD57-21EB-4144-BA3B-5A8C85017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45137-A6F5-433B-A21C-1094D583E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6A5A6-3EAE-4321-B168-2C108567D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EB4BC-F926-42B5-9740-9DE1F858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F8E01-17D5-421E-A7AF-6B7B1D573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5FFCA-9EF9-425F-BC7D-4D9365D42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C65C5-D429-4FA0-BCF4-61845A5FE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F4F7E8-0445-4A16-8D74-81CD71D67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12F2-6249-412C-850E-51BB5FB86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81B0D-9C71-487D-AF40-419C383F3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AA4763-F72F-4D9E-83F1-1E233008A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D79E92-5C92-45D1-A8F6-C7EE537B3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3B853C-1CD3-4C74-9065-56656D918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90FA0-8034-4A98-AC47-F0DF476AB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058FA4-DE6D-4225-99E2-65B1494F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F4F6C-3153-4AF5-A800-9E3C7764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68595-8FBB-457B-97ED-C726626D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404BD-A794-488D-BD1E-96E9F5078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3E5D4B-F492-4EA1-8704-8022EE419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5FBA-37ED-4AE8-89E4-F260AFD0B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19C30D-BD09-4202-977A-3F11331F0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B1F2DD-2406-47EA-B32D-2F508273E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6D966-7167-40CE-A4A6-F2DE2E452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A2A25E-E3B6-48E2-964F-FC9589A43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245DAD-5B1B-460C-BC46-BA61DCE71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5CDCA-D05F-4637-97C7-5DB4FECF4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377947-B757-40F9-984A-9F22063C5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2BFF57-B9CE-45CD-BB6E-C2F5C6BB4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309BB1-505E-4ADC-93F5-6DDAC3367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8CFBA-7288-4BFA-91FC-9FDC4C5E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8ACA-3AA8-4C5C-B7DC-2373B381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AD5033-01E4-420E-AEDD-3A23D5736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75C3EF-1628-461F-9954-BB549C59A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110092-259F-4239-8953-A8D4291A8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8AE13B-E32B-4D7B-A56A-3F60EC7A3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02BD53-48DE-4628-9B48-08FA3B74E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AAEE15-FC3C-414F-AC1D-F626260CC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F4171C-98CB-4E82-8EE7-F433AEA7B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C1705D-5911-4667-8EA8-5AC3BF4C1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88D2FE-7BF4-4C11-9C9E-DCDC0D124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501249-1923-4809-96E0-9657FC899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9D40-759C-4868-9792-1E2F1A50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30EE53-4E27-4A58-8417-945B4D35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822FEB-7505-4C24-8E08-4D490BFB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2CC4A5-8639-46E7-A678-0AAC26F3D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D7FE77-5D79-4ED3-A1B3-10C4B83AA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D13E99-8B4C-4D63-B473-4DD2E3A0C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F6524F-9ECB-4AD6-AF98-0E793F596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45563B-E5C0-43F8-8F87-1D4470AD3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49A638-565A-409A-9139-3120034D7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60301F-C6D6-45F5-95BC-EFA39099A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25AFC0-03EA-495D-9138-CD12817FE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674A-93D8-4094-AFAB-78F1E25B3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FE24AB-4931-4CF8-8D1F-BE29E862A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801FFF-D760-49C3-8AF5-85668060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F7B7A3-A91B-4BAC-BDA1-E9E2D51E1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1CD70E-012D-49EB-8CF9-617EF3C46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500256-3E17-4872-876F-C2B3AC5B4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6C98D3-D207-4F50-9528-9B7D332B4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214F11-CB97-433F-8B39-D6AF76E9C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F20FCB-4EDF-42D6-86F5-E92258A48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38B921-9487-4CBA-8EA7-13EA70E64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2900F5-CB42-42A6-8C43-318A9AAD3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52D94-B94F-463A-87CA-4A56ACAD6D97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3553B-6710-4B6A-A2B6-8E55B5D12AD7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3357F-CD34-48A8-AC6C-97DCB0414118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39679-56B7-427B-8CE6-45EA259D97F6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7D3AA-C773-4874-B7FF-5EB91FC1AB15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F6084-AD7D-4561-B2C6-24B95556C547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CCA71-9951-4DEA-B938-E37E86C15674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D6B0D-1C66-444F-A160-B5E87E82E8D0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63AFA-A9AF-4BA8-BE83-D923821CE7C1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3522B-FCD1-4501-BF74-55BAE3885365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5726D-1676-4E64-ADDB-58A3A28A5B8C}" type="slidenum">
              <a:rPr b="0" lang="ar-SA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BA4F0-44BC-4E6D-A700-74E6C60CB69A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CHAPTER 9</a:t>
            </a: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PAGE 260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Present Perfect Tense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Uses</a:t>
            </a: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1.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"/>
              </a:rPr>
              <a:t>Actions or situations that happened  at an unspecified time in the past: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"/>
              </a:rPr>
              <a:t>I 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  <a:ea typeface="Arial"/>
              </a:rPr>
              <a:t>have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en-US" sz="2700" spc="-1" strike="noStrike">
                <a:solidFill>
                  <a:srgbClr val="00b050"/>
                </a:solidFill>
                <a:latin typeface="Georgia"/>
                <a:ea typeface="Arial"/>
              </a:rPr>
              <a:t>been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"/>
              </a:rPr>
              <a:t> to Canada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2.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"/>
              </a:rPr>
              <a:t> Repeated actions ay unspecified times in the past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"/>
              </a:rPr>
              <a:t>I 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  <a:ea typeface="Arial"/>
              </a:rPr>
              <a:t>have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en-US" sz="2700" spc="-1" strike="noStrike">
                <a:solidFill>
                  <a:srgbClr val="00b050"/>
                </a:solidFill>
                <a:latin typeface="Georgia"/>
                <a:ea typeface="Arial"/>
              </a:rPr>
              <a:t>seen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"/>
              </a:rPr>
              <a:t>this building twice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3. Actions or situations that began in the past and continue to the present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e 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have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00b050"/>
                </a:solidFill>
                <a:latin typeface="Georgia"/>
              </a:rPr>
              <a:t>been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here since January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ose 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ha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00b050"/>
                </a:solidFill>
                <a:latin typeface="Georgia"/>
              </a:rPr>
              <a:t>played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tennis for a long time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 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have not </a:t>
            </a:r>
            <a:r>
              <a:rPr b="0" lang="en-US" sz="2700" spc="-1" strike="noStrike">
                <a:solidFill>
                  <a:srgbClr val="00b050"/>
                </a:solidFill>
                <a:latin typeface="Georgia"/>
              </a:rPr>
              <a:t>seen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them since last week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he 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hasn’t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00b050"/>
                </a:solidFill>
                <a:latin typeface="Georgia"/>
              </a:rPr>
              <a:t>missed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a single clas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6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ime expressions with present perfec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Georgia"/>
              </a:rPr>
              <a:t>For: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use it with an amount of time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xamples: for an hour, for a week, for 5 years, for a long time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 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have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00b050"/>
                </a:solidFill>
                <a:latin typeface="Georgia"/>
              </a:rPr>
              <a:t>played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soccer </a:t>
            </a:r>
            <a:r>
              <a:rPr b="0" lang="en-US" sz="2700" spc="-1" strike="noStrike">
                <a:solidFill>
                  <a:srgbClr val="a9432b"/>
                </a:solidFill>
                <a:latin typeface="Georgia"/>
              </a:rPr>
              <a:t>for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five year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Georgia"/>
              </a:rPr>
              <a:t>Since: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use it with a time or point in the past time. The phrase tells when an activity or a condition started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xamples: since 7:00, since Monday, since April 15</a:t>
            </a:r>
            <a:r>
              <a:rPr b="0" lang="en-US" sz="2700" spc="-1" strike="noStrike" baseline="30000">
                <a:solidFill>
                  <a:srgbClr val="000000"/>
                </a:solidFill>
                <a:latin typeface="Georgia"/>
              </a:rPr>
              <a:t>th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, since my birthday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y best friends 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have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00b050"/>
                </a:solidFill>
                <a:latin typeface="Georgia"/>
              </a:rPr>
              <a:t>been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married </a:t>
            </a:r>
            <a:r>
              <a:rPr b="0" lang="en-US" sz="2700" spc="-1" strike="noStrike">
                <a:solidFill>
                  <a:srgbClr val="a9432b"/>
                </a:solidFill>
                <a:latin typeface="Georgia"/>
              </a:rPr>
              <a:t>since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January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Georgia"/>
              </a:rPr>
              <a:t>All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: use it for a complete time period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xamples: all day, all night, all week, all my life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aya 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ha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00b050"/>
                </a:solidFill>
                <a:latin typeface="Georgia"/>
              </a:rPr>
              <a:t>been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at her friend’s house </a:t>
            </a:r>
            <a:r>
              <a:rPr b="0" lang="en-US" sz="2700" spc="-1" strike="noStrike">
                <a:solidFill>
                  <a:srgbClr val="a9432b"/>
                </a:solidFill>
                <a:latin typeface="Georgia"/>
              </a:rPr>
              <a:t>all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week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6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Georgia"/>
              </a:rPr>
              <a:t>Always: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use it for an action or a state that began in the past and continues to the present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e 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have </a:t>
            </a:r>
            <a:r>
              <a:rPr b="0" lang="en-US" sz="2700" spc="-1" strike="noStrike">
                <a:solidFill>
                  <a:srgbClr val="a9432b"/>
                </a:solidFill>
                <a:latin typeface="Georgia"/>
              </a:rPr>
              <a:t>alway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00b050"/>
                </a:solidFill>
                <a:latin typeface="Georgia"/>
              </a:rPr>
              <a:t>wanted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to go skydiving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lways comes after have/has and the main verb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9T20:03:34Z</dcterms:created>
  <dc:creator>sony</dc:creator>
  <dc:description/>
  <dc:language>en-US</dc:language>
  <cp:lastModifiedBy>sony</cp:lastModifiedBy>
  <dcterms:modified xsi:type="dcterms:W3CDTF">2012-04-11T17:31:39Z</dcterms:modified>
  <cp:revision>2</cp:revision>
  <dc:subject/>
  <dc:title>Present Perfect Tense</dc:title>
</cp:coreProperties>
</file>