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69B-1A90-45C3-ABF1-FD51D86F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7D7-88C5-4357-B252-11E0E0F2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61AC-3591-48EB-8DA9-B46CFFE5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A89-7B47-4B62-8881-1613FA1F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CA-4B6D-4239-B822-3BA5591F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D42-F82F-458E-80FE-1BEA871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13D-3B44-4ED0-ABC2-B72F263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5A2-ABE6-48CD-B425-BC794E3F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4BC-5597-4DBE-8B10-66B8018B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DBD-061B-48C4-9801-B2F7B29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7D3-14B7-4A6F-89B2-41EE9427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F1C-ED35-4D6B-9D05-3812F97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3791-D1F2-4559-8A8C-05A3DF91F7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2857/Freshwater.html" TargetMode="External"/><Relationship Id="rId2" Type="http://schemas.openxmlformats.org/officeDocument/2006/relationships/hyperlink" Target="http://science.jrank.org/pages/2857/Freshwater.html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ience.jrank.org/pages/1121/Calcium-Carbonate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imal Like-Protist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Protozoa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676160"/>
            <a:ext cx="8429400" cy="19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are unicellular heterotroph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trition by ingesting other organisms or dead organic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organisms ar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arasi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since they cannot actively capture food. They must live in an area of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host organ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as a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stant food supp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such as the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intestin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bloodstre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an anim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tozoans are grouped on the basis of  their modes of locomotion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14200" y="4786200"/>
            <a:ext cx="2286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seudop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psedupodia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moe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2643120" y="4786200"/>
            <a:ext cx="200016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agel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flagella such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Giard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6715080" y="4786200"/>
            <a:ext cx="20718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porozo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lasmodi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ose called sessi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4857840" y="4857840"/>
            <a:ext cx="1714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il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ve by cilia such as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8"/>
          <p:cNvCxnSpPr>
            <a:stCxn id="42" idx="2"/>
          </p:cNvCxnSpPr>
          <p:nvPr/>
        </p:nvCxnSpPr>
        <p:spPr>
          <a:xfrm flipH="1">
            <a:off x="1642680" y="3642840"/>
            <a:ext cx="2857680" cy="1001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2" idx="2"/>
          </p:cNvCxnSpPr>
          <p:nvPr/>
        </p:nvCxnSpPr>
        <p:spPr>
          <a:xfrm>
            <a:off x="4500000" y="3642840"/>
            <a:ext cx="32148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>
            <a:stCxn id="42" idx="2"/>
          </p:cNvCxnSpPr>
          <p:nvPr/>
        </p:nvCxnSpPr>
        <p:spPr>
          <a:xfrm flipH="1">
            <a:off x="3571560" y="3642840"/>
            <a:ext cx="92880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4"/>
          <p:cNvCxnSpPr>
            <a:stCxn id="42" idx="2"/>
          </p:cNvCxnSpPr>
          <p:nvPr/>
        </p:nvCxnSpPr>
        <p:spPr>
          <a:xfrm>
            <a:off x="4500000" y="3642840"/>
            <a:ext cx="1214640" cy="1072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seudopo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e.g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Amoeb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920" y="160020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e no wall outside of their cell membr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en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ir cell membrane (called pseudopodia) to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o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s well as, to 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engulf fo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live in water, dissolved nutrients from the environment can diffuse directly through their cell membran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live i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ne environments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lthough som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reshwat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pecies ex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shwater amoebas us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pump excess wat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 of the cel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rcRect l="47462" t="34426" r="10352" b="24560"/>
          <a:stretch/>
        </p:blipFill>
        <p:spPr>
          <a:xfrm>
            <a:off x="4357800" y="1214280"/>
            <a:ext cx="4786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13840" y="285840"/>
            <a:ext cx="564372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amoeb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produce asexuall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pinching off a part of the cell membrane to form a new organi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moebas may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m cys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environmental conditions become unfavorab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wo for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amoebas have shells,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aminifer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diolari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Foraminifer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ve a hard shell made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alcium carbo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adiolaria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ave shells mad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lic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o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ganisms hav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any tiny hol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ir shells, through which they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i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pseudopodi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rcRect l="47462" t="34426" r="10352" b="24560"/>
          <a:stretch/>
        </p:blipFill>
        <p:spPr>
          <a:xfrm>
            <a:off x="6072120" y="0"/>
            <a:ext cx="2786040" cy="5857920"/>
          </a:xfrm>
          <a:prstGeom prst="rect">
            <a:avLst/>
          </a:prstGeom>
          <a:ln w="0">
            <a:noFill/>
          </a:ln>
        </p:spPr>
      </p:pic>
      <p:sp>
        <p:nvSpPr>
          <p:cNvPr id="56" name="Content Placeholder 2"/>
          <p:cNvSpPr/>
          <p:nvPr/>
        </p:nvSpPr>
        <p:spPr>
          <a:xfrm>
            <a:off x="285840" y="4071960"/>
            <a:ext cx="564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he pseudopodium traps a bit of food, the cell membrane closes around the meal, this forms a food vacuol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gestive enzymes are secreted into the food vacuole, which break down the food. The cell then absorbs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tri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iliated Protozoa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 e.g Parameciu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6880" y="1213920"/>
            <a:ext cx="3871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ove by the  cilia covering their bodi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y can be found almost anywhere, in freshwater or marine environment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bably the best-known ciliate is the organism </a:t>
            </a:r>
            <a:r>
              <a:rPr b="1" i="1" lang="en-US" sz="1300" spc="-1" strike="noStrike">
                <a:solidFill>
                  <a:srgbClr val="000000"/>
                </a:solidFill>
                <a:latin typeface="Calibri"/>
              </a:rPr>
              <a:t>Paramecium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ontent Placeholder 2"/>
          <p:cNvSpPr/>
          <p:nvPr/>
        </p:nvSpPr>
        <p:spPr>
          <a:xfrm>
            <a:off x="71280" y="2214720"/>
            <a:ext cx="4643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many well-developed organell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amecia have two nuclei, a macronucleus and a micronucleu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larger ma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ost of the metabolic functions of the cel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500" spc="-1" strike="noStrike">
                <a:solidFill>
                  <a:srgbClr val="c00000"/>
                </a:solidFill>
                <a:latin typeface="Calibri"/>
              </a:rPr>
              <a:t>smaller micronucleu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rols much of the pathways involved in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xual reproduction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ousands of cilia appear through the pellicle, a tough, protective covering surrounding the cell membran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39844" t="27834" r="15038" b="20168"/>
          <a:stretch/>
        </p:blipFill>
        <p:spPr>
          <a:xfrm>
            <a:off x="4786200" y="1500120"/>
            <a:ext cx="4357800" cy="4786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Paramecium [Credit: John J. Lee]"/>
          <p:cNvPicPr/>
          <p:nvPr/>
        </p:nvPicPr>
        <p:blipFill>
          <a:blip r:embed="rId2"/>
          <a:stretch/>
        </p:blipFill>
        <p:spPr>
          <a:xfrm>
            <a:off x="1857240" y="5415120"/>
            <a:ext cx="135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42920" y="785880"/>
            <a:ext cx="5000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Calibri"/>
              </a:rPr>
              <a:t>Fee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enters the cell through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ral groo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ined with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li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o "sweep" the food into the cell), where it moves to th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ulle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which packages the meal into a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 vacuo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zymes released into the food vacuole break down the food, and the nutrients are absorbed into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tes are removed from the cell through a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al po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ontractile vacuole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mp out excess water, since paramecia live in freshwater surround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191200" y="1000080"/>
            <a:ext cx="39528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319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ecia usually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produce asex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en the cell divides into two new organisms after all of the organelles have been duplicat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ditions ar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unfavorab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however, the organism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an reproduce sexu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form of sexual reproduction is call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jug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conjugation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paramecia jo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t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oral gro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ere they exchange genetic materi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then separate and divide asex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2:29:36Z</dcterms:created>
  <dc:creator>DELL</dc:creator>
  <dc:description/>
  <dc:language>en-US</dc:language>
  <cp:lastModifiedBy>DTK</cp:lastModifiedBy>
  <dcterms:modified xsi:type="dcterms:W3CDTF">2012-11-10T04:57:33Z</dcterms:modified>
  <cp:revision>10</cp:revision>
  <dc:subject/>
  <dc:title>Animal Like-Protista (Protozoa)</dc:title>
</cp:coreProperties>
</file>