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37A-CC5D-447F-80A7-0C1F2839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08C-39F5-4BE7-A0B3-C56D1B23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657-CD39-46CB-9E37-3527086B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542-58D5-4D1C-A99B-199374E6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C9E-476F-4CC4-B56A-9D61E46E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F5F-08C4-4377-88B3-39481137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31A-BA36-4600-9877-F00A57C4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8B6-6F9D-4A57-B6F0-09398BDE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591-17DD-4688-A06E-664ADC92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180-C4A0-4D3E-89B2-8FD93D6F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6A6-CF81-4223-A4F9-B38386B1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860-9A33-434D-B485-5696A57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839C-2A39-4B95-94B9-489EC28A777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ience.jrank.org/pages/2857/Freshwater.html" TargetMode="External"/><Relationship Id="rId2" Type="http://schemas.openxmlformats.org/officeDocument/2006/relationships/hyperlink" Target="http://science.jrank.org/pages/2857/Freshwater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ience.jrank.org/pages/1121/Calcium-Carbonate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imal Like-Protist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Protozoa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480" y="1676160"/>
            <a:ext cx="8429400" cy="19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are unicellular heterotroph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trition by ingesting other organisms or dead organic materi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organisms ar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parasit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since they cannot actively capture food. They must live in an area of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ost organis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as a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onstant food supp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such as th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intestin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loodstrea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an anim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tozoans are grouped on the basis of  their modes of locomotion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214200" y="4786200"/>
            <a:ext cx="2286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seudop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e by psedupodia such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moeb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2643120" y="4786200"/>
            <a:ext cx="20001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agel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e by flagella such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Giardi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6715080" y="4786200"/>
            <a:ext cx="20718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orozo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ch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lasmodi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ose called sessi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4857840" y="4857840"/>
            <a:ext cx="17143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ili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e by cilia such as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c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8"/>
          <p:cNvCxnSpPr>
            <a:stCxn id="42" idx="2"/>
          </p:cNvCxnSpPr>
          <p:nvPr/>
        </p:nvCxnSpPr>
        <p:spPr>
          <a:xfrm flipH="1">
            <a:off x="1642680" y="3642840"/>
            <a:ext cx="2857680" cy="1001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10"/>
          <p:cNvCxnSpPr>
            <a:stCxn id="42" idx="2"/>
          </p:cNvCxnSpPr>
          <p:nvPr/>
        </p:nvCxnSpPr>
        <p:spPr>
          <a:xfrm>
            <a:off x="4500000" y="3642840"/>
            <a:ext cx="321480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Straight Arrow Connector 12"/>
          <p:cNvCxnSpPr>
            <a:stCxn id="42" idx="2"/>
          </p:cNvCxnSpPr>
          <p:nvPr/>
        </p:nvCxnSpPr>
        <p:spPr>
          <a:xfrm flipH="1">
            <a:off x="3571560" y="3642840"/>
            <a:ext cx="92880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14"/>
          <p:cNvCxnSpPr>
            <a:stCxn id="42" idx="2"/>
          </p:cNvCxnSpPr>
          <p:nvPr/>
        </p:nvCxnSpPr>
        <p:spPr>
          <a:xfrm>
            <a:off x="4500000" y="3642840"/>
            <a:ext cx="121464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seudopod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e.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Amoeb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0920" y="160020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e no wall outside of their cell membran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tens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ir cell membrane (called pseudopodia) to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o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s well as, to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engulf foo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oebas live in water, dissolved nutrients from the environment can diffuse directly through their cell membran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amoebas live i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ine environments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lthough som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reshwat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pecies exis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shwater amoebas us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ontractile vacuol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pump excess wat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 of the cel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3"/>
          <a:srcRect l="47462" t="34426" r="10352" b="24560"/>
          <a:stretch/>
        </p:blipFill>
        <p:spPr>
          <a:xfrm>
            <a:off x="4357800" y="1214280"/>
            <a:ext cx="4786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13840" y="285840"/>
            <a:ext cx="5643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amoebas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eproduce asexuall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pinching off a part of the cell membrane to form a new organis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oebas may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form cyst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environmental conditions become unfavora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wo for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amoebas have shells,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foraminifera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adiolaria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Foraminifera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ave a hard shell made of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lcium carbon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adiolaria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ave shells made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lic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o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ganisms hav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many tiny hol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ir shells, through which they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t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ir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pseudopodi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rcRect l="47462" t="34426" r="10352" b="24560"/>
          <a:stretch/>
        </p:blipFill>
        <p:spPr>
          <a:xfrm>
            <a:off x="6072120" y="0"/>
            <a:ext cx="2786040" cy="585792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2"/>
          <p:cNvSpPr/>
          <p:nvPr/>
        </p:nvSpPr>
        <p:spPr>
          <a:xfrm>
            <a:off x="285840" y="4071960"/>
            <a:ext cx="5643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c00000"/>
                </a:solidFill>
                <a:uFillTx/>
                <a:latin typeface="Calibri"/>
              </a:rPr>
              <a:t>Feeding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the pseudopodium traps a bit of food, the cell membrane closes around the meal, this forms a food vacuo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estive enzymes are secreted into the food vacuole, which break down the food. The cell then absorbs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utrie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iliated Protozoa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e.g Parameciu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6880" y="1213920"/>
            <a:ext cx="3871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ove by the  cilia covering their bodie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ey can be found almost anywhere, in freshwater or marine environment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robably the best-known ciliate is the organism </a:t>
            </a:r>
            <a:r>
              <a:rPr b="1" i="1" lang="en-US" sz="1300" spc="-1" strike="noStrike">
                <a:solidFill>
                  <a:srgbClr val="000000"/>
                </a:solidFill>
                <a:latin typeface="Calibri"/>
              </a:rPr>
              <a:t>Paramecium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tent Placeholder 2"/>
          <p:cNvSpPr/>
          <p:nvPr/>
        </p:nvSpPr>
        <p:spPr>
          <a:xfrm>
            <a:off x="71280" y="2214720"/>
            <a:ext cx="46436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amecia have many well-developed organelle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amecia have two nuclei, a macronucleus and a micronucleus.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c00000"/>
                </a:solidFill>
                <a:latin typeface="Calibri"/>
              </a:rPr>
              <a:t>larger macronucleus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rols most of the metabolic functions of the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c00000"/>
                </a:solidFill>
                <a:latin typeface="Calibri"/>
              </a:rPr>
              <a:t>smaller micronucleus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rols much of the pathways involved in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xual reproductio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ousands of cilia appear through the pellicle, a tough, protective covering surrounding the cell membran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39844" t="27834" r="15038" b="20168"/>
          <a:stretch/>
        </p:blipFill>
        <p:spPr>
          <a:xfrm>
            <a:off x="4786200" y="1500120"/>
            <a:ext cx="4357800" cy="4786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Paramecium [Credit: John J. Lee]"/>
          <p:cNvPicPr/>
          <p:nvPr/>
        </p:nvPicPr>
        <p:blipFill>
          <a:blip r:embed="rId2"/>
          <a:stretch/>
        </p:blipFill>
        <p:spPr>
          <a:xfrm>
            <a:off x="1857240" y="5415120"/>
            <a:ext cx="1357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42920" y="785880"/>
            <a:ext cx="500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Calibri"/>
              </a:rPr>
              <a:t>Fee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d enters the cell through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ral groo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ined with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li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o "sweep" the food into the cell), where it moves to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ulle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which packages the meal into a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ood vacuo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zymes released into the food vacuole break down the food, and the nutrients are absorbed into th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tes are removed from the cell through a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nal po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tractile vacuol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mp out excess water, since paramecia live in freshwater surround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191200" y="1000080"/>
            <a:ext cx="39528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3319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ecia usuall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produce asexual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when the cell divides into two new organisms after all of the organelles have been duplic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conditions ar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unfavor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owever, the organism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 reproduce sexual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form of sexual reproduction is calle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jug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conjugation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wo paramecia jo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ral groo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where they exchange genetic materi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hen separate and divide asex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2:29:36Z</dcterms:created>
  <dc:creator>DELL</dc:creator>
  <dc:description/>
  <dc:language>en-US</dc:language>
  <cp:lastModifiedBy>DTK</cp:lastModifiedBy>
  <dcterms:modified xsi:type="dcterms:W3CDTF">2012-11-10T04:57:33Z</dcterms:modified>
  <cp:revision>10</cp:revision>
  <dc:subject/>
  <dc:title>Animal Like-Protista (Protozoa)</dc:title>
</cp:coreProperties>
</file>