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619-ACBC-40B2-BE9F-45F7B722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F3A-3CE3-4EBA-B150-E4EACF11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DA3-C431-4987-9CA7-7D362E2E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8B0-90B3-4CCB-BC4F-F1D80539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9E9-DC44-4166-B47F-28C0DFE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9CC-2C6D-438F-9571-87049A2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39E-956E-496E-B3F7-DD222D25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8B8-EFD2-4291-8E01-BB794987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B88-06CA-46EC-B9E0-1963B02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45F-C00C-4D5D-B4E2-91164E6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1F8-A0F2-477F-9948-168DBA83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78B-E04B-4FF8-AB1C-3C99A420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783-8AB1-4B02-ADEE-9C3AB76BE3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5033/Parasit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785960"/>
            <a:ext cx="55004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organisms are sessile, so they cannot capture pre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asit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their name suggests, many of these organisms produce spores, reproductive cells that can give rise to a new organis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0" descr="Go to fullsize image"/>
          <p:cNvPicPr/>
          <p:nvPr/>
        </p:nvPicPr>
        <p:blipFill>
          <a:blip r:embed="rId2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3:30:53Z</dcterms:created>
  <dc:creator>DELL</dc:creator>
  <dc:description/>
  <dc:language>en-US</dc:language>
  <cp:lastModifiedBy>DELL</cp:lastModifiedBy>
  <dcterms:modified xsi:type="dcterms:W3CDTF">2012-11-09T13:42:02Z</dcterms:modified>
  <cp:revision>1</cp:revision>
  <dc:subject/>
  <dc:title>Sporozoans Protozoa e.g Plasmodium</dc:title>
</cp:coreProperties>
</file>