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AC3-F527-4B20-BFD2-DC7BFD1A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ADF3-DA56-4F23-83D2-4FEC9755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F86-C75D-4CD7-A61A-F7F0060D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89A-23D3-4D7C-A328-7F828D23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449-7095-4C55-8212-00DE1B00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E150-5B44-4952-AECD-2BE5596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6E1-C451-4E47-97AF-DE30D92B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1010-0888-4306-A2FC-A8CD7A9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2CFB-FE22-4036-A718-F410D63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F8F5-1071-4EA5-9654-1231F4A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16B-F4A5-49DB-8067-F99C9C34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781F-5743-40F2-A964-3C9F1F65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01B3-F2A5-405A-BBAB-076EF13335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5033/Parasites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orozoans Protozo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.g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lasmod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785960"/>
            <a:ext cx="55004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se organisms are sessile, so they cannot capture pre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rozoans are all </a:t>
            </a:r>
            <a:r>
              <a:rPr b="0" lang="en-U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arasit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Plasmodium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their name suggests, many of these organisms produce spores, reproductive cells that can give rise to a new organis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orozoans typically have complex life cycles, as they usually live in more than one host in their lifetim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0" descr="Go to fullsize image"/>
          <p:cNvPicPr/>
          <p:nvPr/>
        </p:nvPicPr>
        <p:blipFill>
          <a:blip r:embed="rId2"/>
          <a:stretch/>
        </p:blipFill>
        <p:spPr>
          <a:xfrm>
            <a:off x="5857920" y="1928880"/>
            <a:ext cx="2814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14680" y="0"/>
            <a:ext cx="59292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3:30:53Z</dcterms:created>
  <dc:creator>DELL</dc:creator>
  <dc:description/>
  <dc:language>en-US</dc:language>
  <cp:lastModifiedBy>DELL</cp:lastModifiedBy>
  <dcterms:modified xsi:type="dcterms:W3CDTF">2012-11-09T13:42:02Z</dcterms:modified>
  <cp:revision>1</cp:revision>
  <dc:subject/>
  <dc:title>Sporozoans Protozoa e.g Plasmodium</dc:title>
</cp:coreProperties>
</file>