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13A1-2951-4BE9-82C0-54C3106B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B81-1749-422D-8D1E-8E067E47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097-F787-42CA-8908-827BE906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BE6-ABD1-4851-88FF-FB37D9692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545-7EA2-4DED-9506-D2E5C57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C22-C4C5-48E3-8080-B4C309B4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C0B-1355-42E7-A662-FF89D732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BF3-A34B-4554-99BD-613634DA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DF0-7BC3-4F46-ADD1-A44C1855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1883-A474-4EBE-B7BA-E891F80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53B-C2DC-454C-ABE7-DCC872F9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282D-9216-496C-B717-695A5531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3F6A-C4C8-424B-9E34-53A1F91AEFB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INGDOM   FUNG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1785960"/>
            <a:ext cx="850104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anists usually recogniz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wo divis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fung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428760" y="3571920"/>
            <a:ext cx="3357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Myxomyco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slime moul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ck cell walls during most of their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286240" y="3571920"/>
            <a:ext cx="27147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Eumyc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rue fung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sess rigid cell 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85880" y="550080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is course well give our attention to the true fungi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8"/>
          <p:cNvCxnSpPr/>
          <p:nvPr/>
        </p:nvCxnSpPr>
        <p:spPr>
          <a:xfrm flipH="1">
            <a:off x="2428200" y="2642040"/>
            <a:ext cx="207252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10"/>
          <p:cNvCxnSpPr/>
          <p:nvPr/>
        </p:nvCxnSpPr>
        <p:spPr>
          <a:xfrm>
            <a:off x="4500720" y="2642760"/>
            <a:ext cx="200088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357720" y="501840"/>
            <a:ext cx="28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 EUMYC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 TRUE FUNGI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85840" y="1258920"/>
            <a:ext cx="857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his group of organisms is characterized by the following character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al body or thallus is known as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mycel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is composed threads known as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hyph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sept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non-sept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 wall in the majority of fungi i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chit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ellulose is usually absent from walls of most fung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ngi are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heterotroph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i are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aerob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serve food material is usually 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glyco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ut never sta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th regard to the mode of nutrition, fungi can be divided into the three following typ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arasi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g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Symbio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85840" y="42876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A) Parasitic fungi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two typ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Obligate paras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live and grow only on their living host, e.g. </a:t>
            </a:r>
            <a:r>
              <a:rPr b="0" i="1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Puccinia gramini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 wh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acultative paras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live usually as saprophytes on dead organic matter in the soil, but they can parasitize their hosts if found nearby them, e.g. </a:t>
            </a:r>
            <a:r>
              <a:rPr b="0" i="1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Fusarium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 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which causes with disease to many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85840" y="37861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arasitic fungi can infect not only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higher pl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but als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nse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uch as house flies, which can be killed by such infection. Some skin diseases of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hum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due to fungal in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14200" y="11430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B) Saprophytic fung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also divided into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ligate saproph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live only saprophyically on dead organic matter, i.e. they do not infect living plants or animals, e.g. </a:t>
            </a:r>
            <a:r>
              <a:rPr b="0" i="1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Rhizop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Facultative saproph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usually live parasitically, but they can behave a saprophytes under certain conditions, e.g.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Smut fungi.   </a:t>
            </a:r>
            <a:r>
              <a:rPr b="0" lang="ar-SA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7030a0"/>
                </a:solidFill>
                <a:latin typeface="Arial"/>
                <a:cs typeface="Times New Roman"/>
              </a:rPr>
              <a:t>فطريات التفحم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AutoNum type="arabicPeriod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57168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C) Symbiotic fung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live in association with other organisms and there is a mutual benefit between the tw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00040" y="1714680"/>
            <a:ext cx="314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ich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 association of a fungus and an alga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071960" y="1785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Mycorrhiz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ngi symbiotically with roots of higher pla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85840" y="353232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)    Ectophytic mycorrhi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us forms an external investment of the root in the form of a crown of hyphae without penetrating into the cells other those of the epidermi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929120" y="3571920"/>
            <a:ext cx="371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B)    Endophytic mycorrhiz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ungal hyphae penetrate the inner parts of the roots and have little connection with the mycelium in the so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28760" y="599760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members of Basidiomyceteae are capable of forming mycorrhiza on the roots of orchi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0"/>
          <p:cNvCxnSpPr>
            <a:stCxn id="55" idx="2"/>
          </p:cNvCxnSpPr>
          <p:nvPr/>
        </p:nvCxnSpPr>
        <p:spPr>
          <a:xfrm flipH="1">
            <a:off x="2285280" y="2709720"/>
            <a:ext cx="407268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Straight Arrow Connector 12"/>
          <p:cNvCxnSpPr>
            <a:stCxn id="55" idx="2"/>
          </p:cNvCxnSpPr>
          <p:nvPr/>
        </p:nvCxnSpPr>
        <p:spPr>
          <a:xfrm>
            <a:off x="6357960" y="2709720"/>
            <a:ext cx="643320" cy="720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3:30:53Z</dcterms:created>
  <dc:creator>DELL</dc:creator>
  <dc:description/>
  <dc:language>en-US</dc:language>
  <cp:lastModifiedBy>DTK</cp:lastModifiedBy>
  <dcterms:modified xsi:type="dcterms:W3CDTF">2013-04-01T03:46:51Z</dcterms:modified>
  <cp:revision>8</cp:revision>
  <dc:subject/>
  <dc:title>Sporozoans Protozoa e.g Plasmodium</dc:title>
</cp:coreProperties>
</file>