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1FD-B3E3-4292-A981-897E6B5F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830-DA27-4DE2-A86A-34138D8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99D-CDBD-4E5A-B7FB-060CCCA4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1DB-40CA-41FC-99EC-42F94358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2BF-37E0-48D9-A1AF-11E7870E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209-926D-4492-9B2A-ECD3BA1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13A-54D8-4465-A41B-3BE17C3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B8D-11B7-444E-9E98-6EC0A2F6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C81-3C3E-48DD-ADF1-0A1DD86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2AC-B21A-4562-97C8-57D7807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F6F-6B44-46E0-A1CE-744E944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5C1-9CEF-4CC4-9AAB-D92AE8A4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3CF-F640-4AF1-B5A3-DFB0BA4226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   FUNG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7859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anists usually recogniz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divis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ung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428760" y="3571920"/>
            <a:ext cx="3357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yxomyco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lime moul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cell walls during most of their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286240" y="357192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umy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rue fun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 rigid cell 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85880" y="550080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is course well give our attention to the true fungi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8"/>
          <p:cNvCxnSpPr/>
          <p:nvPr/>
        </p:nvCxnSpPr>
        <p:spPr>
          <a:xfrm flipH="1">
            <a:off x="2428200" y="2642040"/>
            <a:ext cx="207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10"/>
          <p:cNvCxnSpPr/>
          <p:nvPr/>
        </p:nvCxnSpPr>
        <p:spPr>
          <a:xfrm>
            <a:off x="4500720" y="2642760"/>
            <a:ext cx="20008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357720" y="501840"/>
            <a:ext cx="28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 EUMYC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TRUE FUNGI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85840" y="1258920"/>
            <a:ext cx="857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his group of organisms is characterized by the following character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al body or thallus is known as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mycel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is composed threads known as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hyph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sept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non-sept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wall in the majority of fungi i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chit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ulose is usually absent from walls of most fung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gi are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heterotroph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i are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aerob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serve food material is usually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ut never st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regard to the mode of nutrition, fungi can be divided into the three following typ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arasi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ymbio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85840" y="4287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A) Parasitic fungi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two typ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bligate paras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and grow only on their living host, e.g. </a:t>
            </a:r>
            <a:r>
              <a:rPr b="0" i="1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Puccinia gramini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 wh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cultative paras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usually as saprophytes on dead organic matter in the soil, but they can parasitize their hosts if found nearby them, e.g. </a:t>
            </a:r>
            <a:r>
              <a:rPr b="0" i="1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Fusarium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which causes with disease to many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85840" y="3786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rasitic fungi can infect not onl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highe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but als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ns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ch as house flies, which can be killed by such infection. Some skin disease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hum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due to fungal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1143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B) Saprophytic fung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also divided into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ligate saproph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only saprophyically on dead organic matter, i.e. they do not infect living plants or animals, e.g.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Rhizop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acultative saproph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usually live parasitically, but they can behave a saprophytes under certain conditions, e.g.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Smut fungi.   </a:t>
            </a:r>
            <a:r>
              <a:rPr b="0" lang="ar-SA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7030a0"/>
                </a:solidFill>
                <a:latin typeface="Arial"/>
                <a:cs typeface="Times New Roman"/>
              </a:rPr>
              <a:t>فطريات التفحم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57168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) Symbiotic fung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live in association with other organisms and there is a mutual benefit between the tw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00040" y="171468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ich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association of a fungus and an alga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071960" y="1785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ycorrhiz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gi symbiotically with roots of higher 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85840" y="35323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)    Ectophytic mycorrhi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us forms an external investment of the root in the form of a crown of hyphae without penetrating into the cells other those of the epidermi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929120" y="357192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)    Endophytic mycorrhi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al hyphae penetrate the inner parts of the roots and have little connection with the mycelium in the s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28760" y="59976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members of Basidiomyceteae are capable of forming mycorrhiza on the roots of orchi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0"/>
          <p:cNvCxnSpPr>
            <a:stCxn id="55" idx="2"/>
          </p:cNvCxnSpPr>
          <p:nvPr/>
        </p:nvCxnSpPr>
        <p:spPr>
          <a:xfrm flipH="1">
            <a:off x="2285280" y="2709720"/>
            <a:ext cx="407268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>
            <a:stCxn id="55" idx="2"/>
          </p:cNvCxnSpPr>
          <p:nvPr/>
        </p:nvCxnSpPr>
        <p:spPr>
          <a:xfrm>
            <a:off x="6357960" y="2709720"/>
            <a:ext cx="64332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3:30:53Z</dcterms:created>
  <dc:creator>DELL</dc:creator>
  <dc:description/>
  <dc:language>en-US</dc:language>
  <cp:lastModifiedBy>DTK</cp:lastModifiedBy>
  <dcterms:modified xsi:type="dcterms:W3CDTF">2013-04-01T03:46:51Z</dcterms:modified>
  <cp:revision>8</cp:revision>
  <dc:subject/>
  <dc:title>Sporozoans Protozoa e.g Plasmodium</dc:title>
</cp:coreProperties>
</file>