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36E-DA91-4D90-8289-0DB9E9FD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8AD-223B-4C01-8B58-FCEEBB8C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2E6-7EAE-4484-B393-C1DEDB43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E3EC-F26B-416A-BB20-3B0ED328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10C7-4659-4FA2-AFCF-49BF4F5A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84F0-6CA4-4DBB-976A-66B66678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05DA-2F75-432D-9DE9-0F1DA4DA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53B-F181-4277-AD78-08B5BE66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8B3E-9553-4ED5-B2F3-1C83CB34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993-2808-4F0E-86FD-6AB3634E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8F8-7D96-4D55-A52E-051060BB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FD77-DE23-4E17-A035-17B25412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72D9-47E8-4675-82DB-4A69C2D72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mp.berkeley.edu/history/hooke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guardians.com/Microbiology/gm_mbf01.ht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2920" y="1285560"/>
            <a:ext cx="652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f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biology is the branch of science dealing with microorganisms. These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acteriology: the study of bacte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ycology: the study of fung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rotozoology: the study of protozo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hycology: the study of alg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ology: the study of 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28840" y="1357200"/>
            <a:ext cx="6400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ortance of Micro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n applied sci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health and medic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i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to protect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technology indus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istory of Microbiolog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840" y="2214720"/>
            <a:ext cx="64008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u Bakr El-Raz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He was the first scientist difference between the "smallpox"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"measles", and presented a detailed description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diseases, and symptoms of ea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u El-kasim El-Zhraw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He is Arabian Scientist, excelled in the field of medic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He wrote a medical encyclopedia and wrote books on open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scess, symptoms and treatment, which are the microbia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eases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97040" y="170172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abian Sci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28840" y="2142720"/>
            <a:ext cx="640080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bert  Hook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In 1660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obert Hook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as the first person to use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co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He studied plant sections and found tiny cylindrical-like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uctures he called cells .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He published a book Micrograph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95960" y="114300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eign Sci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28440" y="1773000"/>
            <a:ext cx="7358040" cy="36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ello Malpighi and Antonie Van Leeuwenhoe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In Europe,1660s, Marcello Malpighi and Antonie Van             Leeuwenhoek used microscopes to see animal and plant              t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Van Leeuwenhoek examined a drop of rain water and noticed it  contained tiny creatures  he called "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imalc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.  These    were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acter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Van Leeuwenhoek became the first person to study </a:t>
            </a:r>
            <a:r>
              <a:rPr b="0" lang="en-US" sz="1600" spc="-1" strike="noStrike">
                <a:solidFill>
                  <a:srgbClr val="00b0f0"/>
                </a:solidFill>
                <a:latin typeface="Arial"/>
              </a:rPr>
              <a:t>bac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03280" y="1773360"/>
            <a:ext cx="6400800" cy="33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dward Je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In 1796 Jenner injected James Phipps with cowpox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The boy did not develop smallpo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Jenner became famous as a result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It was from this beginning that the science of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mmuniz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develop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85920" y="1285920"/>
            <a:ext cx="6400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erdinand J Coh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He in 1875 effectively founded the science of                    bacteriolog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His main contribution was the classification of bacteria,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he used  the term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acill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3280" y="1213920"/>
            <a:ext cx="640080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ouis Pasteu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He developed the germ theory of disease i.e wea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bes when injected in the body can control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ase (Antibody and antige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He also showed that fermentation - a process used 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aking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s caused by microorganis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Developed vaccinations for Rabies and Chicken chol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He developed the process for sterilizing milk and this wa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d after him -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asteuriz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09:23:21Z</dcterms:created>
  <dc:creator>Baba</dc:creator>
  <dc:description/>
  <dc:language>en-US</dc:language>
  <cp:lastModifiedBy>DTK</cp:lastModifiedBy>
  <dcterms:modified xsi:type="dcterms:W3CDTF">2013-01-28T06:05:45Z</dcterms:modified>
  <cp:revision>14</cp:revision>
  <dc:subject/>
  <dc:title>Microbiology</dc:title>
</cp:coreProperties>
</file>