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057-6316-481B-B5D8-2F267F15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C9E-79DE-4CBA-941D-B0A6A0DF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A27-D04E-40A3-A341-7ED5318A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181-C2FF-4619-AB35-991A22A5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347-2B36-4A38-9E9D-BB82A0DE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EAB-CA8C-4D41-95D1-D01AC61F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CCE-AECC-472F-882F-F453E931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A29-4EC8-4476-8C04-D33F3FA4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12F-90F1-4FD1-B634-360E846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52F-CF7A-4BC9-9126-A0FA76C2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561-8E1E-4E69-A5D2-639D1D72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568-2607-4600-9F0D-C4B56637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6148-1B68-4FE7-9E7C-34EB463F9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mp.berkeley.edu/history/hooke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uardians.com/Microbiology/gm_mbf01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1285560"/>
            <a:ext cx="652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f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biology is the branch of science dealing with microorganisms. These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acteriology: the study of bacte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ycology: the study of fung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tozoology: the study of protozo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cology: the study of alg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ology: the study of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8840" y="135720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ortance of Micro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n applied sci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health and medic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o protect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technology indus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story of Microbiolog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840" y="2214720"/>
            <a:ext cx="6400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u Bakr El-Raz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He was the first scientist difference between the "smallpox"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"measles", and presented a detailed 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diseases, and symptoms of ea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u El-kasim El-Zhraw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He is Arabian Scientist, excelled in the field of medic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He wrote a medical encyclopedia and wrote books on open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scess, symptoms and treatment, which are the microbia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ases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97040" y="170172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abian 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28840" y="2142720"/>
            <a:ext cx="64008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bert  Hook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n 1660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obert Hook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the first person to us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c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He studied plant sections and found tiny cylindrical-like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es he called cells .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He published a book Micrograph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95960" y="114300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ign 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28440" y="1773000"/>
            <a:ext cx="735804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ello Malpighi and Antonie Van Leeuwenhoe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n Europe,1660s, Marcello Malpighi and Antonie Van             Leeuwenhoek used microscopes to see animal and plant              t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Van Leeuwenhoek examined a drop of rain water and noticed it  contained tiny creatures  he called "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imalc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.  These    were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cter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Van Leeuwenhoek became the first person to study </a:t>
            </a:r>
            <a:r>
              <a:rPr b="0" lang="en-US" sz="1600" spc="-1" strike="noStrike">
                <a:solidFill>
                  <a:srgbClr val="00b0f0"/>
                </a:solidFill>
                <a:latin typeface="Arial"/>
              </a:rPr>
              <a:t>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1773360"/>
            <a:ext cx="640080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dward Je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n 1796 Jenner injected James Phipps with cowpox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The boy did not develop smallp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Jenner became famous as a result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t was from this beginning that the science of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mmuniz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develop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85920" y="1285920"/>
            <a:ext cx="6400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erdinand J Coh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He in 1875 effectively founded the science of                    bacteriolo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His main contribution was the classification of bacteria,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he used  the term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3280" y="1213920"/>
            <a:ext cx="640080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ouis Pasteu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He developed the germ theory of disease i.e wea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bes when injected in the body can control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(Antibody and antig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He also showed that fermentation - a process used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aking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caused by microorganis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Developed vaccinations for Rabies and Chicken chol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e developed the process for sterilizing milk and this wa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d after him -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steuriz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09:23:21Z</dcterms:created>
  <dc:creator>Baba</dc:creator>
  <dc:description/>
  <dc:language>en-US</dc:language>
  <cp:lastModifiedBy>DTK</cp:lastModifiedBy>
  <dcterms:modified xsi:type="dcterms:W3CDTF">2013-01-28T06:05:45Z</dcterms:modified>
  <cp:revision>14</cp:revision>
  <dc:subject/>
  <dc:title>Microbiology</dc:title>
</cp:coreProperties>
</file>