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29F-0E78-4047-9AF6-9BB3C203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C0F-0182-4090-A4BC-AD06CC17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6F1-A411-48EB-A339-774D150E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DE6-5D32-4B26-B7F1-8BEF7699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637-E155-4DBA-972A-D2B1462A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D08-9164-4F39-AA3C-F9C2B7D7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D32-34EB-45EE-9163-7621A05E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4E0-1294-4019-B1BE-3DEE0D06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54E3-CEE3-4B87-B71A-E5EF770A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363-1C0E-4A60-9C09-24B8067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D5E-0F4B-4EBD-90F8-1A56F3AC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BC9-50F0-4705-9F77-CD120236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90EA-C20F-43BC-A2D4-B4DDD594CF5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uglenophyta (Euglenoid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9680" y="164304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Found mostly in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fresh wat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Unicellul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Autotrophs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= photosynthesis ,when there i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l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hen there i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o light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= no photosynthesis they can b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heterotrophs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nd can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ngest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foo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o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cell wall =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ellicle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made up of prot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are like animals, i.e ar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otile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having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flagellum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store their foods a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aramylon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 type of polysacchar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ugl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rcRect l="34848" t="21467" r="13382" b="16975"/>
          <a:stretch/>
        </p:blipFill>
        <p:spPr>
          <a:xfrm>
            <a:off x="2428920" y="1928880"/>
            <a:ext cx="42148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cillariophyta (Diatom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nicellul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ganisms of different for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have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ilic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their cell w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utotrop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 can live 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arine or freshwat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vironm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conta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hlorophyl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well as pigments called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arotenoi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give them an orange-yellow colou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ir shells resemble small boxes with lids. These shells are covered with grooves and pores, giving them a decorated appeara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atom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produce asexuall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two halves of the shell separate, each producing a new shell that fits inside the original half.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new generation, therefore, produces offspring that are smaller than the par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this point, the diatom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roduces gamet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 fuse with gametes from other diatoms to produce zygotes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xual reprodu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 The zygotes develop into full sized diatoms that can begin asexual reproduction once m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diatom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i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ir shells form deposits called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iatomaceous ear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deposits can be collected and used  as an additive to give certain paints their spark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atoms store their foods as oils or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eucos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s of dia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17170" t="29358" r="27271" b="21714"/>
          <a:stretch/>
        </p:blipFill>
        <p:spPr>
          <a:xfrm>
            <a:off x="1285920" y="1571760"/>
            <a:ext cx="6438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07:47:24Z</dcterms:created>
  <dc:creator>DELL</dc:creator>
  <dc:description/>
  <dc:language>en-US</dc:language>
  <cp:lastModifiedBy>DELL</cp:lastModifiedBy>
  <dcterms:modified xsi:type="dcterms:W3CDTF">2012-11-02T08:19:06Z</dcterms:modified>
  <cp:revision>5</cp:revision>
  <dc:subject/>
  <dc:title>Euglenophyta (Euglenoids)</dc:title>
</cp:coreProperties>
</file>