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190-28FC-44C6-B193-AF36FFE1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6FD-C4A4-4366-91EB-25F9A787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1EF-F474-4BFF-9058-F5A0D073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294-B6E6-4112-A8F6-7A4D1D9D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60D-7F54-4543-81A6-CB186E72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9D7-533A-4D2B-92DA-133835A8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6ED-10EB-4AFD-8AE5-A6E33173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CDC-3775-4918-A035-4CCB9840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C48-C734-4BA7-98E3-FA3FB676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20F-E5E7-424B-977A-9BA4100C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C90-E6B4-4C8A-A577-941F3B9B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001-A789-4A33-872C-E8572B7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C7B9-090E-4BBB-A993-7DDE3A393B7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uglenophyta (Euglenoids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9680" y="1643040"/>
            <a:ext cx="8001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Found mostly in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fresh wat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Unicellul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Autotroph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= photosynthesis ,when there i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lig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When there i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 light 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= no photosynthesis they can b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heterotroph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nd can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ngest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foo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cell wall =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ellicle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made up of prote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are like animals, i.e are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motile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having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flagellum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They store their foods as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paramylon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a type of polysacchar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ugl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rcRect l="34848" t="21467" r="13382" b="16975"/>
          <a:stretch/>
        </p:blipFill>
        <p:spPr>
          <a:xfrm>
            <a:off x="2428920" y="1928880"/>
            <a:ext cx="42148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acillariophyta (Diatom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nicellula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ganisms of different for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have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ilic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their cell w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utotrop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 can live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marine or freshwat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vironm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conta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hlorophyl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well as pigments calle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arotenoi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give them an orange-yellow colou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ir shells resemble small boxes with lids. These shells are covered with grooves and pores, giving them a decorated appearan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tom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eproduce asexual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two halves of the shell separate, each producing a new shell that fits inside the original half.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new generation, therefore, produces offspring that are smaller than the paren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 this point, the diatom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roduces gamet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t fuse with gametes from other diatoms to produce zygotes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exual reprodu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. The zygotes develop into full sized diatoms that can begin asexual reproduction once mo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diatom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i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ir shells form deposits called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iatomaceous ear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deposits can be collected and used  as an additive to give certain paints their spark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atoms store their foods as oils or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eucosi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s of dia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17170" t="29358" r="27271" b="21714"/>
          <a:stretch/>
        </p:blipFill>
        <p:spPr>
          <a:xfrm>
            <a:off x="1285920" y="1571760"/>
            <a:ext cx="6438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07:47:24Z</dcterms:created>
  <dc:creator>DELL</dc:creator>
  <dc:description/>
  <dc:language>en-US</dc:language>
  <cp:lastModifiedBy>DELL</cp:lastModifiedBy>
  <dcterms:modified xsi:type="dcterms:W3CDTF">2012-11-02T08:19:06Z</dcterms:modified>
  <cp:revision>5</cp:revision>
  <dc:subject/>
  <dc:title>Euglenophyta (Euglenoids)</dc:title>
</cp:coreProperties>
</file>