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A5C-0AAB-418A-A1EF-4B424622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A39-F9D1-4F03-A07E-F6B82CB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B52-219D-463A-93AF-EEE66B97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664-5CF1-42BA-B84F-E9EDA937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E2B-75EF-458F-83A6-7C3AD72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7C7-B1D3-4D54-A431-E7735FDB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686-CCE3-4E8F-8754-509FC05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7DC-8EB3-4240-84AE-C93863E0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884-0D0C-4912-B118-38034BBD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4F8-D030-4A65-AC7B-0DCC897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741-5E7B-4AFD-87EE-B95FBA71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123-74FB-4480-B7CE-13E7428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D6A5-5CD0-4813-B356-DB4E11B22C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upload.wikimedia.org/wikipedia/commons/8/89/Fucus_serratus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haeophyta (Brown 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14300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major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live in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marine environm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 rocks in cool wate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y contai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chlorophy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s well as a </a:t>
            </a:r>
            <a:r>
              <a:rPr b="0" lang="en-US" sz="2700" spc="-1" strike="noStrike">
                <a:solidFill>
                  <a:srgbClr val="ff9900"/>
                </a:solidFill>
                <a:latin typeface="Calibri"/>
              </a:rPr>
              <a:t>yellow-brow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9900"/>
                </a:solidFill>
                <a:latin typeface="Calibri"/>
              </a:rPr>
              <a:t>carotenoid called fucoxanth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largest of the brown algae are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kel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elp us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holdfas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attach to rock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body of a kelp is called a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thallu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can grow as long as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180 ft (60 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hallus is composed of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thre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ctions,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holdfa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stip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blad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 species have an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air bladd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keep the thallus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float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t the surface of the water,  where more light is available for photosynthe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rown alga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store their food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laminar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example is </a:t>
            </a: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Fu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44949" t="27782" r="7066" b="32761"/>
          <a:stretch/>
        </p:blipFill>
        <p:spPr>
          <a:xfrm>
            <a:off x="142920" y="1571760"/>
            <a:ext cx="3714840" cy="455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ile:Fucus serratus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7760" y="1643040"/>
            <a:ext cx="4698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Rhodophyta (Red-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f species are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multicellula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live in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mar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nvironmen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live attached to rocks by a structure called a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oldfa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i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ell wall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 thick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polysaccharid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Some speci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rporate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alcium carbon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ocean into thei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ell wall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wel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algae contain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hlorophyl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s well a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phycobili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red and blu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igments involved in photosynthesis. Th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igment is called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ycoerythr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igment is called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phycocyan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ycobilins abso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he green, violet, and blue light waves that can penetrate deep water.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hese pigments allow the red alga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photosynthesiz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deep water with little light availab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Repro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se organisms is a complex proces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exual and asexual ph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alga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tore their food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floridea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tar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example is 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Polysiphonia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39407" t="24829" r="11344" b="29399"/>
          <a:stretch/>
        </p:blipFill>
        <p:spPr>
          <a:xfrm>
            <a:off x="785880" y="1643040"/>
            <a:ext cx="4071960" cy="4568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MG_0061"/>
          <p:cNvPicPr/>
          <p:nvPr/>
        </p:nvPicPr>
        <p:blipFill>
          <a:blip r:embed="rId2"/>
          <a:srcRect l="42202" t="13937" r="25730" b="54096"/>
          <a:stretch/>
        </p:blipFill>
        <p:spPr>
          <a:xfrm>
            <a:off x="5000760" y="2071800"/>
            <a:ext cx="3897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3:32:38Z</dcterms:created>
  <dc:creator>DELL</dc:creator>
  <dc:description/>
  <dc:language>en-US</dc:language>
  <cp:lastModifiedBy>DELL</cp:lastModifiedBy>
  <dcterms:modified xsi:type="dcterms:W3CDTF">2012-11-04T14:06:59Z</dcterms:modified>
  <cp:revision>4</cp:revision>
  <dc:subject/>
  <dc:title>Phaeophyta (Brown algae)</dc:title>
</cp:coreProperties>
</file>