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976-E67C-42B1-9F3A-8BC0D35A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868-EAFC-4E51-A031-AFF8294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D60-7B4F-4CF2-AF8D-50DE1EB8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42E-3381-44A6-B274-9DE3E025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04E-A6E3-4E0B-A707-974A21C9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EB5-017A-4F32-9EC4-D8FB915D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F9F-C441-4C36-AF50-8C4E8C2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E21-47B6-4433-92BE-4C04C67C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F09-0A2B-419E-AF2F-6079634A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945-EC77-47A5-8788-FBC21B71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F52-98E0-4C2F-BA07-5FB3D053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460-96E9-4C90-951C-8B463F0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98EF-9C17-448A-8ED8-7221DCCDD6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True fungi are grouped into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 classes based on their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method of reproduction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, these classes are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1928520"/>
            <a:ext cx="3429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simi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42920" y="4643280"/>
            <a:ext cx="3429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xogenous, i.e. produced externally on basi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5572080" y="200016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ndogenous, i.e. produced inside special sacs called as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(Imperfect fung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Its perfect stage or its mode of sexual reproduction is not yet known until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643120" y="342900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dissimilar, being distinguished into female gametangia or oogonia and male gametangia or antherid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ile:Aspergillus niger 01.jpg"/>
          <p:cNvPicPr/>
          <p:nvPr/>
        </p:nvPicPr>
        <p:blipFill>
          <a:blip r:embed="rId1"/>
          <a:stretch/>
        </p:blipFill>
        <p:spPr>
          <a:xfrm>
            <a:off x="3571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158120" y="514368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pergillus n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File:Penicillium.jpg"/>
          <p:cNvPicPr/>
          <p:nvPr/>
        </p:nvPicPr>
        <p:blipFill>
          <a:blip r:embed="rId2"/>
          <a:stretch/>
        </p:blipFill>
        <p:spPr>
          <a:xfrm>
            <a:off x="47149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5655600" y="52862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itun.jpg (4390 bytes)"/>
          <p:cNvPicPr/>
          <p:nvPr/>
        </p:nvPicPr>
        <p:blipFill>
          <a:blip r:embed="rId1"/>
          <a:stretch/>
        </p:blipFill>
        <p:spPr>
          <a:xfrm>
            <a:off x="5786280" y="857160"/>
            <a:ext cx="2086200" cy="4000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715000" y="5143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ndogenous Spores (As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ttp://classconnection.s3.amazonaws.com/181/flashcards/794181/png/61334767348994.png"/>
          <p:cNvPicPr/>
          <p:nvPr/>
        </p:nvPicPr>
        <p:blipFill>
          <a:blip r:embed="rId2"/>
          <a:stretch/>
        </p:blipFill>
        <p:spPr>
          <a:xfrm>
            <a:off x="500040" y="78588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1143000" y="5072040"/>
            <a:ext cx="260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Rhizopu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gametan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scbasid.gif (16053 bytes)"/>
          <p:cNvPicPr/>
          <p:nvPr/>
        </p:nvPicPr>
        <p:blipFill>
          <a:blip r:embed="rId1"/>
          <a:stretch/>
        </p:blipFill>
        <p:spPr>
          <a:xfrm>
            <a:off x="857160" y="500040"/>
            <a:ext cx="71438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t1.gstatic.com/images?q=tbn:ANd9GcRQXdRQd1SHZim6zxh_QY1TY_gn4xwpxJXia6qOqFj2Z1q1NexKnw"/>
          <p:cNvPicPr/>
          <p:nvPr/>
        </p:nvPicPr>
        <p:blipFill>
          <a:blip r:embed="rId1"/>
          <a:stretch/>
        </p:blipFill>
        <p:spPr>
          <a:xfrm>
            <a:off x="1357200" y="928800"/>
            <a:ext cx="6407280" cy="4357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571760" y="557208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Oomycetes (oogonia and anther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Basipet.gif (6470 bytes)"/>
          <p:cNvPicPr/>
          <p:nvPr/>
        </p:nvPicPr>
        <p:blipFill>
          <a:blip r:embed="rId1"/>
          <a:stretch/>
        </p:blipFill>
        <p:spPr>
          <a:xfrm>
            <a:off x="5143680" y="1143000"/>
            <a:ext cx="3124080" cy="290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oidium.gif (7367 bytes)"/>
          <p:cNvPicPr/>
          <p:nvPr/>
        </p:nvPicPr>
        <p:blipFill>
          <a:blip r:embed="rId2"/>
          <a:stretch/>
        </p:blipFill>
        <p:spPr>
          <a:xfrm>
            <a:off x="714240" y="928800"/>
            <a:ext cx="4210200" cy="3733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3286080" y="50720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xogenous Spores (con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:   </a:t>
            </a:r>
            <a:r>
              <a:rPr b="1" lang="en-US" sz="29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9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386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coenocytic ( non-septate) without cross walls except where the reproductive organs are c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filled or lined with continuous multinucleated protopla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is class includes both parasitic and saprophytic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8001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a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saprophytic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fungus, which can grow on moist bread, stored fruits, vegetables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   synthetic nutritive medi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called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bread mould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ince it is mostly seen growing on damp br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2857320"/>
            <a:ext cx="4714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Vegetative structu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mycelium consists of branched non-septate hyphae, which grow creeping upon the substratum and called stol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Each stolon sends branched rhizoids to the substratum for absorption of the necessary food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Opposite to the rhizoids, clusters of erect aerial sporangiophores   arise, each terminating with a single sporangi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 is full of multinucleated protopla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286240" y="285768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6:57:59Z</dcterms:created>
  <dc:creator>DELL</dc:creator>
  <dc:description/>
  <dc:language>en-US</dc:language>
  <cp:lastModifiedBy>DTK</cp:lastModifiedBy>
  <dcterms:modified xsi:type="dcterms:W3CDTF">2013-04-06T05:46:35Z</dcterms:modified>
  <cp:revision>13</cp:revision>
  <dc:subject/>
  <dc:title>Classification of Eumycophyta   True fungi are grouped into five classes based on their method of reproduction, these classes are :</dc:title>
</cp:coreProperties>
</file>