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2E8A-904B-4E20-BBE3-6359CE25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38B-804A-47A1-8D1E-34B2362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801-8EF6-4C91-A92A-3C35B7A0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85B8-D2F4-4412-9CAB-542234A9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5E8D-8145-43D9-89E3-ACC3543B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6CC-800C-42DC-B114-6182C4D8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FA3-C3BB-4F80-A192-27A2FCB2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A25-1117-4975-BDD7-B69BD19A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2F8-F4CD-4F5F-8BDB-CCA7835A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582-6686-4F2F-B01E-20A4C5C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BD52-05E6-45FB-914A-AE5CB10A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BA8-69AE-4B03-A3E6-23041A99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9602-B56D-4908-A45C-29436C0CFBA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ification of Eumycot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True fungi are grouped into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five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 classes based on their </a:t>
            </a:r>
            <a:r>
              <a:rPr b="0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method of reproduction</a:t>
            </a: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, these classes are 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480" y="1928520"/>
            <a:ext cx="3429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6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simi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142920" y="4643280"/>
            <a:ext cx="34290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parajita"/>
                <a:ea typeface="Aparajita"/>
              </a:rPr>
              <a:t>Basidiomyc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xogenous, i.e. produced externally on basi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ubtitle 2"/>
          <p:cNvSpPr/>
          <p:nvPr/>
        </p:nvSpPr>
        <p:spPr>
          <a:xfrm>
            <a:off x="5572080" y="200016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Ascomys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Spores are endogenous, i.e. produced inside special sacs called asc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5572080" y="450072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parajita"/>
                <a:ea typeface="Aparajita"/>
              </a:rPr>
              <a:t>Deuteromyce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parajita"/>
                <a:ea typeface="Aparajita"/>
              </a:rPr>
              <a:t>(Imperfect fungi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Its perfect stage or its mode of sexual reproduction is not yet known until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septated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ubtitle 2"/>
          <p:cNvSpPr/>
          <p:nvPr/>
        </p:nvSpPr>
        <p:spPr>
          <a:xfrm>
            <a:off x="2643120" y="3429000"/>
            <a:ext cx="34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parajita"/>
                <a:ea typeface="Aparajita"/>
              </a:rPr>
              <a:t>Oomyce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Sexual gametangia are dissimilar, being distinguished into female gametangia or oogonia and male gametangia or antheridi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parajita"/>
                <a:ea typeface="Aparajita"/>
              </a:rPr>
              <a:t>Hyphae are coenocyti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ile:Aspergillus niger 01.jpg"/>
          <p:cNvPicPr/>
          <p:nvPr/>
        </p:nvPicPr>
        <p:blipFill>
          <a:blip r:embed="rId1"/>
          <a:stretch/>
        </p:blipFill>
        <p:spPr>
          <a:xfrm>
            <a:off x="3571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1158120" y="5143680"/>
            <a:ext cx="23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pergillus n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File:Penicillium.jpg"/>
          <p:cNvPicPr/>
          <p:nvPr/>
        </p:nvPicPr>
        <p:blipFill>
          <a:blip r:embed="rId2"/>
          <a:stretch/>
        </p:blipFill>
        <p:spPr>
          <a:xfrm>
            <a:off x="4714920" y="857160"/>
            <a:ext cx="4071960" cy="4143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5655600" y="5286240"/>
            <a:ext cx="19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ated Hyph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nicill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itun.jpg (4390 bytes)"/>
          <p:cNvPicPr/>
          <p:nvPr/>
        </p:nvPicPr>
        <p:blipFill>
          <a:blip r:embed="rId1"/>
          <a:stretch/>
        </p:blipFill>
        <p:spPr>
          <a:xfrm>
            <a:off x="5786280" y="857160"/>
            <a:ext cx="2086200" cy="4000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5715000" y="5143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ndogenous Spores (As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ttp://classconnection.s3.amazonaws.com/181/flashcards/794181/png/61334767348994.png"/>
          <p:cNvPicPr/>
          <p:nvPr/>
        </p:nvPicPr>
        <p:blipFill>
          <a:blip r:embed="rId2"/>
          <a:stretch/>
        </p:blipFill>
        <p:spPr>
          <a:xfrm>
            <a:off x="500040" y="785880"/>
            <a:ext cx="4214880" cy="41432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1143000" y="5072040"/>
            <a:ext cx="2600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Rhizopu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ar gametang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scbasid.gif (16053 bytes)"/>
          <p:cNvPicPr/>
          <p:nvPr/>
        </p:nvPicPr>
        <p:blipFill>
          <a:blip r:embed="rId1"/>
          <a:stretch/>
        </p:blipFill>
        <p:spPr>
          <a:xfrm>
            <a:off x="857160" y="500040"/>
            <a:ext cx="714384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t1.gstatic.com/images?q=tbn:ANd9GcRQXdRQd1SHZim6zxh_QY1TY_gn4xwpxJXia6qOqFj2Z1q1NexKnw"/>
          <p:cNvPicPr/>
          <p:nvPr/>
        </p:nvPicPr>
        <p:blipFill>
          <a:blip r:embed="rId1"/>
          <a:stretch/>
        </p:blipFill>
        <p:spPr>
          <a:xfrm>
            <a:off x="1357200" y="928800"/>
            <a:ext cx="6407280" cy="4357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571760" y="557208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Oomycetes (oogonia and anther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Basipet.gif (6470 bytes)"/>
          <p:cNvPicPr/>
          <p:nvPr/>
        </p:nvPicPr>
        <p:blipFill>
          <a:blip r:embed="rId1"/>
          <a:stretch/>
        </p:blipFill>
        <p:spPr>
          <a:xfrm>
            <a:off x="5143680" y="1143000"/>
            <a:ext cx="3124080" cy="290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oidium.gif (7367 bytes)"/>
          <p:cNvPicPr/>
          <p:nvPr/>
        </p:nvPicPr>
        <p:blipFill>
          <a:blip r:embed="rId2"/>
          <a:stretch/>
        </p:blipFill>
        <p:spPr>
          <a:xfrm>
            <a:off x="714240" y="928800"/>
            <a:ext cx="4210200" cy="3733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3286080" y="50720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arajita"/>
                <a:ea typeface="Aparajita"/>
              </a:rPr>
              <a:t>Exogenous Spores (coni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Class:   </a:t>
            </a:r>
            <a:r>
              <a:rPr b="1" lang="en-US" sz="2900" spc="-1" strike="noStrike">
                <a:solidFill>
                  <a:srgbClr val="ff0000"/>
                </a:solidFill>
                <a:latin typeface="Aparajita"/>
                <a:ea typeface="Aparajita"/>
              </a:rPr>
              <a:t>Zygomycetes</a:t>
            </a:r>
            <a:r>
              <a:rPr b="0" lang="en-US" sz="2900" spc="-1" strike="noStrike">
                <a:solidFill>
                  <a:srgbClr val="ff0000"/>
                </a:solidFill>
                <a:latin typeface="Aparajita"/>
                <a:ea typeface="Aparajita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3860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coenocytic ( non-septate) without cross walls except where the reproductive organs are c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e are filled or lined with continuous multinucleated protopla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arajita"/>
                <a:ea typeface="Aparajita"/>
              </a:rPr>
              <a:t>This class includes both parasitic and saprophytic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1499760"/>
            <a:ext cx="80010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a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saprophytic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fungus, which can grow on moist bread, stored fruits, vegetables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    synthetic nutritive media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*It is called </a:t>
            </a:r>
            <a:r>
              <a:rPr b="0" lang="en-US" sz="2000" spc="-1" strike="noStrike">
                <a:solidFill>
                  <a:srgbClr val="ff0000"/>
                </a:solidFill>
                <a:latin typeface="Aparajita"/>
                <a:ea typeface="Aparajita"/>
              </a:rPr>
              <a:t>bread mould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since it is mostly seen growing on damp bre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2857320"/>
            <a:ext cx="4714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Vegetative structu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mycelium consists of branched non-septate hyphae, which grow creeping upon the substratum and called stol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Each stolon sends branched rhizoids to the substratum for absorption of the necessary food materi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Opposite to the rhizoids, clusters of erect aerial sporangiophores   arise, each terminating with a single sporangiu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parajita"/>
                <a:ea typeface="Aparajita"/>
              </a:rPr>
              <a:t>The hypha is full of multinucleated protoplas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714240" y="571680"/>
            <a:ext cx="8229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Rhizopus </a:t>
            </a:r>
            <a:r>
              <a:rPr b="1" lang="en-US" sz="2600" spc="-1" strike="noStrike">
                <a:solidFill>
                  <a:srgbClr val="000000"/>
                </a:solidFill>
                <a:latin typeface="Aparajita"/>
                <a:ea typeface="Aparajita"/>
              </a:rPr>
              <a:t> ( Black bread mould ) </a:t>
            </a:r>
            <a:r>
              <a:rPr b="1" lang="ar-SA" sz="2600" spc="-1" strike="noStrike">
                <a:solidFill>
                  <a:srgbClr val="000000"/>
                </a:solidFill>
                <a:latin typeface="Aparajita"/>
                <a:cs typeface="Aparajita"/>
              </a:rPr>
              <a:t>عفن الخُبز الأسود</a:t>
            </a:r>
            <a:br>
              <a:rPr sz="2600"/>
            </a:br>
            <a:br>
              <a:rPr sz="20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upload.wikimedia.org/wikipedia/commons/9/9a/Structure_of_Rhizopus_spp.-english.JPG"/>
          <p:cNvPicPr/>
          <p:nvPr/>
        </p:nvPicPr>
        <p:blipFill>
          <a:blip r:embed="rId1"/>
          <a:stretch/>
        </p:blipFill>
        <p:spPr>
          <a:xfrm>
            <a:off x="5286240" y="285768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6:57:59Z</dcterms:created>
  <dc:creator>DELL</dc:creator>
  <dc:description/>
  <dc:language>en-US</dc:language>
  <cp:lastModifiedBy>DTK</cp:lastModifiedBy>
  <dcterms:modified xsi:type="dcterms:W3CDTF">2013-04-06T05:46:35Z</dcterms:modified>
  <cp:revision>13</cp:revision>
  <dc:subject/>
  <dc:title>Classification of Eumycophyta   True fungi are grouped into five classes based on their method of reproduction, these classes are :</dc:title>
</cp:coreProperties>
</file>