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5DFB-F7AD-4019-9D91-0317D6DA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EFD-CDF9-4F3F-89E0-67C5BD47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427-973E-42A4-B5D8-195AB4BE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10D1-0787-43B9-A902-CA68115E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3EC-C09C-49B4-BE42-94F9FE29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62B5-F8D4-4C68-8898-0F15C0B1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D6CD-99BD-42B9-B874-FC3048BD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F1A7-B8CA-4E7B-B984-A9D437A3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B81-8151-4EFD-87BC-5F52F168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A2B-BBBB-4BBD-90FF-F263DB1C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3B8-9128-4C39-A935-A81B2725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BA9-0A14-4A66-8E4A-85C96072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6F89-D6AF-4737-BFAB-4370452C666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56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parajita"/>
                <a:ea typeface="Aparajita"/>
              </a:rPr>
              <a:t>Class : Ascomycetea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parajita"/>
                <a:ea typeface="Aparajita"/>
              </a:rPr>
              <a:t>(sac fungi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8072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his class is characterized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ptated hyph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duction of ascospores enclosed inside sac-like as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me forms are unicellula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mbers of this class are saprophytes and many are parasites on higher plants causing diseases such as the powdery mildews, ergot disease and apple sca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 of fungi belonging to this clas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spergillus, Penicillium, Saccharomyces, Clavicep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ziza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icilium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and   Aspergillu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0040" y="242856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s genera are commonly known as the 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black, blue or green mol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species have different other colours such as blue-green, yellow or brow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very widely distributed in all habita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8400" y="356760"/>
            <a:ext cx="46148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milar characters for both genera are listed below :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ycelium of both genera is branched and sept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grow saprophytically on all kinds of organic materials such as jams, bread, meats, grains and w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grow also as saprophytes on stored fruits and vegetables causing their deca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can be subcultured easily on synthetic nutritive me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multiply asexually by conidia, which are carried on conidioph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conidia are carried by air-currents, and they are capable of immediate germination if they fall upon the proper substrat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xual reproduction has been observed in several species of bot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wpe358.jpg (83711 bytes)"/>
          <p:cNvPicPr/>
          <p:nvPr/>
        </p:nvPicPr>
        <p:blipFill>
          <a:blip r:embed="rId1"/>
          <a:stretch/>
        </p:blipFill>
        <p:spPr>
          <a:xfrm>
            <a:off x="5286240" y="500040"/>
            <a:ext cx="3564000" cy="2440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357880" y="3714840"/>
            <a:ext cx="356400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Content Placeholder 2"/>
          <p:cNvSpPr/>
          <p:nvPr/>
        </p:nvSpPr>
        <p:spPr>
          <a:xfrm>
            <a:off x="5286240" y="2867040"/>
            <a:ext cx="704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5357880" y="5581800"/>
            <a:ext cx="704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500040"/>
            <a:ext cx="48290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frences characters for both genera are listed below :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 (fig. 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septated and branched. The last branches terminate with the sterigmata (called phialides), which carry the chains of conid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sterigmate are in clusters, which may be in the order of primary, secondary and sometimes tertiary sterigma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 Apergillus (fig. B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conidiophores are unbranched, non-septate and terminate with swollen heads, each of which carries radiating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ins of conidia, arranged in acropetal succession (the larger being terminal ) are carried by such sterigma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allover appearance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pergillu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onidiophore is a radiating head whil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enicill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k like a bro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wpe358.jpg (83711 bytes)"/>
          <p:cNvPicPr/>
          <p:nvPr/>
        </p:nvPicPr>
        <p:blipFill>
          <a:blip r:embed="rId1"/>
          <a:stretch/>
        </p:blipFill>
        <p:spPr>
          <a:xfrm>
            <a:off x="5643720" y="500040"/>
            <a:ext cx="3206520" cy="2440080"/>
          </a:xfrm>
          <a:prstGeom prst="rect">
            <a:avLst/>
          </a:prstGeom>
          <a:ln w="0">
            <a:noFill/>
          </a:ln>
        </p:spPr>
      </p:pic>
      <p:sp>
        <p:nvSpPr>
          <p:cNvPr id="52" name="Content Placeholder 2"/>
          <p:cNvSpPr/>
          <p:nvPr/>
        </p:nvSpPr>
        <p:spPr>
          <a:xfrm>
            <a:off x="8143920" y="500040"/>
            <a:ext cx="704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File:Aspergillus niger 01.jpg"/>
          <p:cNvPicPr/>
          <p:nvPr/>
        </p:nvPicPr>
        <p:blipFill>
          <a:blip r:embed="rId2"/>
          <a:stretch/>
        </p:blipFill>
        <p:spPr>
          <a:xfrm>
            <a:off x="5715000" y="3214800"/>
            <a:ext cx="3278160" cy="2460600"/>
          </a:xfrm>
          <a:prstGeom prst="rect">
            <a:avLst/>
          </a:prstGeom>
          <a:ln w="0">
            <a:noFill/>
          </a:ln>
        </p:spPr>
      </p:pic>
      <p:sp>
        <p:nvSpPr>
          <p:cNvPr id="54" name="Content Placeholder 2"/>
          <p:cNvSpPr/>
          <p:nvPr/>
        </p:nvSpPr>
        <p:spPr>
          <a:xfrm>
            <a:off x="8439120" y="3214800"/>
            <a:ext cx="490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conomic import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 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and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 Penicill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are utilized in the preparation of food and other materials useful to human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Citric and other organic acids are produc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sp. grown on sug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The enzyme, Taka-Diastase, used in medicine, is form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Aspergillus oryzae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Certain kinds of cheeses, such as Roquefort, Camembert and Gorogonzola have special taste and flavour due to the action of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sp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n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, the powerful antibiotic, is produced by </a:t>
            </a:r>
            <a:r>
              <a:rPr b="0" i="1" lang="en-US" sz="2700" spc="-1" strike="noStrike">
                <a:solidFill>
                  <a:srgbClr val="000000"/>
                </a:solidFill>
                <a:latin typeface="Andalus"/>
              </a:rPr>
              <a:t>Penicillium notatum</a:t>
            </a:r>
            <a:r>
              <a:rPr b="0" lang="en-US" sz="2700" spc="-1" strike="noStrike">
                <a:solidFill>
                  <a:srgbClr val="000000"/>
                </a:solidFill>
                <a:latin typeface="Andalu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05:02:27Z</dcterms:created>
  <dc:creator>DTK</dc:creator>
  <dc:description/>
  <dc:language>en-US</dc:language>
  <cp:lastModifiedBy>DTK</cp:lastModifiedBy>
  <dcterms:modified xsi:type="dcterms:W3CDTF">2012-11-19T05:26:53Z</dcterms:modified>
  <cp:revision>3</cp:revision>
  <dc:subject/>
  <dc:title>CLASS  ASCOMYCETEAE (SAC FUNGI)</dc:title>
</cp:coreProperties>
</file>