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C87-646F-4341-A967-2DBDC0E1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AFF-33CA-4CA1-A216-4BF8B94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F7E-5F5D-4765-AEB0-CFFC8CE0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AD9-D67B-4F5D-BCBB-D919CB89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F79-EA54-4C29-8373-5E368FE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E0-B380-44D1-B693-886D42F6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208-ABA0-4689-BF1C-941A23A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079-7641-48DE-9D89-400930AF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C0B-A5B4-4F83-8067-FE4AD83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EBC-26F9-4AC3-8E06-0DEBB3B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F3D-D7F7-4122-B46D-6FEBAEB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5CA-D708-4C19-BE2A-EB797A9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75E-DA6E-43D9-86CD-E2AA04862E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807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242856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s genera are commonly known as the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lack, blue or green mol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very widely distributed in all habita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Content Placeholder 2"/>
          <p:cNvSpPr/>
          <p:nvPr/>
        </p:nvSpPr>
        <p:spPr>
          <a:xfrm>
            <a:off x="5286240" y="2867040"/>
            <a:ext cx="704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5357880" y="5581800"/>
            <a:ext cx="704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52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DTK</cp:lastModifiedBy>
  <dcterms:modified xsi:type="dcterms:W3CDTF">2012-11-19T05:26:53Z</dcterms:modified>
  <cp:revision>3</cp:revision>
  <dc:subject/>
  <dc:title>CLASS  ASCOMYCETEAE (SAC FUNGI)</dc:title>
</cp:coreProperties>
</file>