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455-029A-47B7-A3ED-27BFF29B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77AA-5453-42DF-80E1-232FC396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182-4DAC-45FE-A621-88A9F005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259-49BD-429C-B45A-BEF96305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3DE-85B9-4232-8366-4C1812A7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70CD-791A-484B-825C-F95B619A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2CC2-23DD-4EEC-9B6C-78F3A0D9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E83-302D-4A68-95C9-47F1AC82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754-F3BA-4A52-8BCA-5C89D854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281-5E38-48A5-BE1A-DC2E1AC3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6604-15EB-48D3-A33D-B880846E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CAD-5C01-4521-9BFA-B9A0C3E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532D-C523-4521-B138-593C4DAA177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Class  : Basidiomycetea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Club fungi (</a:t>
            </a:r>
            <a:r>
              <a:rPr b="0" lang="en-US" sz="4000" spc="-1" strike="noStrike">
                <a:solidFill>
                  <a:srgbClr val="ff0000"/>
                </a:solidFill>
                <a:latin typeface="Angsana New"/>
                <a:ea typeface="Angsana New"/>
              </a:rPr>
              <a:t>that produce spores on basidia </a:t>
            </a:r>
            <a:r>
              <a:rPr b="0" lang="en-US" sz="4000" spc="-1" strike="noStrike">
                <a:solidFill>
                  <a:srgbClr val="000000"/>
                </a:solidFill>
                <a:latin typeface="Angsana New"/>
                <a:ea typeface="Angsana New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2286000"/>
            <a:ext cx="86439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Characteriz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Septated mycel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Production of exogenous basidiosp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Basidia are either septated or non-sept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UPC"/>
                <a:ea typeface="AngsanaUPC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Agaricu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(Mushroo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Agaricus    </a:t>
            </a:r>
            <a:r>
              <a:rPr b="1" lang="en-US" sz="4000" spc="-1" strike="noStrike">
                <a:solidFill>
                  <a:srgbClr val="000000"/>
                </a:solidFill>
                <a:latin typeface="Arabic Typesetting"/>
                <a:ea typeface="Arabic Typesetting"/>
              </a:rPr>
              <a:t> (Mushroom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4280"/>
            <a:ext cx="4686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aracteriz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aprophyti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fungus, appearing initially as mats or masses of subterranean septate hyphae which feed on organic mat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shrooms grow best around decayed trees or in fertilizied soils. It grows wild in fields and gardens, and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 variety of it is cultivat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underground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celium gives rise to an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overgroun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ody composed of compact interwoven hyphae called th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fruit body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poropho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young stages the whole fruit body is covered by a membrane which ruptures due to growth , leaving a remnant of it at the base of the fruit body called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volv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The fruit body then becomes differentiated into a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tal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stip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a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cap or pile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rim of the pileus is attached to the upper part of the stalk by a membrane which ruptures, due to the horizontal growth of pileus, leaving a remnant on the stalk known as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annul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Users\DTK\Pictures\mushrooms.jpg"/>
          <p:cNvPicPr/>
          <p:nvPr/>
        </p:nvPicPr>
        <p:blipFill>
          <a:blip r:embed="rId1"/>
          <a:stretch/>
        </p:blipFill>
        <p:spPr>
          <a:xfrm>
            <a:off x="7072200" y="385776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DTK\Pictures\mushroom.jpg"/>
          <p:cNvPicPr/>
          <p:nvPr/>
        </p:nvPicPr>
        <p:blipFill>
          <a:blip r:embed="rId2"/>
          <a:stretch/>
        </p:blipFill>
        <p:spPr>
          <a:xfrm>
            <a:off x="5286240" y="142884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Users\DTK\Pictures\mush.jpg"/>
          <p:cNvPicPr/>
          <p:nvPr/>
        </p:nvPicPr>
        <p:blipFill>
          <a:blip r:embed="rId3"/>
          <a:stretch/>
        </p:blipFill>
        <p:spPr>
          <a:xfrm>
            <a:off x="7072200" y="1428840"/>
            <a:ext cx="1714680" cy="2214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Users\DTK\Pictures\fruiting body before it has opened up.jpg"/>
          <p:cNvPicPr/>
          <p:nvPr/>
        </p:nvPicPr>
        <p:blipFill>
          <a:blip r:embed="rId4"/>
          <a:stretch/>
        </p:blipFill>
        <p:spPr>
          <a:xfrm>
            <a:off x="5286240" y="3857760"/>
            <a:ext cx="1764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5"/>
          <p:cNvGrpSpPr/>
          <p:nvPr/>
        </p:nvGrpSpPr>
        <p:grpSpPr>
          <a:xfrm>
            <a:off x="3571920" y="500040"/>
            <a:ext cx="2786040" cy="5643720"/>
            <a:chOff x="3571920" y="500040"/>
            <a:chExt cx="2786040" cy="5643720"/>
          </a:xfrm>
        </p:grpSpPr>
        <p:pic>
          <p:nvPicPr>
            <p:cNvPr id="50" name="Picture 6" descr="C:\Users\DTK\Pictures\mush.jpg"/>
            <p:cNvPicPr/>
            <p:nvPr/>
          </p:nvPicPr>
          <p:blipFill>
            <a:blip r:embed="rId1"/>
            <a:srcRect l="16674" t="0" r="0" b="0"/>
            <a:stretch/>
          </p:blipFill>
          <p:spPr>
            <a:xfrm>
              <a:off x="3571920" y="3371760"/>
              <a:ext cx="2786040" cy="27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C:\Users\DTK\Pictures\fruiting body before it has opened up.jpg"/>
            <p:cNvPicPr/>
            <p:nvPr/>
          </p:nvPicPr>
          <p:blipFill>
            <a:blip r:embed="rId2"/>
            <a:stretch/>
          </p:blipFill>
          <p:spPr>
            <a:xfrm>
              <a:off x="3571920" y="500040"/>
              <a:ext cx="2786040" cy="28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parajita"/>
                <a:ea typeface="Aparajita"/>
              </a:rPr>
              <a:t>Economic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The economic importance of members of agaricales is revealed by the following points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of them are edible by man due to their nice flavor, taste and valuable content of protein and vitamin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Mushroom-growing industry has developed in many countries of the world as the United States and Franc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Other members are very poisonou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are parasitic on higher plants. They cause diseases such as root rot of apple and wood destruction of many forest tre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Some mushrooms (hallucinogenic mushrooms </a:t>
            </a:r>
            <a:r>
              <a:rPr b="0" lang="ar-SA" sz="2500" spc="-1" strike="noStrike">
                <a:solidFill>
                  <a:srgbClr val="000000"/>
                </a:solidFill>
                <a:latin typeface="Aparajita"/>
              </a:rPr>
              <a:t>فطريات الهلوسة</a:t>
            </a: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) are being used experimentally in medicine as an aid to psychotherapy </a:t>
            </a:r>
            <a:r>
              <a:rPr b="0" lang="ar-SA" sz="2500" spc="-1" strike="noStrike">
                <a:solidFill>
                  <a:srgbClr val="000000"/>
                </a:solidFill>
                <a:latin typeface="Aparajita"/>
              </a:rPr>
              <a:t>العلاج النفسي</a:t>
            </a: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A substance called psilocybin, extracted from such mushrooms, is being used in the study of schizophrenia </a:t>
            </a:r>
            <a:r>
              <a:rPr b="0" lang="ar-SA" sz="2500" spc="-1" strike="noStrike">
                <a:solidFill>
                  <a:srgbClr val="000000"/>
                </a:solidFill>
                <a:latin typeface="Aparajita"/>
              </a:rPr>
              <a:t>الأنفصام</a:t>
            </a:r>
            <a:r>
              <a:rPr b="0" lang="ar-SA" sz="2500" spc="-1" strike="noStrike">
                <a:solidFill>
                  <a:srgbClr val="000000"/>
                </a:solidFill>
                <a:latin typeface="Aparajit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parajita"/>
                <a:ea typeface="Aparajit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3:56:06Z</dcterms:created>
  <dc:creator>DTK</dc:creator>
  <dc:description/>
  <dc:language>en-US</dc:language>
  <cp:lastModifiedBy>DTK</cp:lastModifiedBy>
  <dcterms:modified xsi:type="dcterms:W3CDTF">2012-11-24T05:03:10Z</dcterms:modified>
  <cp:revision>8</cp:revision>
  <dc:subject/>
  <dc:title>Class  : Basidiomyceteae Club fungi (that produce spores on basidia )</dc:title>
</cp:coreProperties>
</file>