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43C-CF53-4169-AF44-8D6DE3EB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BB5-7CFB-45DF-B0F5-94711D20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928-1018-4FEE-9C18-16DB60C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149-8C8E-445A-B096-E2FFC7E4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F85-E4DA-432B-AE3E-02E3439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D6E-7C0D-47BF-A818-5A329E3F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C90-8304-410F-A0BA-A6E4CA48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AF2-401A-40E2-9FB9-1CDF2F7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86E-66D9-4E2F-ACEA-A30DD46D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369-99B5-438B-93ED-3ED3DA9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DB7-3F49-4DAB-8C1C-82A29AE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1A9-BB8E-4F71-93EE-1C866CFF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BE8-6F4D-4547-BACC-E6B15E9133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ub fungi (</a:t>
            </a:r>
            <a:r>
              <a:rPr b="0" lang="en-US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that produce spores on basidia 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228600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garicu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(Mushro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0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فطريات الهلوسة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) are being used experimentally in medicine as an aid to psychotherapy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العلاج النفسي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الأنفصام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DTK</cp:lastModifiedBy>
  <dcterms:modified xsi:type="dcterms:W3CDTF">2012-11-24T05:03:10Z</dcterms:modified>
  <cp:revision>8</cp:revision>
  <dc:subject/>
  <dc:title>Class  : Basidiomyceteae Club fungi (that produce spores on basidia )</dc:title>
</cp:coreProperties>
</file>