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46B-9F21-4FCB-832C-8576DC82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172-0A13-471E-8D01-58F8ECA9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82A-1133-4E83-8C41-F27C49F1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E8BA-071B-4915-9198-B2CE5D4B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2931-BCE7-4674-BB1C-7887E630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7C3-4FEE-4AE0-8B19-CD9C8759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EE33-34FA-4BAC-A508-707E8E5A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9214-D0C8-4C15-BEF3-F576663A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559-8E53-48A6-BAD1-81185AEF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1A0-8561-4785-90E0-4A6FFF89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D7E8-E012-4F39-9F30-B9A3321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3BA-CFEE-4DA5-B187-7BDB479D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E227-2F40-4C27-B40D-71C444CA0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ence (Distribution of bacteria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61680"/>
            <a:ext cx="6400800" cy="21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liv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ry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y occur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,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i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types live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prophy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le other ar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i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la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ima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huma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ing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ise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ome of them can survive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s can live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t w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y can for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are very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resis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drought , chemical , rays and temperature </a:t>
            </a:r>
            <a:r>
              <a:rPr b="0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ari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Bacterial cell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643040"/>
            <a:ext cx="64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bacteria have three main shape categories (Fig. 2)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d-shap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ubacteria are known as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cill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se are short r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their arrangement , they are divided to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Bacilli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m have pin-head thickenings and they give an impression of branched structure and they causes diseases in huma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bacilli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occur in pairs, also causing diseases in huma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bacilli.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occur in chains of different length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heric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ubacteria are called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cci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divided in six groups depending on the cell arrangement and cell divis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cocci.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single celled and lives as saprophyt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plococci.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divides in one plane and the pairs remain attache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Streptococci.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vision of cell in one plane and causes diseases in huma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Tetracocci.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ell divides in two planes resulting in four cells and causes diseases in huma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Sarcinae.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cell divides in three planes resulting in 8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Staphylococci.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ivision in several planes resulting in cluster of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rcRect l="0" t="41956" r="38614" b="20297"/>
          <a:stretch/>
        </p:blipFill>
        <p:spPr>
          <a:xfrm>
            <a:off x="6915240" y="1316160"/>
            <a:ext cx="2016000" cy="215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rcRect l="0" t="0" r="38614" b="58183"/>
          <a:stretch/>
        </p:blipFill>
        <p:spPr>
          <a:xfrm>
            <a:off x="6915240" y="3614760"/>
            <a:ext cx="20160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07640" y="691920"/>
            <a:ext cx="5986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 Spir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alled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divided 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br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 resemble a comma in appear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illi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iled forms exhibiting twists with one or more turns. They have constant shapes and they move by flagel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irochae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intermediate between bacteria and protozoa, they don’t have cell wall and flagella. Their movement is like a w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63928" t="0" r="4040" b="0"/>
          <a:stretch/>
        </p:blipFill>
        <p:spPr>
          <a:xfrm>
            <a:off x="6205680" y="243000"/>
            <a:ext cx="26096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04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Actinomycetes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amentous/Mold-like bacter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body consists of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cel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st like fungi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belongs to these mold like bacteria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 antibiotic is produced by Streptomy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905120" y="3284640"/>
            <a:ext cx="533376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ubtitle 2"/>
          <p:cNvSpPr/>
          <p:nvPr/>
        </p:nvSpPr>
        <p:spPr>
          <a:xfrm>
            <a:off x="714240" y="1285920"/>
            <a:ext cx="77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teria are eithe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mot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t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Motile forms are either creeping or swimming. Creeping bacteri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Myobacteriu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ve or creep slowly on a supporting surface as a result of wave-like contractions ( contract and relax) of their bodies. Swimming bacteria move freely in a liquid medium due to the presence of flagella. Flagellated forms differ with respect to number and pattern of attachment of flagella. The following forms (Fig .3) can be give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notrich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e flagellum attached to one pole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photrich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tuft of flagella at one pole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A single or a tuft of flagella at the two poles of the c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itrichou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flagella distributed over the whole surfac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in bacte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"/>
          <p:cNvSpPr/>
          <p:nvPr/>
        </p:nvSpPr>
        <p:spPr>
          <a:xfrm>
            <a:off x="4929120" y="5429160"/>
            <a:ext cx="2529000" cy="50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08400" y="128592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trich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00120" y="257184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photrichu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510560" y="38577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hitricho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06960" y="54291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trich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4214520" y="2428200"/>
            <a:ext cx="3143520" cy="572040"/>
            <a:chOff x="4214520" y="2428200"/>
            <a:chExt cx="3143520" cy="572040"/>
          </a:xfrm>
        </p:grpSpPr>
        <p:sp>
          <p:nvSpPr>
            <p:cNvPr id="59" name="Oval 2"/>
            <p:cNvSpPr/>
            <p:nvPr/>
          </p:nvSpPr>
          <p:spPr>
            <a:xfrm>
              <a:off x="4829040" y="2500200"/>
              <a:ext cx="252900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Curved Connector 10"/>
            <p:cNvCxnSpPr>
              <a:stCxn id="59" idx="2"/>
            </p:cNvCxnSpPr>
            <p:nvPr/>
          </p:nvCxnSpPr>
          <p:spPr>
            <a:xfrm flipV="1" rot="10800000">
              <a:off x="4214160" y="27486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1" name="Curved Connector 11"/>
            <p:cNvCxnSpPr>
              <a:stCxn id="59" idx="2"/>
            </p:cNvCxnSpPr>
            <p:nvPr/>
          </p:nvCxnSpPr>
          <p:spPr>
            <a:xfrm rot="10800000">
              <a:off x="4214160" y="2714040"/>
              <a:ext cx="614880" cy="3708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2" name="Curved Connector 12"/>
            <p:cNvCxnSpPr>
              <a:stCxn id="59" idx="2"/>
            </p:cNvCxnSpPr>
            <p:nvPr/>
          </p:nvCxnSpPr>
          <p:spPr>
            <a:xfrm rot="10800000">
              <a:off x="4214160" y="2642400"/>
              <a:ext cx="614880" cy="10836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63" name="Curved Connector 13"/>
            <p:cNvCxnSpPr>
              <a:stCxn id="59" idx="2"/>
            </p:cNvCxnSpPr>
            <p:nvPr/>
          </p:nvCxnSpPr>
          <p:spPr>
            <a:xfrm rot="10800000">
              <a:off x="4214160" y="24282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4" name="Group 14"/>
          <p:cNvGrpSpPr/>
          <p:nvPr/>
        </p:nvGrpSpPr>
        <p:grpSpPr>
          <a:xfrm>
            <a:off x="4285800" y="1071000"/>
            <a:ext cx="3143880" cy="572040"/>
            <a:chOff x="4285800" y="1071000"/>
            <a:chExt cx="3143880" cy="572040"/>
          </a:xfrm>
        </p:grpSpPr>
        <p:sp>
          <p:nvSpPr>
            <p:cNvPr id="65" name="Oval 2"/>
            <p:cNvSpPr/>
            <p:nvPr/>
          </p:nvSpPr>
          <p:spPr>
            <a:xfrm>
              <a:off x="4900320" y="1143000"/>
              <a:ext cx="2529360" cy="500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Curved Connector 16"/>
            <p:cNvCxnSpPr/>
            <p:nvPr/>
          </p:nvCxnSpPr>
          <p:spPr>
            <a:xfrm rot="10800000">
              <a:off x="4285440" y="1071000"/>
              <a:ext cx="614880" cy="322920"/>
            </a:xfrm>
            <a:prstGeom prst="curvedConnector5">
              <a:avLst>
                <a:gd name="adj1" fmla="val 49970"/>
                <a:gd name="adj2" fmla="val 50000"/>
                <a:gd name="adj3" fmla="val 49970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67" name="Group 17"/>
          <p:cNvGrpSpPr/>
          <p:nvPr/>
        </p:nvGrpSpPr>
        <p:grpSpPr>
          <a:xfrm>
            <a:off x="4357440" y="3500280"/>
            <a:ext cx="3672360" cy="571680"/>
            <a:chOff x="4357440" y="3500280"/>
            <a:chExt cx="3672360" cy="571680"/>
          </a:xfrm>
        </p:grpSpPr>
        <p:grpSp>
          <p:nvGrpSpPr>
            <p:cNvPr id="68" name="Group 39"/>
            <p:cNvGrpSpPr/>
            <p:nvPr/>
          </p:nvGrpSpPr>
          <p:grpSpPr>
            <a:xfrm>
              <a:off x="4357440" y="3500280"/>
              <a:ext cx="3143520" cy="571680"/>
              <a:chOff x="4357440" y="3500280"/>
              <a:chExt cx="3143520" cy="571680"/>
            </a:xfrm>
          </p:grpSpPr>
          <p:sp>
            <p:nvSpPr>
              <p:cNvPr id="69" name="Oval 2"/>
              <p:cNvSpPr/>
              <p:nvPr/>
            </p:nvSpPr>
            <p:spPr>
              <a:xfrm>
                <a:off x="4971960" y="3571560"/>
                <a:ext cx="252900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" name="Curved Connector 21"/>
              <p:cNvCxnSpPr/>
              <p:nvPr/>
            </p:nvCxnSpPr>
            <p:spPr>
              <a:xfrm rot="10800000">
                <a:off x="4357080" y="350028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1" name="Curved Connector 19"/>
            <p:cNvCxnSpPr/>
            <p:nvPr/>
          </p:nvCxnSpPr>
          <p:spPr>
            <a:xfrm flipV="1">
              <a:off x="7500960" y="3570840"/>
              <a:ext cx="529200" cy="25164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grpSp>
        <p:nvGrpSpPr>
          <p:cNvPr id="72" name="Group 22"/>
          <p:cNvGrpSpPr/>
          <p:nvPr/>
        </p:nvGrpSpPr>
        <p:grpSpPr>
          <a:xfrm>
            <a:off x="4366800" y="4142520"/>
            <a:ext cx="3777120" cy="572400"/>
            <a:chOff x="4366800" y="4142520"/>
            <a:chExt cx="3777120" cy="572400"/>
          </a:xfrm>
        </p:grpSpPr>
        <p:grpSp>
          <p:nvGrpSpPr>
            <p:cNvPr id="73" name="Group 42"/>
            <p:cNvGrpSpPr/>
            <p:nvPr/>
          </p:nvGrpSpPr>
          <p:grpSpPr>
            <a:xfrm>
              <a:off x="4366800" y="4143240"/>
              <a:ext cx="3143880" cy="571680"/>
              <a:chOff x="4366800" y="4143240"/>
              <a:chExt cx="3143880" cy="571680"/>
            </a:xfrm>
          </p:grpSpPr>
          <p:sp>
            <p:nvSpPr>
              <p:cNvPr id="74" name="Oval 2"/>
              <p:cNvSpPr/>
              <p:nvPr/>
            </p:nvSpPr>
            <p:spPr>
              <a:xfrm>
                <a:off x="4981320" y="4214520"/>
                <a:ext cx="2529360" cy="500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5" name="Curved Connector 29"/>
              <p:cNvCxnSpPr>
                <a:stCxn id="74" idx="2"/>
              </p:cNvCxnSpPr>
              <p:nvPr/>
            </p:nvCxnSpPr>
            <p:spPr>
              <a:xfrm flipV="1" rot="10800000">
                <a:off x="4366440" y="446364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76" name="Curved Connector 30"/>
              <p:cNvCxnSpPr>
                <a:stCxn id="74" idx="2"/>
              </p:cNvCxnSpPr>
              <p:nvPr/>
            </p:nvCxnSpPr>
            <p:spPr>
              <a:xfrm rot="10800000">
                <a:off x="4366440" y="4428360"/>
                <a:ext cx="614880" cy="3708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77" name="Curved Connector 31"/>
              <p:cNvCxnSpPr>
                <a:stCxn id="74" idx="2"/>
              </p:cNvCxnSpPr>
              <p:nvPr/>
            </p:nvCxnSpPr>
            <p:spPr>
              <a:xfrm rot="10800000">
                <a:off x="4366440" y="4356720"/>
                <a:ext cx="614880" cy="108720"/>
              </a:xfrm>
              <a:prstGeom prst="curvedConnector5">
                <a:avLst>
                  <a:gd name="adj1" fmla="val 49970"/>
                  <a:gd name="adj2" fmla="val 49833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  <p:cxnSp>
            <p:nvCxnSpPr>
              <p:cNvPr id="78" name="Curved Connector 32"/>
              <p:cNvCxnSpPr>
                <a:stCxn id="74" idx="2"/>
              </p:cNvCxnSpPr>
              <p:nvPr/>
            </p:nvCxnSpPr>
            <p:spPr>
              <a:xfrm rot="10800000">
                <a:off x="4366440" y="4143240"/>
                <a:ext cx="614880" cy="322920"/>
              </a:xfrm>
              <a:prstGeom prst="curvedConnector5">
                <a:avLst>
                  <a:gd name="adj1" fmla="val 49970"/>
                  <a:gd name="adj2" fmla="val 50000"/>
                  <a:gd name="adj3" fmla="val 49970"/>
                </a:avLst>
              </a:prstGeom>
              <a:ln w="9360">
                <a:solidFill>
                  <a:srgbClr val="4a7ebb"/>
                </a:solidFill>
                <a:miter/>
              </a:ln>
            </p:spPr>
          </p:cxnSp>
        </p:grpSp>
        <p:cxnSp>
          <p:nvCxnSpPr>
            <p:cNvPr id="79" name="Curved Connector 24"/>
            <p:cNvCxnSpPr/>
            <p:nvPr/>
          </p:nvCxnSpPr>
          <p:spPr>
            <a:xfrm flipV="1">
              <a:off x="7472160" y="4428360"/>
              <a:ext cx="600840" cy="3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0" name="Curved Connector 25"/>
            <p:cNvCxnSpPr/>
            <p:nvPr/>
          </p:nvCxnSpPr>
          <p:spPr>
            <a:xfrm flipV="1">
              <a:off x="7472160" y="4285800"/>
              <a:ext cx="672120" cy="180000"/>
            </a:xfrm>
            <a:prstGeom prst="curvedConnector5">
              <a:avLst>
                <a:gd name="adj1" fmla="val 50000"/>
                <a:gd name="adj2" fmla="val 49899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1" name="Curved Connector 26"/>
            <p:cNvCxnSpPr/>
            <p:nvPr/>
          </p:nvCxnSpPr>
          <p:spPr>
            <a:xfrm>
              <a:off x="7472160" y="4465440"/>
              <a:ext cx="600840" cy="106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4a7ebb"/>
              </a:solidFill>
              <a:miter/>
            </a:ln>
          </p:spPr>
        </p:cxnSp>
        <p:cxnSp>
          <p:nvCxnSpPr>
            <p:cNvPr id="82" name="Curved Connector 27"/>
            <p:cNvCxnSpPr>
              <a:stCxn id="74" idx="6"/>
            </p:cNvCxnSpPr>
            <p:nvPr/>
          </p:nvCxnSpPr>
          <p:spPr>
            <a:xfrm flipV="1">
              <a:off x="7510680" y="4142520"/>
              <a:ext cx="491040" cy="32148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4a7ebb"/>
              </a:solidFill>
              <a:miter/>
            </a:ln>
          </p:spPr>
        </p:cxnSp>
      </p:grpSp>
      <p:cxnSp>
        <p:nvCxnSpPr>
          <p:cNvPr id="83" name="Curved Connector 33"/>
          <p:cNvCxnSpPr>
            <a:stCxn id="53" idx="2"/>
          </p:cNvCxnSpPr>
          <p:nvPr/>
        </p:nvCxnSpPr>
        <p:spPr>
          <a:xfrm rot="10800000">
            <a:off x="4714200" y="5643000"/>
            <a:ext cx="214920" cy="3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4" name="Curved Connector 34"/>
          <p:cNvCxnSpPr>
            <a:stCxn id="53" idx="0"/>
          </p:cNvCxnSpPr>
          <p:nvPr/>
        </p:nvCxnSpPr>
        <p:spPr>
          <a:xfrm flipV="1" rot="16200000">
            <a:off x="6025680" y="5259960"/>
            <a:ext cx="214920" cy="123120"/>
          </a:xfrm>
          <a:prstGeom prst="curvedConnector5">
            <a:avLst>
              <a:gd name="adj1" fmla="val 50000"/>
              <a:gd name="adj2" fmla="val 49853"/>
              <a:gd name="adj3" fmla="val 5000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5" name="Curved Connector 35"/>
          <p:cNvCxnSpPr>
            <a:stCxn id="53" idx="1"/>
          </p:cNvCxnSpPr>
          <p:nvPr/>
        </p:nvCxnSpPr>
        <p:spPr>
          <a:xfrm flipV="1" rot="16200000">
            <a:off x="5184720" y="5387040"/>
            <a:ext cx="144720" cy="84960"/>
          </a:xfrm>
          <a:prstGeom prst="curvedConnector5">
            <a:avLst>
              <a:gd name="adj1" fmla="val 49875"/>
              <a:gd name="adj2" fmla="val 49787"/>
              <a:gd name="adj3" fmla="val 49875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6" name="Curved Connector 36"/>
          <p:cNvCxnSpPr>
            <a:stCxn id="53" idx="7"/>
          </p:cNvCxnSpPr>
          <p:nvPr/>
        </p:nvCxnSpPr>
        <p:spPr>
          <a:xfrm flipH="1" flipV="1" rot="5400000">
            <a:off x="7006680" y="536580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7" name="Curved Connector 37"/>
          <p:cNvCxnSpPr>
            <a:stCxn id="53" idx="4"/>
          </p:cNvCxnSpPr>
          <p:nvPr/>
        </p:nvCxnSpPr>
        <p:spPr>
          <a:xfrm flipH="1" rot="16200000">
            <a:off x="6096240" y="6026040"/>
            <a:ext cx="215280" cy="20880"/>
          </a:xfrm>
          <a:prstGeom prst="curvedConnector5">
            <a:avLst>
              <a:gd name="adj1" fmla="val 49916"/>
              <a:gd name="adj2" fmla="val 49122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8" name="Curved Connector 38"/>
          <p:cNvCxnSpPr>
            <a:stCxn id="53" idx="5"/>
          </p:cNvCxnSpPr>
          <p:nvPr/>
        </p:nvCxnSpPr>
        <p:spPr>
          <a:xfrm flipH="1" rot="16200000">
            <a:off x="7007040" y="5936040"/>
            <a:ext cx="216720" cy="56520"/>
          </a:xfrm>
          <a:prstGeom prst="curvedConnector5">
            <a:avLst>
              <a:gd name="adj1" fmla="val 49916"/>
              <a:gd name="adj2" fmla="val 50000"/>
              <a:gd name="adj3" fmla="val 49916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89" name="Curved Connector 39"/>
          <p:cNvCxnSpPr>
            <a:stCxn id="53" idx="6"/>
          </p:cNvCxnSpPr>
          <p:nvPr/>
        </p:nvCxnSpPr>
        <p:spPr>
          <a:xfrm flipV="1">
            <a:off x="7458120" y="5643000"/>
            <a:ext cx="257760" cy="37080"/>
          </a:xfrm>
          <a:prstGeom prst="curvedConnector5">
            <a:avLst>
              <a:gd name="adj1" fmla="val 49930"/>
              <a:gd name="adj2" fmla="val 50000"/>
              <a:gd name="adj3" fmla="val 4993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0" name="Shape 40"/>
          <p:cNvCxnSpPr>
            <a:stCxn id="53" idx="3"/>
          </p:cNvCxnSpPr>
          <p:nvPr/>
        </p:nvCxnSpPr>
        <p:spPr>
          <a:xfrm rot="5400000">
            <a:off x="5148720" y="5850720"/>
            <a:ext cx="145440" cy="155880"/>
          </a:xfrm>
          <a:prstGeom prst="curved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1" name="Rectangle 3"/>
          <p:cNvSpPr/>
          <p:nvPr/>
        </p:nvSpPr>
        <p:spPr>
          <a:xfrm>
            <a:off x="2357280" y="257760"/>
            <a:ext cx="421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3. Motility of bacte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Muhab</cp:lastModifiedBy>
  <dcterms:modified xsi:type="dcterms:W3CDTF">2013-02-10T17:35:34Z</dcterms:modified>
  <cp:revision>15</cp:revision>
  <dc:subject/>
  <dc:title>Occurrence (Distribution of bacteria)</dc:title>
</cp:coreProperties>
</file>