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DD1-1C75-47DA-919D-22CBA7F1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A3E-7317-4176-B601-FA1D8B1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810-0ADB-4504-BCBD-EB181337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8DE-681A-4752-BDB5-8F3F4107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4DD-D05B-45CA-BF4B-B904F730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67D-A30A-4C3A-A077-336446FB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FCF-5901-477C-8A5D-DA25BEA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876-C9DF-4A95-9114-7F6696C2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F17-20B5-45AC-974C-BAB551E1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E1B-F646-40AF-9920-0AA73C44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091-625A-4553-B576-C0B1C3B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A33-2F3E-49E7-A1F2-C972208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71C-E7C8-4F92-A470-6713E00B3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61680"/>
            <a:ext cx="640080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occur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,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types live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im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um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ing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s can live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t w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can fo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(Fig. 2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-sha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ubacteria are known as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ci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heric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ubacteria are called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cci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cocci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915240" y="1316160"/>
            <a:ext cx="2016000" cy="215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rcRect l="0" t="0" r="38614" b="58183"/>
          <a:stretch/>
        </p:blipFill>
        <p:spPr>
          <a:xfrm>
            <a:off x="6915240" y="36147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Spir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04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Actinomycet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ubtitle 2"/>
          <p:cNvSpPr/>
          <p:nvPr/>
        </p:nvSpPr>
        <p:spPr>
          <a:xfrm>
            <a:off x="714240" y="1285920"/>
            <a:ext cx="77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08400" y="128592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0012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510560" y="3857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06960" y="54291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59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Curved Connector 10"/>
            <p:cNvCxnSpPr>
              <a:stCxn id="59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1" name="Curved Connector 11"/>
            <p:cNvCxnSpPr>
              <a:stCxn id="59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2" name="Curved Connector 12"/>
            <p:cNvCxnSpPr>
              <a:stCxn id="59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3" name="Curved Connector 13"/>
            <p:cNvCxnSpPr>
              <a:stCxn id="59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4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65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7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68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69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1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3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9"/>
              <p:cNvCxnSpPr>
                <a:stCxn id="74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76" name="Curved Connector 30"/>
              <p:cNvCxnSpPr>
                <a:stCxn id="74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77" name="Curved Connector 31"/>
              <p:cNvCxnSpPr>
                <a:stCxn id="74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78" name="Curved Connector 32"/>
              <p:cNvCxnSpPr>
                <a:stCxn id="74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9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0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1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2" name="Curved Connector 27"/>
            <p:cNvCxnSpPr>
              <a:stCxn id="74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3" name="Curved Connector 33"/>
          <p:cNvCxnSpPr>
            <a:stCxn id="53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4" name="Curved Connector 34"/>
          <p:cNvCxnSpPr>
            <a:stCxn id="53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5" name="Curved Connector 35"/>
          <p:cNvCxnSpPr>
            <a:stCxn id="53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6" name="Curved Connector 36"/>
          <p:cNvCxnSpPr>
            <a:stCxn id="53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Curved Connector 37"/>
          <p:cNvCxnSpPr>
            <a:stCxn id="53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8" name="Curved Connector 38"/>
          <p:cNvCxnSpPr>
            <a:stCxn id="53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9"/>
          <p:cNvCxnSpPr>
            <a:stCxn id="53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Shape 40"/>
          <p:cNvCxnSpPr>
            <a:stCxn id="53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1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Muhab</cp:lastModifiedBy>
  <dcterms:modified xsi:type="dcterms:W3CDTF">2013-02-10T17:35:34Z</dcterms:modified>
  <cp:revision>15</cp:revision>
  <dc:subject/>
  <dc:title>Occurrence (Distribution of bacteria)</dc:title>
</cp:coreProperties>
</file>