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F81-2881-4AD3-A3A4-54E3CC00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212-26FC-4954-B52A-65BAA1B5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25FA-95D7-4F2E-8102-34028673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414F-E9DC-49E3-8483-ACC801A8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246-DF08-4B56-947F-D02729BB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130-C1F7-46E3-AC9D-5B3DF1C9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0F1-2EC3-4835-B36E-DFCC3DE4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33C-5735-4011-9FF4-0E2CEB17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E53-45FE-4564-A128-6CD788FF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8B3-C918-4EBA-83F8-501A4B3C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D92-A2A8-4786-B37C-3041150A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E5D-C04F-4036-855B-1E6AE4DB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C3EE-B6AD-46FD-8412-655C5CDFE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213920"/>
            <a:ext cx="822960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By Binary fis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occurs normally under favorable conditions. The cell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onga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become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trict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its middle. The cytoplasm divides and the constriction increases until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ll is split into two cel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Fig. 5). The generation time (time needed for the cell to divide into two) differs according to species and prevailing conditions.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tion ti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s from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minutes to 6 hou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 hou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nder optimum conditions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vidual would produc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veral bill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behavior which does not prevail due to the interference of other facto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oduction in Bacteri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1116-4"/>
          <p:cNvPicPr/>
          <p:nvPr/>
        </p:nvPicPr>
        <p:blipFill>
          <a:blip r:embed="rId1"/>
          <a:stretch/>
        </p:blipFill>
        <p:spPr>
          <a:xfrm>
            <a:off x="2571840" y="4143240"/>
            <a:ext cx="3714840" cy="1592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2614680" y="5782320"/>
            <a:ext cx="3486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Fig. 5. Binary fission in bacteria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Binary_Fission.png"/>
          <p:cNvPicPr/>
          <p:nvPr/>
        </p:nvPicPr>
        <p:blipFill>
          <a:blip r:embed="rId1"/>
          <a:stretch/>
        </p:blipFill>
        <p:spPr>
          <a:xfrm>
            <a:off x="762120" y="1595520"/>
            <a:ext cx="7619760" cy="3666960"/>
          </a:xfrm>
          <a:prstGeom prst="rect">
            <a:avLst/>
          </a:prstGeom>
          <a:ln w="0">
            <a:noFill/>
          </a:ln>
        </p:spPr>
      </p:pic>
      <p:sp>
        <p:nvSpPr>
          <p:cNvPr id="46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ary fiss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71680"/>
            <a:ext cx="8229600" cy="33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. By Endospore form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small spherical or oval bodies formed within the cell, due to the contraction of the cytoplasm. They become surrounded with a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hick wa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ppear as glistening bodies which stain poor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capable of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esist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nfavorable environmental conditions for many years. They can withstand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oil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desicc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high concentrations of disinfectants. When conditions become favorable,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pores germinat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re transformed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nto vegetative cel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Spore formation usually occurs in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od-shaped bacteri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acill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lostridi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. The formed spore may b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located eith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)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entral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, b)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erminall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     c)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ub-terminal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Fig. 6). In some species the spore diameter is greater than the width of the bacterial cel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1143000" y="4272120"/>
            <a:ext cx="7286400" cy="656640"/>
            <a:chOff x="1143000" y="4272120"/>
            <a:chExt cx="7286400" cy="656640"/>
          </a:xfrm>
        </p:grpSpPr>
        <p:sp>
          <p:nvSpPr>
            <p:cNvPr id="49" name="Oval 2"/>
            <p:cNvSpPr/>
            <p:nvPr/>
          </p:nvSpPr>
          <p:spPr>
            <a:xfrm>
              <a:off x="1143000" y="4272120"/>
              <a:ext cx="2081880" cy="65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3"/>
            <p:cNvSpPr/>
            <p:nvPr/>
          </p:nvSpPr>
          <p:spPr>
            <a:xfrm>
              <a:off x="3522240" y="4272120"/>
              <a:ext cx="2081880" cy="65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4"/>
            <p:cNvSpPr/>
            <p:nvPr/>
          </p:nvSpPr>
          <p:spPr>
            <a:xfrm>
              <a:off x="6347520" y="4272120"/>
              <a:ext cx="2081880" cy="656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"/>
            <p:cNvSpPr/>
            <p:nvPr/>
          </p:nvSpPr>
          <p:spPr>
            <a:xfrm>
              <a:off x="2125080" y="4272120"/>
              <a:ext cx="245160" cy="656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6"/>
            <p:cNvSpPr/>
            <p:nvPr/>
          </p:nvSpPr>
          <p:spPr>
            <a:xfrm>
              <a:off x="3517200" y="4429080"/>
              <a:ext cx="245160" cy="2862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6645240" y="4343040"/>
              <a:ext cx="228600" cy="5144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8"/>
          <p:cNvSpPr/>
          <p:nvPr/>
        </p:nvSpPr>
        <p:spPr>
          <a:xfrm>
            <a:off x="1214280" y="5124600"/>
            <a:ext cx="7429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entral                               Terminal                                     Sub-termin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ndo-spore                          endo-spore                                    endo-sp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786040" y="5901480"/>
            <a:ext cx="3143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Fig. 6.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Endospore for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rcRect l="5520" t="24327" r="42110" b="9117"/>
          <a:stretch/>
        </p:blipFill>
        <p:spPr>
          <a:xfrm>
            <a:off x="1643040" y="500040"/>
            <a:ext cx="5572080" cy="44337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 flipV="1" rot="10800000">
            <a:off x="2357280" y="5250600"/>
            <a:ext cx="50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526"/>
                </a:solidFill>
                <a:latin typeface="Arial"/>
                <a:ea typeface="Calibri"/>
              </a:rPr>
              <a:t> </a:t>
            </a:r>
            <a:r>
              <a:rPr b="1" lang="en-US" sz="1400" spc="-1" strike="noStrike">
                <a:solidFill>
                  <a:srgbClr val="292526"/>
                </a:solidFill>
                <a:latin typeface="Arial"/>
                <a:ea typeface="Calibri"/>
              </a:rPr>
              <a:t>The sporulation cycle of </a:t>
            </a:r>
            <a:r>
              <a:rPr b="1" i="1" lang="en-US" sz="1400" spc="-1" strike="noStrike">
                <a:solidFill>
                  <a:srgbClr val="292526"/>
                </a:solidFill>
                <a:latin typeface="Arial"/>
                <a:ea typeface="Calibri"/>
              </a:rPr>
              <a:t>Bacillus subtilis</a:t>
            </a:r>
            <a:r>
              <a:rPr b="1" lang="en-US" sz="1400" spc="-1" strike="noStrike">
                <a:solidFill>
                  <a:srgbClr val="292526"/>
                </a:solidFill>
                <a:latin typeface="Arial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526"/>
                </a:solidFill>
                <a:latin typeface="Arial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00040" y="114264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r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ss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 one of multiplic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nce most rod-shaped forms produce only one spore each. It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idered as a method for keeping the organis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act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rvi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un-favourable condi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760" y="713880"/>
            <a:ext cx="52862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By Conidia 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2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occurs in members of certain families belonging to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onmyce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.g.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ends of the filaments become septated forming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in of conidi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to those produced by true fungi. These conidia can resist desiccation (similar to endospores) but they cannot resist high temperatur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onidia formation.png"/>
          <p:cNvPicPr/>
          <p:nvPr/>
        </p:nvPicPr>
        <p:blipFill>
          <a:blip r:embed="rId1"/>
          <a:srcRect l="0" t="18784" r="48605" b="8600"/>
          <a:stretch/>
        </p:blipFill>
        <p:spPr>
          <a:xfrm>
            <a:off x="6143760" y="785880"/>
            <a:ext cx="2571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16:09:36Z</dcterms:created>
  <dc:creator>Baba</dc:creator>
  <dc:description/>
  <dc:language>en-US</dc:language>
  <cp:lastModifiedBy>DTK</cp:lastModifiedBy>
  <dcterms:modified xsi:type="dcterms:W3CDTF">2013-02-12T08:43:54Z</dcterms:modified>
  <cp:revision>24</cp:revision>
  <dc:subject/>
  <dc:title>Occurrence (Distribution of bacteria)</dc:title>
</cp:coreProperties>
</file>