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4596-0C17-47DA-83A7-FBEEEBBC0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D347-8346-450B-9F46-9C00CE1A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91A0-CF6A-42EE-B0A8-3A8A9E3F0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474F-C2E3-414A-A404-438F5D738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8D76-B9D9-4B80-A545-E349CDB9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C6D0-B28D-484D-8840-59D95CBC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DD80-52E4-412C-A37E-0AE6FAFD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9798-627D-441A-97A3-A9477A82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A912-EEFE-48C7-9661-FEE20E0B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9E81-0C75-4DE0-A95D-8418BB77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671F-BDA8-48D6-A0B5-7B3C8E5A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929D-0662-4CE2-81A2-2012D3A0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D7C3-F64A-4BCB-B122-96FEF96EF72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Bacterial growth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42960" y="1714680"/>
            <a:ext cx="778680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athematics of bacterial growth is fairly simple, since each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original cell 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divides to form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wo new cel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ith the loss of the original par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athematical series describing growth is: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1, 2, 4, 8, 16, …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can be written as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 2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 2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 2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 2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 2</a:t>
            </a:r>
            <a:r>
              <a:rPr b="0" lang="en-US" sz="2800" spc="-1" strike="noStrike" baseline="30000">
                <a:solidFill>
                  <a:srgbClr val="ff0000"/>
                </a:solidFill>
                <a:latin typeface="Calibri"/>
              </a:rPr>
              <a:t>5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, 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eneration tim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ime needed for the cell to divide into two) differs according to species and prevailing conditions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example, a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bacterium that divides every 30 min has a generation time of 30 mi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rcRect l="33231" t="30937" r="36189" b="29606"/>
          <a:stretch/>
        </p:blipFill>
        <p:spPr>
          <a:xfrm>
            <a:off x="1674720" y="1733400"/>
            <a:ext cx="546912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bacterial growth curve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terial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growth ov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 can be graphed a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ell numb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su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called a growth cur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curve typically ha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istinc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has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La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Exponenti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Stationa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Dea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hase                          (log) phase            phase                       ph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4"/>
          <p:cNvCxnSpPr/>
          <p:nvPr/>
        </p:nvCxnSpPr>
        <p:spPr>
          <a:xfrm flipH="1">
            <a:off x="1713960" y="4000680"/>
            <a:ext cx="285804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" name="Straight Arrow Connector 6"/>
          <p:cNvCxnSpPr/>
          <p:nvPr/>
        </p:nvCxnSpPr>
        <p:spPr>
          <a:xfrm flipH="1">
            <a:off x="3999960" y="4000680"/>
            <a:ext cx="57204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9" name="Straight Arrow Connector 8"/>
          <p:cNvCxnSpPr/>
          <p:nvPr/>
        </p:nvCxnSpPr>
        <p:spPr>
          <a:xfrm>
            <a:off x="4572000" y="4000680"/>
            <a:ext cx="92952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0" name="Straight Arrow Connector 10"/>
          <p:cNvCxnSpPr/>
          <p:nvPr/>
        </p:nvCxnSpPr>
        <p:spPr>
          <a:xfrm>
            <a:off x="4571640" y="4000320"/>
            <a:ext cx="271548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Lag phase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*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I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fir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hase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crease in cell numb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Cells are actively metabolizing, in preparation for cell divisio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* It may be short or very long, according to the growth medium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rcRect l="26042" t="29169" r="31772" b="31668"/>
          <a:stretch/>
        </p:blipFill>
        <p:spPr>
          <a:xfrm>
            <a:off x="1428840" y="2714760"/>
            <a:ext cx="578628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8229600" cy="214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Exponential or log pha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Is the </a:t>
            </a: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seco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has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called the exponential or </a:t>
            </a: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lo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has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This is the period in which the 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cells grow most rapidl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doubl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t a fairly constant rat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Th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im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t takes the culture to double is called th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generation tim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The generation time depends on several factors: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1.  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the organism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     2.  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the growth medium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temperature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rcRect l="26042" t="29169" r="31772" b="31668"/>
          <a:stretch/>
        </p:blipFill>
        <p:spPr>
          <a:xfrm>
            <a:off x="1571760" y="3000240"/>
            <a:ext cx="57862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rcRect l="26042" t="29169" r="31772" b="31668"/>
          <a:stretch/>
        </p:blipFill>
        <p:spPr>
          <a:xfrm>
            <a:off x="1500120" y="3429000"/>
            <a:ext cx="5786640" cy="3357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I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phase .      * metabolism slows.  * cells cease rapid cell division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Why?</a:t>
            </a:r>
            <a:br>
              <a:rPr sz="2000"/>
            </a:b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Due to 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high cell density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depletion of nutrients 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accumulation of waste produc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itle 1"/>
          <p:cNvSpPr/>
          <p:nvPr/>
        </p:nvSpPr>
        <p:spPr>
          <a:xfrm>
            <a:off x="428760" y="571680"/>
            <a:ext cx="82296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Stationary phase: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rcRect l="26042" t="29169" r="31772" b="31668"/>
          <a:stretch/>
        </p:blipFill>
        <p:spPr>
          <a:xfrm>
            <a:off x="1428840" y="2714760"/>
            <a:ext cx="5786280" cy="3357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Death phase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*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I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fin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hase 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cells </a:t>
            </a: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quickly los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ability to divide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0" lang="en-US" sz="2000" spc="-1" strike="noStrike">
                <a:solidFill>
                  <a:srgbClr val="00b0f0"/>
                </a:solidFill>
                <a:latin typeface="Calibri"/>
              </a:rPr>
              <a:t>exponential dea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actors affecting bacterial grow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factors affect the generation time of the bacterium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erature   pH   oxygen   salt concentr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nutri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Straight Arrow Connector 4"/>
          <p:cNvCxnSpPr/>
          <p:nvPr/>
        </p:nvCxnSpPr>
        <p:spPr>
          <a:xfrm flipH="1">
            <a:off x="2071080" y="2642760"/>
            <a:ext cx="57204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Straight Arrow Connector 6"/>
          <p:cNvCxnSpPr/>
          <p:nvPr/>
        </p:nvCxnSpPr>
        <p:spPr>
          <a:xfrm>
            <a:off x="2642040" y="2643120"/>
            <a:ext cx="42948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Straight Arrow Connector 8"/>
          <p:cNvCxnSpPr/>
          <p:nvPr/>
        </p:nvCxnSpPr>
        <p:spPr>
          <a:xfrm>
            <a:off x="2642760" y="2642760"/>
            <a:ext cx="150084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Straight Arrow Connector 10"/>
          <p:cNvCxnSpPr/>
          <p:nvPr/>
        </p:nvCxnSpPr>
        <p:spPr>
          <a:xfrm>
            <a:off x="2642760" y="2643120"/>
            <a:ext cx="364428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Rectangle 11"/>
          <p:cNvSpPr/>
          <p:nvPr/>
        </p:nvSpPr>
        <p:spPr>
          <a:xfrm>
            <a:off x="642960" y="49291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While most bacteria grow best when these parameters are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     opt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r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8584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ording the temperature degree that bacteria survive, they can classified to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Straight Arrow Connector 4"/>
          <p:cNvCxnSpPr/>
          <p:nvPr/>
        </p:nvCxnSpPr>
        <p:spPr>
          <a:xfrm flipH="1">
            <a:off x="856440" y="2856600"/>
            <a:ext cx="307260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Straight Arrow Connector 6"/>
          <p:cNvCxnSpPr/>
          <p:nvPr/>
        </p:nvCxnSpPr>
        <p:spPr>
          <a:xfrm flipH="1">
            <a:off x="2928600" y="2857680"/>
            <a:ext cx="100080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1" name="Straight Arrow Connector 8"/>
          <p:cNvCxnSpPr/>
          <p:nvPr/>
        </p:nvCxnSpPr>
        <p:spPr>
          <a:xfrm>
            <a:off x="3929040" y="2857320"/>
            <a:ext cx="135792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Straight Arrow Connector 10"/>
          <p:cNvCxnSpPr/>
          <p:nvPr/>
        </p:nvCxnSpPr>
        <p:spPr>
          <a:xfrm>
            <a:off x="3929040" y="2857320"/>
            <a:ext cx="364392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3" name="Rectangle 11"/>
          <p:cNvSpPr/>
          <p:nvPr/>
        </p:nvSpPr>
        <p:spPr>
          <a:xfrm>
            <a:off x="320760" y="357192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sychroph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2293200" y="355932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mesoph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4294080" y="357192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hermoph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6679800" y="3559320"/>
            <a:ext cx="16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extramophil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285840" y="4071960"/>
            <a:ext cx="1500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bacteria that grow best from about 0 - 20 º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1928880" y="421488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row best at ambient temperatures 20 -40 º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7"/>
          <p:cNvSpPr/>
          <p:nvPr/>
        </p:nvSpPr>
        <p:spPr>
          <a:xfrm>
            <a:off x="4071960" y="4214880"/>
            <a:ext cx="1857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cteria that have an optimum temperature above 40 º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6365520" y="4286160"/>
            <a:ext cx="203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grow well at 100- 120 º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09:18:21Z</dcterms:created>
  <dc:creator>DTK</dc:creator>
  <dc:description/>
  <dc:language>en-US</dc:language>
  <cp:lastModifiedBy>DTK</cp:lastModifiedBy>
  <dcterms:modified xsi:type="dcterms:W3CDTF">2012-09-29T05:31:34Z</dcterms:modified>
  <cp:revision>16</cp:revision>
  <dc:subject/>
  <dc:title>Bacterial growth</dc:title>
</cp:coreProperties>
</file>