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664-2458-4458-8C5D-0E2EE9E5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8F9-6CB2-414F-861A-7ABA41E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250-1C69-4625-87A2-E3352EC7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0A4-28F4-4F29-BD7A-7A434DF6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787-0131-496D-9AFD-61167EF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D28-07EE-4790-8A0D-80F027EA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1FD-A49A-4E0C-B56C-98D10C0B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ACF-EFF0-4306-A435-838149D5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C29-843B-48D7-B408-6394804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B85-0572-4BFF-A9AD-824BE79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5C1-306C-42BB-9F49-6384CB2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82E-92DD-4276-9CE6-6063F80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2D2E-9DF4-439F-AC6C-1037E0D110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acterial growth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1714680"/>
            <a:ext cx="7786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thematics of bacterial growth is fairly simple, since ea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iginal cell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divides to for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new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ith the loss of the original pa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thematical series describing growth i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, 2, 4, 8, 16, …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n be written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ime needed for the cell to divide into two) differs according to species and prevailing condition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acterium that divides every 30 min has a generation time of 30 m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3231" t="30937" r="36189" b="29606"/>
          <a:stretch/>
        </p:blipFill>
        <p:spPr>
          <a:xfrm>
            <a:off x="1674720" y="1733400"/>
            <a:ext cx="546912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bacterial growth curv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l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growth ov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can be graphed 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ell numb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called a growth cur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urve typically h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tinc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h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La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pon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tation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                         (log) phase            phase                       ph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 flipH="1">
            <a:off x="1713960" y="4000680"/>
            <a:ext cx="285804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6"/>
          <p:cNvCxnSpPr/>
          <p:nvPr/>
        </p:nvCxnSpPr>
        <p:spPr>
          <a:xfrm flipH="1">
            <a:off x="3999960" y="4000680"/>
            <a:ext cx="57204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8"/>
          <p:cNvCxnSpPr/>
          <p:nvPr/>
        </p:nvCxnSpPr>
        <p:spPr>
          <a:xfrm>
            <a:off x="4572000" y="4000680"/>
            <a:ext cx="9295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4571640" y="4000320"/>
            <a:ext cx="2715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ag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e in cell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are actively metabolizing, in preparation for cell divis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* It may be short or very long, according to the growth mediu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ponential or log ph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Is the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eco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alled the exponential or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lo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is is the period in which the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cells grow most rapid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oubl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t a fairly constant r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t takes the culture to double is called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eneration ti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generation time depends on several factors: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1. 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organis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    2. 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growth medium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emperatu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571760" y="300024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500120" y="3429000"/>
            <a:ext cx="5786640" cy="33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phase .      * metabolism slows.  * cells cease rapid cell divis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br>
              <a:rPr sz="2000"/>
            </a:b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ue to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high cell d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depletion of nutrient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accumulation of waste produ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28760" y="571680"/>
            <a:ext cx="8229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eath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quickly lo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ility to divid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xponential de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bacter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factors affect the generation time of the bacteriu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  pH   oxygen   salt concen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nutri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H="1">
            <a:off x="2071080" y="2642760"/>
            <a:ext cx="5720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6"/>
          <p:cNvCxnSpPr/>
          <p:nvPr/>
        </p:nvCxnSpPr>
        <p:spPr>
          <a:xfrm>
            <a:off x="2642040" y="26431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8"/>
          <p:cNvCxnSpPr/>
          <p:nvPr/>
        </p:nvCxnSpPr>
        <p:spPr>
          <a:xfrm>
            <a:off x="2642760" y="2642760"/>
            <a:ext cx="1500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10"/>
          <p:cNvCxnSpPr/>
          <p:nvPr/>
        </p:nvCxnSpPr>
        <p:spPr>
          <a:xfrm>
            <a:off x="2642760" y="2643120"/>
            <a:ext cx="36442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Rectangle 11"/>
          <p:cNvSpPr/>
          <p:nvPr/>
        </p:nvSpPr>
        <p:spPr>
          <a:xfrm>
            <a:off x="642960" y="49291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While most bacteria grow best when these parameters ar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he temperature degree that bacteria survive, they can classified to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4"/>
          <p:cNvCxnSpPr/>
          <p:nvPr/>
        </p:nvCxnSpPr>
        <p:spPr>
          <a:xfrm flipH="1">
            <a:off x="856440" y="2856600"/>
            <a:ext cx="307260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6"/>
          <p:cNvCxnSpPr/>
          <p:nvPr/>
        </p:nvCxnSpPr>
        <p:spPr>
          <a:xfrm flipH="1">
            <a:off x="2928600" y="2857680"/>
            <a:ext cx="1000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8"/>
          <p:cNvCxnSpPr/>
          <p:nvPr/>
        </p:nvCxnSpPr>
        <p:spPr>
          <a:xfrm>
            <a:off x="3929040" y="2857320"/>
            <a:ext cx="13579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10"/>
          <p:cNvCxnSpPr/>
          <p:nvPr/>
        </p:nvCxnSpPr>
        <p:spPr>
          <a:xfrm>
            <a:off x="3929040" y="2857320"/>
            <a:ext cx="36439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Rectangle 11"/>
          <p:cNvSpPr/>
          <p:nvPr/>
        </p:nvSpPr>
        <p:spPr>
          <a:xfrm>
            <a:off x="320760" y="35719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293200" y="35593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94080" y="3571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79800" y="355932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moph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85840" y="407196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cteria that grow best from about 0 - 2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1928880" y="42148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w best at ambient temperatures 20 -4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071960" y="421488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that have an optimum temperature above 4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365520" y="42861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grow well at 100- 12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DTK</cp:lastModifiedBy>
  <dcterms:modified xsi:type="dcterms:W3CDTF">2012-09-29T05:31:34Z</dcterms:modified>
  <cp:revision>16</cp:revision>
  <dc:subject/>
  <dc:title>Bacterial growth</dc:title>
</cp:coreProperties>
</file>