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8F0-625A-4253-A7DB-E4D99132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98B-966A-4E5B-8E8D-2B6F09DE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6DC-852D-4EAA-99F6-C511A1A6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983-1A25-4437-8A5D-82DE0999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423-EEC8-4910-B94A-DD2C8814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FD1-C7A2-49C0-8EB3-5E78B388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FE0-101A-4288-B286-AB4B05B9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A65-97D4-4A48-8A34-248A04F0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071-C261-4AB6-BD3C-8CA32416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655-0EA0-4A33-90FE-8816F086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3EB-A357-4701-A3E0-FC51DC61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248-6AF0-4564-BE68-E0865331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BB97-A95F-4C02-8B4C-47A8D893073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logie.uni-hamburg.de/b-online/library/webb/BOT311/Cyanobacteria/MicrocystisLa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I. Cyanobacteri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600" y="1428840"/>
            <a:ext cx="5643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ommonly known as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blue-green alga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utotrophic (Photosynthetic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ontain chlorophyll a, phycocyanin (</a:t>
            </a:r>
            <a:r>
              <a:rPr b="1" lang="en-US" sz="1700" spc="-1" strike="noStrike">
                <a:solidFill>
                  <a:srgbClr val="0070c0"/>
                </a:solidFill>
                <a:latin typeface="Calibri"/>
              </a:rPr>
              <a:t>blue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) and phycoerythrin (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y live in aquatic environments including oceans, ponds, lakes, tidal flats, and moist soil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y exist mostly as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colonies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filaments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and sometimes as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single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cell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ome filamentous forms can move. For example, filamentous forms such as</a:t>
            </a: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 Oscillatoria sp.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otate in a screw like manner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roduce gelatinous capsules which are often lighter than water and therefore help keep the algae up near the surface of the water 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eproduction in  by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fission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only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cell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Lack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chlorophyll</a:t>
            </a: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700" spc="-1" strike="noStrike">
                <a:solidFill>
                  <a:srgbClr val="ff0000"/>
                </a:solidFill>
                <a:latin typeface="Calibri"/>
              </a:rPr>
              <a:t>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photosynthetic product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s stored in their own form of starch, which is similar to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animal glycogen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DTK\Pictures\Oscillatoria4.jpg"/>
          <p:cNvPicPr/>
          <p:nvPr/>
        </p:nvPicPr>
        <p:blipFill>
          <a:blip r:embed="rId1"/>
          <a:srcRect l="28126" t="0" r="29693" b="0"/>
          <a:stretch/>
        </p:blipFill>
        <p:spPr>
          <a:xfrm>
            <a:off x="6572160" y="1357200"/>
            <a:ext cx="2214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eocaps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85840" y="16304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Unicellular or aggreg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-cyanosite.bio.purdue.edu/images/lgimages/gloesp.jpg"/>
          <p:cNvPicPr/>
          <p:nvPr/>
        </p:nvPicPr>
        <p:blipFill>
          <a:blip r:embed="rId1"/>
          <a:stretch/>
        </p:blipFill>
        <p:spPr>
          <a:xfrm>
            <a:off x="4714920" y="1857240"/>
            <a:ext cx="40863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rocystis 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500040" y="135720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MicrocystisLab.jpg (147108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1857240"/>
            <a:ext cx="40626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rcRect l="0" t="0" r="0" b="10207"/>
          <a:stretch/>
        </p:blipFill>
        <p:spPr>
          <a:xfrm>
            <a:off x="4322880" y="2143080"/>
            <a:ext cx="4821120" cy="3143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1000080" y="271476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abaen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642960" y="1643040"/>
            <a:ext cx="4357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. Unbra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000080" y="271476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igon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642960" y="1643040"/>
            <a:ext cx="4143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Branch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21949" r="51223" b="37944"/>
          <a:stretch/>
        </p:blipFill>
        <p:spPr>
          <a:xfrm>
            <a:off x="5072040" y="1500120"/>
            <a:ext cx="2857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ll structur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928800"/>
            <a:ext cx="39290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structure is very primiti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cell is composed of two par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ll w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opla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wall is composed 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lay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ner of which is thin and firm composed of cellulos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uter layer of the wall is thicker and gelatinous known as the sheath and mainly constituted of pectic compoun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6572160" y="2286000"/>
            <a:ext cx="1943280" cy="1828800"/>
            <a:chOff x="6572160" y="2286000"/>
            <a:chExt cx="1943280" cy="1828800"/>
          </a:xfrm>
        </p:grpSpPr>
        <p:sp>
          <p:nvSpPr>
            <p:cNvPr id="63" name="Oval 3"/>
            <p:cNvSpPr/>
            <p:nvPr/>
          </p:nvSpPr>
          <p:spPr>
            <a:xfrm>
              <a:off x="6572160" y="2286000"/>
              <a:ext cx="194328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4"/>
            <p:cNvSpPr/>
            <p:nvPr/>
          </p:nvSpPr>
          <p:spPr>
            <a:xfrm>
              <a:off x="6800760" y="2514240"/>
              <a:ext cx="1485720" cy="1371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5"/>
          <p:cNvSpPr/>
          <p:nvPr/>
        </p:nvSpPr>
        <p:spPr>
          <a:xfrm>
            <a:off x="5929200" y="2970360"/>
            <a:ext cx="74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V="1">
            <a:off x="6207120" y="3200400"/>
            <a:ext cx="722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4964400" y="27860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803840" y="3214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op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875120" y="3773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7143840" y="2928960"/>
            <a:ext cx="799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10200" y="3285720"/>
            <a:ext cx="157176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ll structur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400" y="928800"/>
            <a:ext cx="4143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toplast consists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par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pheral pigmented (coloured) region surrounding a colourless central regio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the blue pigment phycocyanin together with chlorophyll and known as chromoplas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lourless inner region (central body) contains several chromatin granules (DNA) which represent a primitive type of nucleus that lacks nuclear membrane and nucle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2"/>
          <p:cNvGrpSpPr/>
          <p:nvPr/>
        </p:nvGrpSpPr>
        <p:grpSpPr>
          <a:xfrm>
            <a:off x="6572160" y="2286000"/>
            <a:ext cx="1943280" cy="1828800"/>
            <a:chOff x="6572160" y="2286000"/>
            <a:chExt cx="1943280" cy="1828800"/>
          </a:xfrm>
        </p:grpSpPr>
        <p:sp>
          <p:nvSpPr>
            <p:cNvPr id="75" name="Oval 3"/>
            <p:cNvSpPr/>
            <p:nvPr/>
          </p:nvSpPr>
          <p:spPr>
            <a:xfrm>
              <a:off x="6572160" y="2286000"/>
              <a:ext cx="194328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4"/>
            <p:cNvSpPr/>
            <p:nvPr/>
          </p:nvSpPr>
          <p:spPr>
            <a:xfrm>
              <a:off x="6800760" y="2514240"/>
              <a:ext cx="1485720" cy="1371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"/>
          <p:cNvSpPr/>
          <p:nvPr/>
        </p:nvSpPr>
        <p:spPr>
          <a:xfrm>
            <a:off x="5929200" y="2970360"/>
            <a:ext cx="74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6207120" y="3200400"/>
            <a:ext cx="722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892760" y="27860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732200" y="3214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op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875120" y="3773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143840" y="2928960"/>
            <a:ext cx="799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 flipV="1">
            <a:off x="6010200" y="3285720"/>
            <a:ext cx="157176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yanobacterial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1116-18B"/>
          <p:cNvPicPr/>
          <p:nvPr/>
        </p:nvPicPr>
        <p:blipFill>
          <a:blip r:embed="rId1"/>
          <a:stretch/>
        </p:blipFill>
        <p:spPr>
          <a:xfrm>
            <a:off x="1071720" y="1643040"/>
            <a:ext cx="750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User</cp:lastModifiedBy>
  <dcterms:modified xsi:type="dcterms:W3CDTF">2013-03-02T04:56:08Z</dcterms:modified>
  <cp:revision>28</cp:revision>
  <dc:subject/>
  <dc:title>Bacterial growth</dc:title>
</cp:coreProperties>
</file>