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24BE-3FE8-4E2F-9CC1-BA7657E6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AC5-17F9-4EE6-A621-FFB61DE5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1DE-389A-4504-9F27-596CB738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AAE-B6C4-4E85-9B1C-51AE018D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146-0D96-4DDF-A07D-BBD9CBF6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6212-00F8-4B5D-84E2-AE4F6E49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2DB-1144-4B72-B5BC-9287B6F5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FEB-107B-4CBF-8646-2D53741F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B11-4F2C-4A19-8626-C3A0468E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59A-B915-468B-ACDF-E202AE81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C5B-ECD7-4A3B-B717-F4C3757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7158-E25A-49B2-9204-B1951135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0B2A-9C92-401F-A573-9951D4C488E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tany.hawaii.edu/faculty/webb/BOT311/Cyanobacteria/AkineteHeterocystLMHigh300Lab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571760"/>
            <a:ext cx="621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rows in stagnant water and on damp soi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branched filaments with barrel-like cell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rtain enlarged cells appear at intervals, which are known as heterocysts                      transparent + thick wal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whole filament is surrounded with gelatinous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ach two heterocysts delimit in between , a number of cells called hormogo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most cases clusters of filaments are grouped together in the form of gelatinous mas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 Arrow 3"/>
          <p:cNvSpPr/>
          <p:nvPr/>
        </p:nvSpPr>
        <p:spPr>
          <a:xfrm>
            <a:off x="3000240" y="278604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silicasecchidisk.conncoll.edu/Pics/Other%20Algae/Blue_Green%20jpegs/Nostoc_Key16.jpg"/>
          <p:cNvPicPr/>
          <p:nvPr/>
        </p:nvPicPr>
        <p:blipFill>
          <a:blip r:embed="rId1"/>
          <a:stretch/>
        </p:blipFill>
        <p:spPr>
          <a:xfrm rot="5400000">
            <a:off x="5821920" y="2392920"/>
            <a:ext cx="3786120" cy="2428920"/>
          </a:xfrm>
          <a:prstGeom prst="rect">
            <a:avLst/>
          </a:prstGeom>
          <a:ln w="0">
            <a:noFill/>
          </a:ln>
        </p:spPr>
      </p:pic>
      <p:sp>
        <p:nvSpPr>
          <p:cNvPr id="45" name="Title 1"/>
          <p:cNvSpPr/>
          <p:nvPr/>
        </p:nvSpPr>
        <p:spPr>
          <a:xfrm>
            <a:off x="6939000" y="5572080"/>
            <a:ext cx="16336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p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099880"/>
            <a:ext cx="404352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Vegetative reproduc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785880" y="4857840"/>
            <a:ext cx="76057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exual reproduction is not know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4457880" y="2071800"/>
            <a:ext cx="4043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Asexual re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6572160" y="328608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929040" y="3286080"/>
            <a:ext cx="1857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fiss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>
            <a:stCxn id="49" idx="2"/>
          </p:cNvCxnSpPr>
          <p:nvPr/>
        </p:nvCxnSpPr>
        <p:spPr>
          <a:xfrm>
            <a:off x="6480000" y="2643120"/>
            <a:ext cx="950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>
            <a:stCxn id="49" idx="2"/>
          </p:cNvCxnSpPr>
          <p:nvPr/>
        </p:nvCxnSpPr>
        <p:spPr>
          <a:xfrm flipH="1">
            <a:off x="5143320" y="2643120"/>
            <a:ext cx="13370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Straight Arrow Connector 13"/>
          <p:cNvCxnSpPr>
            <a:stCxn id="46" idx="2"/>
          </p:cNvCxnSpPr>
          <p:nvPr/>
        </p:nvCxnSpPr>
        <p:spPr>
          <a:xfrm flipH="1">
            <a:off x="2785320" y="1417680"/>
            <a:ext cx="1786680" cy="51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5"/>
          <p:cNvCxnSpPr>
            <a:stCxn id="46" idx="2"/>
          </p:cNvCxnSpPr>
          <p:nvPr/>
        </p:nvCxnSpPr>
        <p:spPr>
          <a:xfrm>
            <a:off x="4570920" y="1417680"/>
            <a:ext cx="1786680" cy="58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By fragment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lament                                    breaks into fragmen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ach                  gives rise to                 a new filame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ually fragmentation occurs at the heterocyst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s fragment is capable of creeping movements in the gelatinous sheath until it escapes and grows into a new filament.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ight Arrow 3"/>
          <p:cNvSpPr/>
          <p:nvPr/>
        </p:nvSpPr>
        <p:spPr>
          <a:xfrm>
            <a:off x="2357280" y="2714760"/>
            <a:ext cx="214344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ight Arrow 4"/>
          <p:cNvSpPr/>
          <p:nvPr/>
        </p:nvSpPr>
        <p:spPr>
          <a:xfrm>
            <a:off x="1643040" y="3571920"/>
            <a:ext cx="1009800" cy="142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Arrow 5"/>
          <p:cNvSpPr/>
          <p:nvPr/>
        </p:nvSpPr>
        <p:spPr>
          <a:xfrm>
            <a:off x="4705200" y="3571920"/>
            <a:ext cx="1009800" cy="1429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ontent Placeholder 2"/>
          <p:cNvSpPr/>
          <p:nvPr/>
        </p:nvSpPr>
        <p:spPr>
          <a:xfrm>
            <a:off x="609480" y="72396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1. Vegetative reprodu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libri"/>
              </a:rPr>
              <a:t>A) By fission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constriction is formed in the middle of the ce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tends from the surface inwards towards the cen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ivision into two cel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ds to the increase in number of cells per filament without production of a new on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own Arrow 3"/>
          <p:cNvSpPr/>
          <p:nvPr/>
        </p:nvSpPr>
        <p:spPr>
          <a:xfrm>
            <a:off x="4286160" y="25002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4"/>
          <p:cNvSpPr/>
          <p:nvPr/>
        </p:nvSpPr>
        <p:spPr>
          <a:xfrm>
            <a:off x="4286160" y="364320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own Arrow 5"/>
          <p:cNvSpPr/>
          <p:nvPr/>
        </p:nvSpPr>
        <p:spPr>
          <a:xfrm>
            <a:off x="4286160" y="485784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) By Akinetes.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takes place by means of resting , thick-walled spores known as akine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How 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 vegetative ce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large in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come rich in food materials and form a thick wa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kinetes are yellow or brown in colour and they are very resistant to un-favourable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the conditions are favourab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kinetes germin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o new filament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Asexual reproduction</a:t>
            </a: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own Arrow 4"/>
          <p:cNvSpPr/>
          <p:nvPr/>
        </p:nvSpPr>
        <p:spPr>
          <a:xfrm>
            <a:off x="4286160" y="2500200"/>
            <a:ext cx="35712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5"/>
          <p:cNvSpPr/>
          <p:nvPr/>
        </p:nvSpPr>
        <p:spPr>
          <a:xfrm>
            <a:off x="4286160" y="30718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6"/>
          <p:cNvSpPr/>
          <p:nvPr/>
        </p:nvSpPr>
        <p:spPr>
          <a:xfrm>
            <a:off x="4286160" y="37148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7"/>
          <p:cNvSpPr/>
          <p:nvPr/>
        </p:nvSpPr>
        <p:spPr>
          <a:xfrm>
            <a:off x="4286160" y="457200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wn Arrow 8"/>
          <p:cNvSpPr/>
          <p:nvPr/>
        </p:nvSpPr>
        <p:spPr>
          <a:xfrm>
            <a:off x="4286160" y="514368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9"/>
          <p:cNvSpPr/>
          <p:nvPr/>
        </p:nvSpPr>
        <p:spPr>
          <a:xfrm>
            <a:off x="4286160" y="585792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AkineteHeterocystLMHigh300Lab.jpg (15127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429080"/>
            <a:ext cx="2551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4:16:58Z</dcterms:created>
  <dc:creator>DELL</dc:creator>
  <dc:description/>
  <dc:language>en-US</dc:language>
  <cp:lastModifiedBy>DTK</cp:lastModifiedBy>
  <dcterms:modified xsi:type="dcterms:W3CDTF">2012-10-13T05:10:22Z</dcterms:modified>
  <cp:revision>9</cp:revision>
  <dc:subject/>
  <dc:title>Nostoc</dc:title>
</cp:coreProperties>
</file>