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E17-FC6F-475E-BCFD-0FA72BA6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99D-667F-42F2-B7F1-2D2482B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C37-C92B-4D11-A6E3-2863D47D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9BA-A1EB-4D7E-87E9-FCDF3B1A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20F-1D91-4BCC-85A3-0D94C5D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E47-C143-4691-9950-04DB3D41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E3F-D7F3-4D32-87C1-496F0C4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5F1-E3CA-425B-B06E-FDE0ED5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E63-A1D1-4921-8E1F-5EA3C3D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F71-9543-41E0-A8E1-93BDBE5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BC4-21AC-47A5-B60C-3111A1E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AD-AD1B-4719-AC3D-6251D5F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F33C-64D1-4082-8C3B-449319512F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621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ows in stagnant water and on damp soi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                     transparent + thick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Arrow 3"/>
          <p:cNvSpPr/>
          <p:nvPr/>
        </p:nvSpPr>
        <p:spPr>
          <a:xfrm>
            <a:off x="3000240" y="278604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821920" y="239292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6939000" y="557208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99880"/>
            <a:ext cx="404352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Asexual re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28608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29040" y="328608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ight Arrow 3"/>
          <p:cNvSpPr/>
          <p:nvPr/>
        </p:nvSpPr>
        <p:spPr>
          <a:xfrm>
            <a:off x="2357280" y="2714760"/>
            <a:ext cx="214344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4"/>
          <p:cNvSpPr/>
          <p:nvPr/>
        </p:nvSpPr>
        <p:spPr>
          <a:xfrm>
            <a:off x="1643040" y="3571920"/>
            <a:ext cx="1009800" cy="142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5"/>
          <p:cNvSpPr/>
          <p:nvPr/>
        </p:nvSpPr>
        <p:spPr>
          <a:xfrm>
            <a:off x="4705200" y="3571920"/>
            <a:ext cx="1009800" cy="142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609480" y="7239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Vegetative reprodu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own Arrow 3"/>
          <p:cNvSpPr/>
          <p:nvPr/>
        </p:nvSpPr>
        <p:spPr>
          <a:xfrm>
            <a:off x="4286160" y="25002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4"/>
          <p:cNvSpPr/>
          <p:nvPr/>
        </p:nvSpPr>
        <p:spPr>
          <a:xfrm>
            <a:off x="4286160" y="36432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5"/>
          <p:cNvSpPr/>
          <p:nvPr/>
        </p:nvSpPr>
        <p:spPr>
          <a:xfrm>
            <a:off x="4286160" y="485784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akes place by means of resting , thick-walled spores known as akine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ow 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 vegetative ce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own Arrow 4"/>
          <p:cNvSpPr/>
          <p:nvPr/>
        </p:nvSpPr>
        <p:spPr>
          <a:xfrm>
            <a:off x="4286160" y="250020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5"/>
          <p:cNvSpPr/>
          <p:nvPr/>
        </p:nvSpPr>
        <p:spPr>
          <a:xfrm>
            <a:off x="4286160" y="30718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6"/>
          <p:cNvSpPr/>
          <p:nvPr/>
        </p:nvSpPr>
        <p:spPr>
          <a:xfrm>
            <a:off x="428616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7"/>
          <p:cNvSpPr/>
          <p:nvPr/>
        </p:nvSpPr>
        <p:spPr>
          <a:xfrm>
            <a:off x="4286160" y="457200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8"/>
          <p:cNvSpPr/>
          <p:nvPr/>
        </p:nvSpPr>
        <p:spPr>
          <a:xfrm>
            <a:off x="4286160" y="514368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9"/>
          <p:cNvSpPr/>
          <p:nvPr/>
        </p:nvSpPr>
        <p:spPr>
          <a:xfrm>
            <a:off x="4286160" y="58579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429080"/>
            <a:ext cx="2551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DTK</cp:lastModifiedBy>
  <dcterms:modified xsi:type="dcterms:W3CDTF">2012-10-13T05:10:22Z</dcterms:modified>
  <cp:revision>9</cp:revision>
  <dc:subject/>
  <dc:title>Nostoc</dc:title>
</cp:coreProperties>
</file>