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2D17-26F7-4614-968F-B9B6E8CC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513-BFB4-4118-9ADE-DEC3CB2F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5A0-B6F4-4937-8086-CD9BABB3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05D-0D40-4960-AFF0-C7B99EA6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FDF-2C6A-4A46-9E67-EA754B8D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48A-91AC-4F30-8855-35D40845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306-A211-4128-9407-667AA080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01B-D8E0-4EF9-A97A-BDBEAA35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2D9-BADF-48F4-94B7-5A9B188A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6D0-9BFC-4A7B-A9F3-4EE366E1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6BC-DF36-41AF-94B0-2C8A4B78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960-D5C5-400D-87D6-199C3999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D47E-C1BB-4D09-989E-3C2F55118E1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nesville.k12.in.us/lcsyellowpages/Tickit/Carl/defpage.html#eukaryotic" TargetMode="External"/><Relationship Id="rId2" Type="http://schemas.openxmlformats.org/officeDocument/2006/relationships/hyperlink" Target="http://www.lanesville.k12.in.us/lcsyellowpages/Tickit/Carl/defpage.html#unicellular" TargetMode="External"/><Relationship Id="rId3" Type="http://schemas.openxmlformats.org/officeDocument/2006/relationships/hyperlink" Target="http://www.lanesville.k12.in.us/lcsyellowpages/Tickit/Carl/defpage.html#multicellular" TargetMode="External"/><Relationship Id="rId4" Type="http://schemas.openxmlformats.org/officeDocument/2006/relationships/hyperlink" Target="http://www.lanesville.k12.in.us/lcsyellowpages/Tickit/Carl/defpage.html#heterotroph" TargetMode="External"/><Relationship Id="rId5" Type="http://schemas.openxmlformats.org/officeDocument/2006/relationships/hyperlink" Target="http://www.lanesville.k12.in.us/lcsyellowpages/Tickit/Carl/defpage.html#autotroph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anesville.k12.in.us/lcsyellowpages/Tickit/Carl/defpag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10717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I.  Kingdom Protist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14240" y="2357280"/>
            <a:ext cx="77868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 ar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ukaryotic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. 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ll have cells with nuclei.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ll live in moist environment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b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unicellular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or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ulticellular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. 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be microscopic or over 100 meters (300 feet) long. 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ar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eterotrophs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ile others ar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utotrophs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ubtitle 2"/>
          <p:cNvSpPr/>
          <p:nvPr/>
        </p:nvSpPr>
        <p:spPr>
          <a:xfrm>
            <a:off x="1500120" y="928800"/>
            <a:ext cx="62866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ista that are classified to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214200" y="3286080"/>
            <a:ext cx="40006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-like proti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rue-alga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4572000" y="3214800"/>
            <a:ext cx="40006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-like proti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toz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7"/>
          <p:cNvCxnSpPr>
            <a:stCxn id="43" idx="2"/>
          </p:cNvCxnSpPr>
          <p:nvPr/>
        </p:nvCxnSpPr>
        <p:spPr>
          <a:xfrm>
            <a:off x="4643280" y="2214360"/>
            <a:ext cx="185832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Straight Arrow Connector 8"/>
          <p:cNvCxnSpPr>
            <a:stCxn id="43" idx="2"/>
          </p:cNvCxnSpPr>
          <p:nvPr/>
        </p:nvCxnSpPr>
        <p:spPr>
          <a:xfrm flipH="1">
            <a:off x="2571840" y="2214720"/>
            <a:ext cx="20718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lant like Protista (True-alga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ynthetic; their nutrition is plant-lik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ost all of them have chlorophyll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most have chlorophyll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but only a few have chlorophyll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lso have a variety of carotenoids and other pig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common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lorophy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glenophy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illariophyta (diato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eophy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hodophyt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lorophyta (Green alga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lorophyll                   main pigme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st live in fresh water, although some marine species exis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ell walls are composed of cellulose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reen algae can b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icellular                colonial                   multicellul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Chlamydomonas       Volvox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irogyr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ight Arrow 3"/>
          <p:cNvSpPr/>
          <p:nvPr/>
        </p:nvSpPr>
        <p:spPr>
          <a:xfrm>
            <a:off x="2643120" y="1714680"/>
            <a:ext cx="1071720" cy="142560"/>
          </a:xfrm>
          <a:prstGeom prst="rightArrow">
            <a:avLst>
              <a:gd name="adj1" fmla="val 50000"/>
              <a:gd name="adj2" fmla="val 501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5"/>
          <p:cNvCxnSpPr/>
          <p:nvPr/>
        </p:nvCxnSpPr>
        <p:spPr>
          <a:xfrm flipH="1">
            <a:off x="1714320" y="3785040"/>
            <a:ext cx="235800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7"/>
          <p:cNvCxnSpPr/>
          <p:nvPr/>
        </p:nvCxnSpPr>
        <p:spPr>
          <a:xfrm flipH="1">
            <a:off x="4070160" y="3716280"/>
            <a:ext cx="21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9"/>
          <p:cNvCxnSpPr/>
          <p:nvPr/>
        </p:nvCxnSpPr>
        <p:spPr>
          <a:xfrm>
            <a:off x="4071600" y="378612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صورة 20" descr="structure of a Chlamydomonas.jpg"/>
          <p:cNvPicPr/>
          <p:nvPr/>
        </p:nvPicPr>
        <p:blipFill>
          <a:blip r:embed="rId1"/>
          <a:stretch/>
        </p:blipFill>
        <p:spPr>
          <a:xfrm>
            <a:off x="352440" y="428760"/>
            <a:ext cx="8077320" cy="6086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19288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hlamydomo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http://sm-a1.yimg.com/image/?url=http%3A%2F%2Fupload.wikimedia.org%2Fwikipedia%2Fcommons%2F5%2F5f%2FAlga_volvox.png&amp;t=1255520559&amp;ttl=43200&amp;sig=g_nqFPfU50QfemGei4xlhQ--~B"/>
          <p:cNvPicPr/>
          <p:nvPr/>
        </p:nvPicPr>
        <p:blipFill>
          <a:blip r:embed="rId1"/>
          <a:stretch/>
        </p:blipFill>
        <p:spPr>
          <a:xfrm>
            <a:off x="1785960" y="1214280"/>
            <a:ext cx="5214960" cy="4854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500040" y="64296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olvox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صورة 9" descr="SPIROGYRA.jpg"/>
          <p:cNvPicPr/>
          <p:nvPr/>
        </p:nvPicPr>
        <p:blipFill>
          <a:blip r:embed="rId1"/>
          <a:stretch/>
        </p:blipFill>
        <p:spPr>
          <a:xfrm>
            <a:off x="1500120" y="1428840"/>
            <a:ext cx="5913360" cy="4071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428760" y="50004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pirogyra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7:59:43Z</dcterms:created>
  <dc:creator>DELL</dc:creator>
  <dc:description/>
  <dc:language>en-US</dc:language>
  <cp:lastModifiedBy>DELL</cp:lastModifiedBy>
  <dcterms:modified xsi:type="dcterms:W3CDTF">2012-10-14T18:23:18Z</dcterms:modified>
  <cp:revision>4</cp:revision>
  <dc:subject/>
  <dc:title>II.  Kingdom Protista</dc:title>
</cp:coreProperties>
</file>