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D02-0CDD-4880-A843-B00325F7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699-4FBD-4034-8E86-14686054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A05-06C7-44A6-8DA1-8596536A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BA6-85CB-487F-B199-0A372CC1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AAE-7979-4B49-8A6D-61FDBF6E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1AA-0755-4211-948B-FE1B8F88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54A-F414-4AE3-A939-D9C18623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3C6-E698-440D-8DFA-7B1BF93D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531-13B1-455D-ACB3-2F2FFEA4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BEE-230B-4561-9BD4-74C6F246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109-7C27-4128-843E-41C55A67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F72-F060-473C-A4E2-EB8D8EB5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92B5-3FC4-41B0-BC32-F1A97F0EDE5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1:36:54Z</dcterms:created>
  <dc:creator>Dr.Bassam Abuamarah</dc:creator>
  <dc:description/>
  <dc:language>en-US</dc:language>
  <cp:lastModifiedBy>Dr.Bassam Abuamarah</cp:lastModifiedBy>
  <dcterms:modified xsi:type="dcterms:W3CDTF">2011-03-25T21:40:37Z</dcterms:modified>
  <cp:revision>1</cp:revision>
  <dc:subject/>
  <dc:title>Slide 1</dc:title>
</cp:coreProperties>
</file>