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B85D-BF4A-47D9-B950-FB5E6ABD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3E5-D561-4F50-BF8D-855AB0E6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E48-EA47-4349-B60E-9CBA4DFA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E0F-A6C3-40B7-8B92-B36525A2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0B1-0D28-46B7-AE09-94348899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77E-F38E-40C6-B4D2-28AA3830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2D8-776E-40AE-9CAA-3A62269A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9DF-39B1-4DF4-9CAF-5798F732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D3CD-01E8-4040-9EDF-2683B2D0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E1A8-C450-40DF-9967-D88C74D6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5E1C-5DB6-441E-809A-E84D2F12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A09-CD1A-43A0-BCA0-8943F48E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A831-ABEF-42A1-A148-4FA94DBFBD8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1:36:54Z</dcterms:created>
  <dc:creator>Dr.Bassam Abuamarah</dc:creator>
  <dc:description/>
  <dc:language>en-US</dc:language>
  <cp:lastModifiedBy>Dr.Bassam Abuamarah</cp:lastModifiedBy>
  <dcterms:modified xsi:type="dcterms:W3CDTF">2011-03-25T21:40:37Z</dcterms:modified>
  <cp:revision>1</cp:revision>
  <dc:subject/>
  <dc:title>Slide 1</dc:title>
</cp:coreProperties>
</file>