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DF9-13FA-42A1-B8F0-EBD8615B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DCD-D2AF-49E6-A088-0DDA9A6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85A-C829-4C6B-BC95-21F80407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206-26ED-4C4D-9076-90D7043D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5C7-4C9A-4363-A876-B719C2E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0B9-36EF-4CB7-A1F9-CEFA8FB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281-3283-4648-B87C-80B8B42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421-DE75-437E-AE7E-A5A1828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A28-4A78-41A7-9EF3-454656B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F90-8197-4828-A86B-A20E882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458-E344-4E1D-AA2E-2EC5330D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A92-E57E-482A-8E89-C1DB869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9329-C78C-4100-97BA-A5FDD45185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6:54Z</dcterms:created>
  <dc:creator>Dr.Bassam Abuamarah</dc:creator>
  <dc:description/>
  <dc:language>en-US</dc:language>
  <cp:lastModifiedBy>Dr.Bassam Abuamarah</cp:lastModifiedBy>
  <dcterms:modified xsi:type="dcterms:W3CDTF">2011-03-25T21:40:37Z</dcterms:modified>
  <cp:revision>1</cp:revision>
  <dc:subject/>
  <dc:title>Slide 1</dc:title>
</cp:coreProperties>
</file>