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DEE6-16F3-4C97-8A4D-CEF8B4E0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08B-A53C-47E6-816A-301A4208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A38-67DB-418D-82D2-5A46A8DB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07A-F520-48FD-A0A3-57D60520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9C5-7A7F-4EF6-ACA2-942645A7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A9A0-BECD-4C81-AF3F-928455E7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902-E919-46EB-815C-79399EDD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CE2-4041-4EC7-A01D-0EE5A078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EF39-EDE4-4099-AAA8-9306CB7D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403-1DAE-421B-B27E-CE928016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B1F-1F89-4BF9-9498-1526BD15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C9C-9A2A-4594-B00A-6F417DCD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1878-1015-43B1-988B-2A1EDD3B971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1:36:54Z</dcterms:created>
  <dc:creator>Dr.Bassam Abuamarah</dc:creator>
  <dc:description/>
  <dc:language>en-US</dc:language>
  <cp:lastModifiedBy>Dr.Bassam Abuamarah</cp:lastModifiedBy>
  <dcterms:modified xsi:type="dcterms:W3CDTF">2011-03-25T21:40:37Z</dcterms:modified>
  <cp:revision>1</cp:revision>
  <dc:subject/>
  <dc:title>Slide 1</dc:title>
</cp:coreProperties>
</file>