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58D-1B3A-4C70-AEAC-A3B7BB9A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142-7EBF-49C5-9014-77B8BCA6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449-194F-4F87-8DF1-7902DAFF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988-B78E-417D-BB19-E89F12B8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F31-E350-4863-96C8-193753D4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2AB-47B4-443D-A5C1-20169F41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219-2847-40BF-BA2A-4ACDEFD8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D85-563A-4BA7-8058-CCEFF209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C1B-DE74-45FD-A8E4-4EFFB927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A00-AF30-4D59-8F1B-C644BBDA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06E-5AE4-4994-B4D1-1EDF9BC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974-2EAE-45BF-B29C-8932500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E15A-4CC1-4929-9983-A2BC34560D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13:47Z</dcterms:created>
  <dc:creator>Dr.Bassam Abuamarah</dc:creator>
  <dc:description/>
  <dc:language>en-US</dc:language>
  <cp:lastModifiedBy>Dr.Bassam Abuamarah</cp:lastModifiedBy>
  <dcterms:modified xsi:type="dcterms:W3CDTF">2011-03-25T22:17:13Z</dcterms:modified>
  <cp:revision>1</cp:revision>
  <dc:subject/>
  <dc:title>Slide 1</dc:title>
</cp:coreProperties>
</file>