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00B1-F924-4A9F-881D-B886D581F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0052-FE79-469E-AD39-D651EC5C8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1721-7601-4514-9778-F27FF2161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8F7B-5F6D-4C02-9956-51CD3A2DE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16D5-693A-4B77-B03E-71217BF62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8B67-9DDE-402E-B167-3B52EC3FE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F2A0-D555-47E1-A369-EAD9D2B5C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20B2-2BC1-4CC8-8CD2-3657ABFA6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9CB1-07FD-45B4-9517-FE5445052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36DB-B9D1-49F5-A8A9-2981B9BEE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285F-084B-47BF-ABBB-E25A0C641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2145-E0A8-41E9-A49D-AFAF154F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FCB23-64B7-47FC-B421-2E2C69122B6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ShockwaveFlash1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5T22:13:47Z</dcterms:created>
  <dc:creator>Dr.Bassam Abuamarah</dc:creator>
  <dc:description/>
  <dc:language>en-US</dc:language>
  <cp:lastModifiedBy>Dr.Bassam Abuamarah</cp:lastModifiedBy>
  <dcterms:modified xsi:type="dcterms:W3CDTF">2011-03-25T22:17:13Z</dcterms:modified>
  <cp:revision>1</cp:revision>
  <dc:subject/>
  <dc:title>Slide 1</dc:title>
</cp:coreProperties>
</file>