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EEC-D9EC-4FCE-A0DB-104ED703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FBA-45A9-4F28-8A61-AF1CB309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621-031D-4A1B-8107-30C0015E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F60-FC92-4BCB-85E9-41CDCD11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B42-0B63-421E-BBFF-5BB4332C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035-F6EA-401E-8C72-D10D69EA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B79-DB99-48C3-B175-165701D8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9DD-7F41-4F6E-9276-0ABA785B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9AC-D685-4C33-8C0A-379642DC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D0F-118C-40A1-B933-CB843C9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264-13B9-47A8-87F4-E3266363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4A2-5817-4B46-AAE3-56F11A7C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2B7A-D4C8-44B6-9D1A-45B1DB3B47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13:47Z</dcterms:created>
  <dc:creator>Dr.Bassam Abuamarah</dc:creator>
  <dc:description/>
  <dc:language>en-US</dc:language>
  <cp:lastModifiedBy>Dr.Bassam Abuamarah</cp:lastModifiedBy>
  <dcterms:modified xsi:type="dcterms:W3CDTF">2011-03-25T22:17:13Z</dcterms:modified>
  <cp:revision>1</cp:revision>
  <dc:subject/>
  <dc:title>Slide 1</dc:title>
</cp:coreProperties>
</file>