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EFA-EF07-462F-9FE2-8BE3F596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C7B-C8C3-4E93-A024-D17187D3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209-30D6-47AB-AADA-06686CF4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4D5-4487-4251-AF03-1110A72D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9B2-7884-4522-8C55-AD6C2593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F27-7071-444F-AC08-28745C05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1E5-1510-4F31-9DE0-30D3991E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899-6508-4835-8FB3-F3B9BF6D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87F-4D7F-41E7-8F98-0A8461B0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89E-4B06-4117-A2E9-7B6B87CA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C62-7705-4434-847B-53385E2D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FD8-DA6D-4173-A78E-0449AF58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54E0-DB4A-42DD-8E96-3CAA46CF28B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13:47Z</dcterms:created>
  <dc:creator>Dr.Bassam Abuamarah</dc:creator>
  <dc:description/>
  <dc:language>en-US</dc:language>
  <cp:lastModifiedBy>Dr.Bassam Abuamarah</cp:lastModifiedBy>
  <dcterms:modified xsi:type="dcterms:W3CDTF">2011-03-25T22:17:13Z</dcterms:modified>
  <cp:revision>1</cp:revision>
  <dc:subject/>
  <dc:title>Slide 1</dc:title>
</cp:coreProperties>
</file>