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615-D4FD-4712-B07E-580EF978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F97-6ADB-4D44-8712-07CB7B8F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B6E-35B9-42FE-9196-A8501F6F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9D8-34BC-417B-A56B-8C6DB415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418-EAF2-41BA-B374-9DCF1580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587-0B56-47F5-8607-1B5F7A31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5DC-CE57-45BB-8D2D-EE60E254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2E3-8CBE-4C16-92C3-E34629D5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296-C66C-410B-96B9-B4AE7FD5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2A9-EB1B-46FE-B888-29CF4274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7FC-0AA1-4025-8CE8-2F489C93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0AC-A542-4894-A1E1-016DA2D4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B040-1A8F-4D56-BE36-F7F6D26E711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05:54Z</dcterms:created>
  <dc:creator>Dr.Bassam Abuamarah</dc:creator>
  <dc:description/>
  <dc:language>en-US</dc:language>
  <cp:lastModifiedBy>Dr.Bassam Abuamarah</cp:lastModifiedBy>
  <dcterms:modified xsi:type="dcterms:W3CDTF">2011-03-25T22:08:46Z</dcterms:modified>
  <cp:revision>1</cp:revision>
  <dc:subject/>
  <dc:title>Slide 1</dc:title>
</cp:coreProperties>
</file>