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E9A-B8C1-43FB-AC52-F45F2595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83F9-CD05-475D-90AB-4DB93771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3953-6C57-4E5E-B233-F269075F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E23-8151-4793-99B1-B7013133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E87-A0E3-456D-B24B-C5B34E3E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692-E7B3-48AC-B253-B5871F0A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4F3-87A9-4D72-B0C3-D1623090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CD3-0826-448B-88FC-760374C6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C37-4FE1-4FCA-84BC-2F04F597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EBE-FF4E-46AA-9811-3C863676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F5B-39D2-4564-8D93-A0C45826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C921-D120-4A7D-B504-DA4BB5D1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D51F-5DF0-4896-9E9A-052E9E08BDD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2:05:54Z</dcterms:created>
  <dc:creator>Dr.Bassam Abuamarah</dc:creator>
  <dc:description/>
  <dc:language>en-US</dc:language>
  <cp:lastModifiedBy>Dr.Bassam Abuamarah</cp:lastModifiedBy>
  <dcterms:modified xsi:type="dcterms:W3CDTF">2011-03-25T22:08:46Z</dcterms:modified>
  <cp:revision>1</cp:revision>
  <dc:subject/>
  <dc:title>Slide 1</dc:title>
</cp:coreProperties>
</file>