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2E0-9AA5-4DD5-84F0-2480CC33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4AE-C56F-4A34-A438-D774232F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3B8-6980-43D2-96F4-50C4B844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2D9-28BD-4D17-AB2D-C6AC62B0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B920-3A5B-4838-B800-B25F6726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3D4-85B5-4634-8442-1D5B49FB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219-75DB-40A7-A012-B67023C6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40A-3F15-44B2-8803-E22C4869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BBAC-CED1-4170-85F4-5492EA4A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6B9-DC2D-4430-BD96-8D3736A1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E783-81EF-4B44-AA8F-076ABEC8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340-B4B1-4F21-8BA6-2DD314FC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4140-6042-4761-923F-33CD6175BAD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2:05:54Z</dcterms:created>
  <dc:creator>Dr.Bassam Abuamarah</dc:creator>
  <dc:description/>
  <dc:language>en-US</dc:language>
  <cp:lastModifiedBy>Dr.Bassam Abuamarah</cp:lastModifiedBy>
  <dcterms:modified xsi:type="dcterms:W3CDTF">2011-03-25T22:08:46Z</dcterms:modified>
  <cp:revision>1</cp:revision>
  <dc:subject/>
  <dc:title>Slide 1</dc:title>
</cp:coreProperties>
</file>