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721-3040-424F-9C6E-43277C69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420-CE07-4CBE-8D67-525EAC01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721-46AD-4BAC-873F-854E4B7B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1B9-0327-494B-AC50-501ADB09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5AA-B2D3-45B8-BD63-15541CD2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BC2-D61A-48EA-AB3E-380B302C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445-6C0C-4AA9-B7EA-213F596B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737-7DA2-45D9-99C8-8E435BC3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441-0C39-458A-A5D8-6F8840FB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1E0-6CDF-4D2B-9A0C-F709A645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1E5-EDE3-4E42-8D4B-888BE3D2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EC1-0CFF-474F-8E3A-C602B0B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1B42-28E0-4806-960C-8C5CCDC0746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05:54Z</dcterms:created>
  <dc:creator>Dr.Bassam Abuamarah</dc:creator>
  <dc:description/>
  <dc:language>en-US</dc:language>
  <cp:lastModifiedBy>Dr.Bassam Abuamarah</cp:lastModifiedBy>
  <dcterms:modified xsi:type="dcterms:W3CDTF">2011-03-25T22:08:46Z</dcterms:modified>
  <cp:revision>1</cp:revision>
  <dc:subject/>
  <dc:title>Slide 1</dc:title>
</cp:coreProperties>
</file>