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4A0-C453-4E9D-BEF8-35CD06D3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EE6-E6D5-44E4-BED4-0C5991B0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E65-C3CB-4FCC-820D-4DE4954C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17A-4E58-4C26-823C-F9800892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241-3B2A-4558-B963-FD7C028D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0E2-64A5-4747-BA91-05D8FD49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760-0AF3-4B19-8984-FEAD37AF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0D7-11CE-466A-87C5-C1FD7649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C1D-1612-4062-9C30-89CAE6CF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3F3-B29B-46C1-8F24-FF18D9F0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463-3187-48C9-9B98-8883954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FB4-0B3A-4DE7-BCD7-5045A4F2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08CF-C5F1-4E07-A2D4-928A020473E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18:17Z</dcterms:created>
  <dc:creator>Dr.Bassam Abuamarah</dc:creator>
  <dc:description/>
  <dc:language>en-US</dc:language>
  <cp:lastModifiedBy>Dr.Bassam Abuamarah</cp:lastModifiedBy>
  <dcterms:modified xsi:type="dcterms:W3CDTF">2011-03-25T22:20:35Z</dcterms:modified>
  <cp:revision>1</cp:revision>
  <dc:subject/>
  <dc:title>Slide 1</dc:title>
</cp:coreProperties>
</file>