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93D-7A89-45CB-8520-D482BE29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514-25FD-40EF-9F84-EED22BFA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0F8-A6ED-49E2-A0CB-F3502230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734-0140-4776-82B5-0272E20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554-76CB-4CCF-81DA-820F3520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344-5194-4B98-B4B6-790B969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5B2-2F0C-4721-AB3D-010E9A6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D0D-96EA-4A1A-8DC6-D4F32055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50AE-9F6E-4E2A-9087-33FD11A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EE8-2922-436E-AD87-4E24341F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876-3862-4781-B371-CB1D05F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256-5E63-46F6-9AE7-C45BBF1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2FB-17CA-4781-B75C-6B012203E4D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18:17Z</dcterms:created>
  <dc:creator>Dr.Bassam Abuamarah</dc:creator>
  <dc:description/>
  <dc:language>en-US</dc:language>
  <cp:lastModifiedBy>Dr.Bassam Abuamarah</cp:lastModifiedBy>
  <dcterms:modified xsi:type="dcterms:W3CDTF">2011-03-25T22:20:35Z</dcterms:modified>
  <cp:revision>1</cp:revision>
  <dc:subject/>
  <dc:title>Slide 1</dc:title>
</cp:coreProperties>
</file>