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BB1-83AF-4540-900B-C2778BC3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511-6ABF-4A9B-BDBB-956A2DEF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AFB-D83A-4116-96D2-020A213D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656-4DC3-4078-9E38-93022E9A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747-C233-4F2D-8EEC-716DD30C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63A-C704-4D0A-847F-7B26859C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3893-68AD-4ACE-98EB-834B90B9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0CE-CF63-4AB1-9D5E-7171F21C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005-79E4-4FE2-929B-0177D1D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08D-10A8-49F9-8DBC-76E6274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E2D-90BD-4598-A7E8-C8B32D8A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4EE-33CC-4236-AC50-96F96022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7513-9E95-4D73-A518-FEA8FD8E87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8:17Z</dcterms:created>
  <dc:creator>Dr.Bassam Abuamarah</dc:creator>
  <dc:description/>
  <dc:language>en-US</dc:language>
  <cp:lastModifiedBy>Dr.Bassam Abuamarah</cp:lastModifiedBy>
  <dcterms:modified xsi:type="dcterms:W3CDTF">2011-03-25T22:20:35Z</dcterms:modified>
  <cp:revision>1</cp:revision>
  <dc:subject/>
  <dc:title>Slide 1</dc:title>
</cp:coreProperties>
</file>