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900-38B2-40CD-AAD6-C78C7371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25C-B7AA-4C5D-A5D8-BB1AE09D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2A0-CC64-41F0-94AE-E7EA8860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B9-6F22-44CF-9B2E-B9EEDE03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9D4-C263-44E9-BCE5-8D25006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C94-D8BB-4E30-899A-204BEF0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7BB-406C-49D5-9DEB-2EE7963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3FA-FC97-4151-A630-20716EF3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3C2-9336-4E41-8863-89AEEFE0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895-9C8E-4ECD-9F39-D86B922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B89-638B-47D6-8FE6-29B97F7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41D-53B7-4E51-9A7A-BA1820C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4CC4-1819-40F2-B52E-678639766F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8:17Z</dcterms:created>
  <dc:creator>Dr.Bassam Abuamarah</dc:creator>
  <dc:description/>
  <dc:language>en-US</dc:language>
  <cp:lastModifiedBy>Dr.Bassam Abuamarah</cp:lastModifiedBy>
  <dcterms:modified xsi:type="dcterms:W3CDTF">2011-03-25T22:20:35Z</dcterms:modified>
  <cp:revision>1</cp:revision>
  <dc:subject/>
  <dc:title>Slide 1</dc:title>
</cp:coreProperties>
</file>