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429-C24F-41C8-8F2B-924B2D09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6CD-8D8A-422B-BE28-2BA3BBFA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816-9969-464E-8F18-6007EA53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CD9-40D9-495D-941E-F508CC4A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2F3F-CF9B-408B-8E84-6D464F55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C90-D96E-4CA3-A85B-5D23B349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3885-36B7-4F0B-B6A7-98E6600F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5A6E-8D9D-4A0D-8194-DC2A8E9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453D-EBFF-4DC4-A3EA-C651A7F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512-3818-43D7-8664-D32C9799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AEC-AEAC-48F7-A305-89E628B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828-8569-4F7E-8D76-4B01AFB4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003-568D-4930-B242-CB47446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188-BFCB-4D2A-9C74-679CCD1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71DA-B614-4ACB-BFAE-F968ED3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B964-0BC7-463D-960A-3ECB7E94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4836-D3E5-41EE-A9C5-ABEA273B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DA8C-3920-4F3F-A832-BA40865D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5C76-6EB6-47CD-BE77-EA58FACF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70B6-61E7-465B-B3FD-C24ABA3F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F554-D3A3-4BE8-BB0E-D489685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F659-D7E0-402B-AB7B-59DC81F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8E9-89F6-4E61-A307-125F896C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4117-8E31-421C-A8B8-69C87DE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53FA-58F1-445F-9F63-36236DFB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2E1E-0B6A-4ABC-BF43-133BDBE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5B99-B42B-4472-A724-08DF18E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AEEA-AC94-4BCA-A363-53748638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81BD-FCD6-492D-9E42-E7CC4A82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CB63-0895-43FF-AE64-05B0CEA2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1D50-8DCF-4E79-9BB4-FDCEA084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F496-BED9-49A2-9357-629B9A8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6D10-11EC-485A-8087-A28B5A40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8E6-3A26-41D4-89BC-7067F51A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A67B-36D6-42DE-8A33-0CB217F0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804B-1AF3-44B5-94C1-953F47C9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DF95-5BD0-4729-AC9F-1C621CB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F8F5-A967-48E4-A6F3-B16D539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D10F-C58F-4C79-8040-5F80753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CD18-55B7-4FB7-893B-03178D06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E593-1F6C-4436-BEF1-AB5A6768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952F-7776-4C40-B12D-FFB43E5B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B306-2005-479C-9212-4E616D21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A9A8-9A52-4100-A811-05F3D24E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138-CBBC-4A12-B304-2897E49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1FA3-DC59-4BFB-A720-EDB18A7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B4A8-A78C-428C-B4A3-DFC14C71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4F19-064D-4FB8-B31C-24E420BB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8003-FA6A-4198-935E-ABFCAD2C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1063-8F52-45B5-B963-5B34F2C6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67EE-AEC1-4A93-8EB7-DF3F6C0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ECF4-723D-4DBF-BE14-41E4923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FA73-A48B-492A-9A73-E25C8E6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4C09-0BB8-4104-8A74-CA5C3EEC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60DB-6568-4312-8FD2-0B018F32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88C-8E2D-4611-9B77-E9893F66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16AF-FB1A-43AB-97DA-115F90B5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6A77-F604-4D10-AFDF-FF0CF07D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69014-BEF5-4286-BD63-A81B258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54C5-2400-4AD5-981A-20DBA799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BB6C-5CE4-426F-A812-3C18BBC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70EE8-FE59-4EA0-AF48-5128B3A3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88C7A-0081-4215-9B17-9ED0BB8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07A2-0E25-437F-ACA1-5395BA5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4BC6-04EF-4BF1-B7C8-A72EF81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3F14-EF34-4FC2-BD6E-F30244C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44E-7371-4B00-A356-66E87154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0BFC-EEC9-44B4-B817-B2E8A797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D3E8-9CF8-459A-AAFF-B0762B34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4D79C-4AE2-4EE1-A836-F4C2ABEC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181-C8D9-434B-9D32-5A8C1EC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587-ACD6-4B06-B037-1283B20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DB2-487F-4D26-A198-8B81AD7C6E54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E5F1-5F82-4ACB-8324-37F234E2D77E}" type="slidenum"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33C8-D72B-4B1E-9DC7-58832E8E06E4}" type="slidenum"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5D48-DB5B-4438-A3B8-00D171BD948A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792-463B-4F4E-96DA-06187C9A9451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AC7-89BA-4524-A4BD-D056FBD3D019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123w.col123.mail.live.com/wiki/Alpha_motor_neuron" TargetMode="External"/><Relationship Id="rId2" Type="http://schemas.openxmlformats.org/officeDocument/2006/relationships/hyperlink" Target="http://co123w.col123.mail.live.com/wiki/Action_potential" TargetMode="External"/><Relationship Id="rId3" Type="http://schemas.openxmlformats.org/officeDocument/2006/relationships/hyperlink" Target="http://co123w.col123.mail.live.com/wiki/Neuromuscular_junction" TargetMode="External"/><Relationship Id="rId4" Type="http://schemas.openxmlformats.org/officeDocument/2006/relationships/hyperlink" Target="http://co123w.col123.mail.live.com/wiki/Voltage-dependent_calcium_channel" TargetMode="External"/><Relationship Id="rId5" Type="http://schemas.openxmlformats.org/officeDocument/2006/relationships/hyperlink" Target="http://co123w.col123.mail.live.com/wiki/Exocytosis" TargetMode="External"/><Relationship Id="rId6" Type="http://schemas.openxmlformats.org/officeDocument/2006/relationships/hyperlink" Target="http://co123w.col123.mail.live.com/wiki/Synaptic_vesicle" TargetMode="External"/><Relationship Id="rId7" Type="http://schemas.openxmlformats.org/officeDocument/2006/relationships/hyperlink" Target="http://co123w.col123.mail.live.com/wiki/Acetylcholine" TargetMode="External"/><Relationship Id="rId8" Type="http://schemas.openxmlformats.org/officeDocument/2006/relationships/hyperlink" Target="http://co123w.col123.mail.live.com/wiki/Synapse" TargetMode="External"/><Relationship Id="rId9" Type="http://schemas.openxmlformats.org/officeDocument/2006/relationships/hyperlink" Target="http://co123w.col123.mail.live.com/wiki/Nicotinic_acetylcholine_receptor" TargetMode="External"/><Relationship Id="rId10" Type="http://schemas.openxmlformats.org/officeDocument/2006/relationships/hyperlink" Target="http://co123w.col123.mail.live.com/wiki/End-plate_potential" TargetMode="Externa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123w.col123.mail.live.com/wiki/T-tubule" TargetMode="External"/><Relationship Id="rId2" Type="http://schemas.openxmlformats.org/officeDocument/2006/relationships/hyperlink" Target="http://co123w.col123.mail.live.com/wiki/Dihydropyridine_receptor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835280" y="1989000"/>
            <a:ext cx="62481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tractio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7920" y="414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RANSVERSE TUBULE AND THE SARCOPLASMIC RETICUL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verse tubule and the sarcoplasmic reticul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re continuous with the sarcolemmal membrane and invaginated deep into the muscle fiber, making contact with terminalcisternae of the sarcoplsmic reticulu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3" descr="aaaa"/>
          <p:cNvPicPr/>
          <p:nvPr/>
        </p:nvPicPr>
        <p:blipFill>
          <a:blip r:embed="rId1"/>
          <a:stretch/>
        </p:blipFill>
        <p:spPr>
          <a:xfrm>
            <a:off x="2484360" y="4149720"/>
            <a:ext cx="5832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ITATION-CONTRACTION COUP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10920" y="213336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itation-contraction coup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 skeletal muscle the method of excitation contraction coupling relies on the ryanodine receptor being activated by a domain spanning the space between the T tubules and the sarcoplasmic reticulum to produce the calcium transient responsible for allowing contrac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 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1"/>
              </a:rPr>
              <a:t> motor neur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produces an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2"/>
              </a:rPr>
              <a:t>action potential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hat propagates down its axon to the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3"/>
              </a:rPr>
              <a:t>neuromuscular jun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ction potential is sensed by a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4"/>
              </a:rPr>
              <a:t>voltage-dependent calcium channel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which causes an influx of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ions which causes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5"/>
              </a:rPr>
              <a:t>exocytosi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6"/>
              </a:rPr>
              <a:t>synaptic vesicle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ontaining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7"/>
              </a:rPr>
              <a:t>acetylcholin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etylcholine diffuses across the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8"/>
              </a:rPr>
              <a:t>synaps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binds to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9"/>
              </a:rPr>
              <a:t>nicotinic acetylcholine receptor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n the myocyte, which causes an influx of 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an efflux of K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generation of an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10"/>
              </a:rPr>
              <a:t>end-plate potential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ITATION-CONTRACTION COUP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410920" y="249192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end-plate potential propagates throughout the myocyte's sarcolemma and into the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1"/>
              </a:rPr>
              <a:t>T-tubul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yst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T-tubule contains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2"/>
              </a:rPr>
              <a:t>dihydropyridine receptor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which are voltage-dependent calcium channels and are activated by the action potentia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pening of the Ryanodine receptors causes and flow of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from the sarcoplasmic reticulum into the cytoplas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released from the sarcoplasmic reticulum binds to Troponin C on actin filaments, which subsequently leads to the troponin complex being physically moved aside to uncover cross-bridge binding sites on the actin fila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ITATION-CONTRACTION COUP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y hydrolyzing ATP, myosin forms a cross bridges with the actin filaments, and pulls the actin toward the center of the sarcomere resulting in contraction of the sarcomer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multaneously, the sarco/endoplasmic reticulum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ATPase actively pumps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back into the sarcoplasmic reticulum wher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rebinds to calsequestr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th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no longer bound to troponin C, the troponin complex slips back to its blocking position over the binding sites on act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nce cross-bridge cycling is ceasing then the load on the muscle causes the inactive sarcomeres to length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ECHANISM OF TETANU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chanism of tet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 single action potential result in the release of a fixed  amount of ca+ from the sarcoplasmic reticulum which produce a single twist is terminated ( relaxation occurs ) when the sarcoplasm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1: At the end of the previous round of movement and the start of the next cycle, the myosin head lacks a bound ATP and it is attached to the actin filament in a very short-lived conformation known as the 'rigor conformation'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2: ATP-binding to the myosin head domain induces a small conformational shift in the actin-binding site that reduces its affinity for actin and causes the myosin head to release the actin filament.  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ECHANISM OF TETAN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95640" y="1892160"/>
            <a:ext cx="62481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3: ATP-binding also causes a large conformational shift in the 'lever arm' of myosin that 'cocks' the head into a position further along the filament. ATP is then hydrolysed, but the inorganic phosphate and ADP remain bound to myosi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4: The myosin head makes weak contact with the actin filament and a slight conformational change occurs on myosin that promotes the release of inorganic phospha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5: The release of inorganic phosphate reinforces the binding interaction between myosin and actin and subsequently triggers the 'power stroke'. The power stroke is the key force-generating step used by myosin motor proteins; forces are generated on the actin filament as the myosin protein reverts back to its original conformation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6: As myosin regains its original conformation, the ADP is released, but the myosin head remains tightly bound to the filament at a new position from where it started, thereby bringing the cycle back to the beginn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ECHANISM OF TETAN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صورة 1" descr="C:\Users\NT\Downloads\cross-bridge-R3.jpg"/>
          <p:cNvPicPr/>
          <p:nvPr/>
        </p:nvPicPr>
        <p:blipFill>
          <a:blip r:embed="rId1"/>
          <a:stretch/>
        </p:blipFill>
        <p:spPr>
          <a:xfrm>
            <a:off x="2124000" y="1940040"/>
            <a:ext cx="676908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ents participating in the present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- naif aljabri   4301016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- yousif alessa   4301058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- faris abalkheel   43010169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- Ali Moshaba AL-Ahmary   43010353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-abdulelah bin numay   43010447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C:\Users\HP\Desktop\muscle_anatomy.jpg"/>
          <p:cNvPicPr/>
          <p:nvPr/>
        </p:nvPicPr>
        <p:blipFill>
          <a:blip r:embed="rId1"/>
          <a:stretch/>
        </p:blipFill>
        <p:spPr>
          <a:xfrm>
            <a:off x="1979640" y="213372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C:\Users\HP\Desktop\muscle1fiber.jpg"/>
          <p:cNvPicPr/>
          <p:nvPr/>
        </p:nvPicPr>
        <p:blipFill>
          <a:blip r:embed="rId1"/>
          <a:stretch/>
        </p:blipFill>
        <p:spPr>
          <a:xfrm>
            <a:off x="2195640" y="2133720"/>
            <a:ext cx="6661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2" descr="C:\Users\HP\Desktop\myosin.jpg"/>
          <p:cNvPicPr/>
          <p:nvPr/>
        </p:nvPicPr>
        <p:blipFill>
          <a:blip r:embed="rId1"/>
          <a:stretch/>
        </p:blipFill>
        <p:spPr>
          <a:xfrm>
            <a:off x="2050920" y="2060640"/>
            <a:ext cx="69138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414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&am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USCLE FILAM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410920" y="1989000"/>
            <a:ext cx="62485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raction of skeletal muscle is under voluntary contro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ach skeletal muscle cell is innervated by a branch of a motoneuron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cle fila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ach muscle fiber behaves as a single un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s multinucleate and contains myofibri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myofibrils are surround by sarcoplasmic reticulum are invaginated by transverse tubules ( t tubule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ach myofibril contains interdigitating thich and thin filaments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24200" y="556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ICH FILAMENTS</a:t>
            </a:r>
            <a:br>
              <a:rPr sz="4000"/>
            </a:br>
            <a:r>
              <a:rPr b="1" lang="ar-SA" sz="1800" spc="-1" strike="noStrike">
                <a:solidFill>
                  <a:srgbClr val="000000"/>
                </a:solidFill>
                <a:latin typeface="Trebuchet MS"/>
              </a:rPr>
              <a:t>&amp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IN FILA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ch fila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re comprised of a large molecular weight protein called myos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n fila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re composed of 3 proteins: 1- actin.2-tropomyosin.3-troponi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thich -thin456"/>
          <p:cNvPicPr/>
          <p:nvPr/>
        </p:nvPicPr>
        <p:blipFill>
          <a:blip r:embed="rId1"/>
          <a:stretch/>
        </p:blipFill>
        <p:spPr>
          <a:xfrm>
            <a:off x="2700360" y="4334040"/>
            <a:ext cx="4676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HP\Desktop\cha_102.jpg"/>
          <p:cNvPicPr/>
          <p:nvPr/>
        </p:nvPicPr>
        <p:blipFill>
          <a:blip r:embed="rId1"/>
          <a:stretch/>
        </p:blipFill>
        <p:spPr>
          <a:xfrm>
            <a:off x="1835280" y="2492280"/>
            <a:ext cx="7308720" cy="41767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3059280" y="40788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ngement of thick and thin filaments in sarcome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484000" y="278100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YTOSKELT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21:58Z</dcterms:created>
  <dc:creator>yousif alessa</dc:creator>
  <dc:description/>
  <dc:language>en-US</dc:language>
  <cp:lastModifiedBy>User</cp:lastModifiedBy>
  <dcterms:modified xsi:type="dcterms:W3CDTF">2012-02-20T06:51:18Z</dcterms:modified>
  <cp:revision>21</cp:revision>
  <dc:subject/>
  <dc:title>Slide 1</dc:title>
</cp:coreProperties>
</file>