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FAE-305C-4C7C-B152-BB39680C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B8D-B9B8-4494-8475-4BA6472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C47-8D4C-40ED-87B0-49B44CF8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B92B-8BFF-44F4-B630-C42AF749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665-2F58-44C8-B1AE-88280843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E350-4CB4-41F6-BA0A-A9348FFE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1BA7-D1D3-4D49-AE42-8DAF01E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74E0-653F-49C2-ABC3-61A9A82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1559-A6BA-4E39-B23D-9076D6BC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8AA9-A51C-4BDA-AC7A-2345643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F378-5BE8-4222-B440-1BC5A108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5965-D592-44E2-B32B-1000AE4F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6208-4438-4CD5-840E-1FC6D10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AA0F-DFDF-42EA-A112-E878923C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D79F-119A-4EAB-8935-A76BBEFE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83C4-E606-4DED-8CBC-43C473AD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DA3D-023E-4EA1-9FA4-D9A921DB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82B7-95D2-45CF-9AB9-97F96D94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CF9C-B066-4B8C-9A14-DD7FFD35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27F6-09A6-470E-B033-1FE46284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A728-D323-4262-AAC5-C82BA0C4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77F32-09A0-4F2C-8907-D9C04C7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D55-105B-494C-9CCB-33D9D830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A34D4-C9FB-4C29-A031-E282FB8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75FC-209E-4AB1-A17C-03E4337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99AE-3D39-441A-9BB3-6158396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A91F0-3527-4557-81C7-6F93DE6A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CFE1-6254-49DD-A710-05872FD4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430F-63C9-4F0F-9662-F8F213DE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316E-8EA4-4171-803F-C75B78E3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186D7-42A6-4A46-8395-929E5D6A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1E549-2139-4D27-88E6-B0BF3BC4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A03E-4B90-4CDC-BA1C-1C6E155C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83B-299E-40A1-B9FC-7C91FA94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B6EB9-FB68-4915-991C-B5E628B1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E594D-BF8E-4835-84CB-D59F9788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F536-5DC8-48DE-9D09-050519EA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9ABD-AD0D-4539-A66C-4F0B439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186F-4EAA-4574-AF25-BC60981B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F082-23CB-43DC-A619-AF3EC5E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2C5F-8802-4290-ABDB-CA1737E4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7333-BE4B-4880-A2D9-8F3741CC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BEDC-A60F-4C88-8D03-FD404F10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F9EA-91A5-4D73-A12E-41FFE189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308-B197-4F2C-8BD1-DC27347A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93ED5-5B94-4238-A495-9663DF95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622DF-B78F-466F-9EE4-80D5A09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BA586-E78A-441D-A925-89311A03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B4EC6-5DD9-4E99-A787-384B286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B07FC-344A-4E5E-AB78-2F41B681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58085-702E-4EBC-9929-E511F4C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700A5-2CD4-4A7F-AA2E-F32FC69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A754-E7CD-48BC-9037-7228F2F8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2233-7FB7-43F7-9076-CD65863D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E8B33-55E0-4268-A652-A8E476EE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6C4-7847-42AC-B3B3-39282949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2437-4436-4E2C-A1BF-2156779C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7F9CC-C874-483F-AE00-9824B9CB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44E0F-B562-4790-BD00-0045303E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F6D82-D60F-480B-8C67-D5F3A5B8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19CD0-86AD-4B10-A560-0F29C64C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CE9A3-DB39-439E-A436-3087C39F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0B45-0E3A-43D9-AF7D-69B67250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C74F-8318-4187-98EC-ED03A80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9AC7F-716F-459E-8C25-C54AC36E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10BBB-C8D4-49D5-A1C7-A6B1F243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8C4-0DB5-4F64-BFC7-D2285A0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7E6AE-A2A3-4E5E-9B87-09F69681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E1D7-A765-4796-B2EC-C1C3B4D7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05B6-EA6A-4B89-B760-3DBDDBD2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E04-908C-4544-9C45-9960CD5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EFF-C976-4905-9112-4596284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7F0D-04DB-47F5-9DFA-677F66E7850D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8C3E-E4EC-48C3-AE2C-7B4FB51C38A8}" type="slidenum"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6D81-29FA-40B8-84C6-E5CFEE0077CC}" type="slidenum"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A292-3153-4856-90C9-AD5193E9DA77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6364-F33B-4D15-A1DE-700C4E398FBE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 algn="r" rtl="1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r" rtl="1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 algn="r" rtl="1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 algn="r" rtl="1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 algn="r" rtl="1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1B6A-E6FD-4ADB-801A-539E03D72255}" type="slidenum">
              <a:rPr b="0" lang="ar-SA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123w.col123.mail.live.com/wiki/Alpha_motor_neuron" TargetMode="External"/><Relationship Id="rId2" Type="http://schemas.openxmlformats.org/officeDocument/2006/relationships/hyperlink" Target="http://co123w.col123.mail.live.com/wiki/Action_potential" TargetMode="External"/><Relationship Id="rId3" Type="http://schemas.openxmlformats.org/officeDocument/2006/relationships/hyperlink" Target="http://co123w.col123.mail.live.com/wiki/Neuromuscular_junction" TargetMode="External"/><Relationship Id="rId4" Type="http://schemas.openxmlformats.org/officeDocument/2006/relationships/hyperlink" Target="http://co123w.col123.mail.live.com/wiki/Voltage-dependent_calcium_channel" TargetMode="External"/><Relationship Id="rId5" Type="http://schemas.openxmlformats.org/officeDocument/2006/relationships/hyperlink" Target="http://co123w.col123.mail.live.com/wiki/Exocytosis" TargetMode="External"/><Relationship Id="rId6" Type="http://schemas.openxmlformats.org/officeDocument/2006/relationships/hyperlink" Target="http://co123w.col123.mail.live.com/wiki/Synaptic_vesicle" TargetMode="External"/><Relationship Id="rId7" Type="http://schemas.openxmlformats.org/officeDocument/2006/relationships/hyperlink" Target="http://co123w.col123.mail.live.com/wiki/Acetylcholine" TargetMode="External"/><Relationship Id="rId8" Type="http://schemas.openxmlformats.org/officeDocument/2006/relationships/hyperlink" Target="http://co123w.col123.mail.live.com/wiki/Synapse" TargetMode="External"/><Relationship Id="rId9" Type="http://schemas.openxmlformats.org/officeDocument/2006/relationships/hyperlink" Target="http://co123w.col123.mail.live.com/wiki/Nicotinic_acetylcholine_receptor" TargetMode="External"/><Relationship Id="rId10" Type="http://schemas.openxmlformats.org/officeDocument/2006/relationships/hyperlink" Target="http://co123w.col123.mail.live.com/wiki/End-plate_potential" TargetMode="Externa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123w.col123.mail.live.com/wiki/T-tubule" TargetMode="External"/><Relationship Id="rId2" Type="http://schemas.openxmlformats.org/officeDocument/2006/relationships/hyperlink" Target="http://co123w.col123.mail.live.com/wiki/Dihydropyridine_receptor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835280" y="1989000"/>
            <a:ext cx="62481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ontractio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7920" y="414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RANSVERSE TUBULE AND THE SARCOPLASMIC RETICUL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verse tubule and the sarcoplasmic reticul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re continuous with the sarcolemmal membrane and invaginated deep into the muscle fiber, making contact with terminalcisternae of the sarcoplsmic reticulu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3" descr="aaaa"/>
          <p:cNvPicPr/>
          <p:nvPr/>
        </p:nvPicPr>
        <p:blipFill>
          <a:blip r:embed="rId1"/>
          <a:stretch/>
        </p:blipFill>
        <p:spPr>
          <a:xfrm>
            <a:off x="2484360" y="4149720"/>
            <a:ext cx="5832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ITATION-CONTRACTION COUP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10920" y="213336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itation-contraction coup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 skeletal muscle the method of excitation contraction coupling relies on the ryanodine receptor being activated by a domain spanning the space between the T tubules and the sarcoplasmic reticulum to produce the calcium transient responsible for allowing contrac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 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1"/>
              </a:rPr>
              <a:t> motor neur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produces an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2"/>
              </a:rPr>
              <a:t>action potential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hat propagates down its axon to the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3"/>
              </a:rPr>
              <a:t>neuromuscular jun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ction potential is sensed by a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4"/>
              </a:rPr>
              <a:t>voltage-dependent calcium channel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which causes an influx of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ions which causes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5"/>
              </a:rPr>
              <a:t>exocytosi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6"/>
              </a:rPr>
              <a:t>synaptic vesicle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containing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7"/>
              </a:rPr>
              <a:t>acetylcholin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etylcholine diffuses across the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8"/>
              </a:rPr>
              <a:t>synaps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binds to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9"/>
              </a:rPr>
              <a:t>nicotinic acetylcholine receptor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on the myocyte, which causes an influx of N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an efflux of K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and generation of an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10"/>
              </a:rPr>
              <a:t>end-plate potential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2120" indent="-402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ITATION-CONTRACTION COUP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410920" y="249192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end-plate potential propagates throughout the myocyte's sarcolemma and into the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1"/>
              </a:rPr>
              <a:t>T-tubule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syst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T-tubule contains </a:t>
            </a:r>
            <a:r>
              <a:rPr b="0" lang="en-US" sz="1600" spc="-1" strike="noStrike" u="sng">
                <a:solidFill>
                  <a:srgbClr val="0a6a21"/>
                </a:solidFill>
                <a:uFillTx/>
                <a:latin typeface="Calibri"/>
                <a:hlinkClick r:id="rId2"/>
              </a:rPr>
              <a:t>dihydropyridine receptors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which are voltage-dependent calcium channels and are activated by the action potentia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pening of the Ryanodine receptors causes and flow of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from the sarcoplasmic reticulum into the cytoplas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released from the sarcoplasmic reticulum binds to Troponin C on actin filaments, which subsequently leads to the troponin complex being physically moved aside to uncover cross-bridge binding sites on the actin fila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3160" indent="-44316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ITATION-CONTRACTION COUPL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y hydrolyzing ATP, myosin forms a cross bridges with the actin filaments, and pulls the actin toward the center of the sarcomere resulting in contraction of the sarcomer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multaneously, the sarco/endoplasmic reticulum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ATPase actively pumps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back into the sarcoplasmic reticulum where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rebinds to calsequestr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th Ca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no longer bound to troponin C, the troponin complex slips back to its blocking position over the binding sites on acti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ince cross-bridge cycling is ceasing then the load on the muscle causes the inactive sarcomeres to length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ECHANISM OF TETANU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chanism of tet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 single action potential result in the release of a fixed  amount of ca+ from the sarcoplasmic reticulum which produce a single twist is terminated ( relaxation occurs ) when the sarcoplasm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1: At the end of the previous round of movement and the start of the next cycle, the myosin head lacks a bound ATP and it is attached to the actin filament in a very short-lived conformation known as the 'rigor conformation'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2: ATP-binding to the myosin head domain induces a small conformational shift in the actin-binding site that reduces its affinity for actin and causes the myosin head to release the actin filament.  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79440" indent="-37944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ECHANISM OF TETAN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95640" y="1892160"/>
            <a:ext cx="62481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3: ATP-binding also causes a large conformational shift in the 'lever arm' of myosin that 'cocks' the head into a position further along the filament. ATP is then hydrolysed, but the inorganic phosphate and ADP remain bound to myosi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4: The myosin head makes weak contact with the actin filament and a slight conformational change occurs on myosin that promotes the release of inorganic phospha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5: The release of inorganic phosphate reinforces the binding interaction between myosin and actin and subsequently triggers the 'power stroke'. The power stroke is the key force-generating step used by myosin motor proteins; forces are generated on the actin filament as the myosin protein reverts back to its original conformation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93120" indent="-39312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ep 6: As myosin regains its original conformation, the ADP is released, but the myosin head remains tightly bound to the filament at a new position from where it started, thereby bringing the cycle back to the beginn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ECHANISM OF TETAN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صورة 1" descr="C:\Users\NT\Downloads\cross-bridge-R3.jpg"/>
          <p:cNvPicPr/>
          <p:nvPr/>
        </p:nvPicPr>
        <p:blipFill>
          <a:blip r:embed="rId1"/>
          <a:stretch/>
        </p:blipFill>
        <p:spPr>
          <a:xfrm>
            <a:off x="2124000" y="1940040"/>
            <a:ext cx="676908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ents participating in the present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- naif aljabri   43010161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- yousif alessa   4301058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- faris abalkheel   43010169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- Ali Moshaba AL-Ahmary   43010353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-abdulelah bin numay   43010447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C:\Users\HP\Desktop\muscle_anatomy.jpg"/>
          <p:cNvPicPr/>
          <p:nvPr/>
        </p:nvPicPr>
        <p:blipFill>
          <a:blip r:embed="rId1"/>
          <a:stretch/>
        </p:blipFill>
        <p:spPr>
          <a:xfrm>
            <a:off x="1979640" y="2133720"/>
            <a:ext cx="6985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C:\Users\HP\Desktop\muscle1fiber.jpg"/>
          <p:cNvPicPr/>
          <p:nvPr/>
        </p:nvPicPr>
        <p:blipFill>
          <a:blip r:embed="rId1"/>
          <a:stretch/>
        </p:blipFill>
        <p:spPr>
          <a:xfrm>
            <a:off x="2195640" y="2133720"/>
            <a:ext cx="6661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2" descr="C:\Users\HP\Desktop\myosin.jpg"/>
          <p:cNvPicPr/>
          <p:nvPr/>
        </p:nvPicPr>
        <p:blipFill>
          <a:blip r:embed="rId1"/>
          <a:stretch/>
        </p:blipFill>
        <p:spPr>
          <a:xfrm>
            <a:off x="2050920" y="2060640"/>
            <a:ext cx="69138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414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KELETAL MUS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&amp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USCLE FILAM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410920" y="1989000"/>
            <a:ext cx="624852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raction of skeletal muscle is under voluntary contro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ach skeletal muscle cell is innervated by a branch of a motoneurons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cle fila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ach muscle fiber behaves as a single uni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s multinucleate and contains myofibril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myofibrils are surround by sarcoplasmic reticulum are invaginated by transverse tubules ( t tubules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ach myofibril contains interdigitating thich and thin filaments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24200" y="556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ICH FILAMENTS</a:t>
            </a:r>
            <a:br>
              <a:rPr sz="4000"/>
            </a:br>
            <a:r>
              <a:rPr b="1" lang="ar-SA" sz="1800" spc="-1" strike="noStrike">
                <a:solidFill>
                  <a:srgbClr val="000000"/>
                </a:solidFill>
                <a:latin typeface="Trebuchet MS"/>
              </a:rPr>
              <a:t>&amp;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THIN FILA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ch fila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re comprised of a large molecular weight protein called myos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in fila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re composed of 3 proteins: 1- actin.2-tropomyosin.3-troponi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thich -thin456"/>
          <p:cNvPicPr/>
          <p:nvPr/>
        </p:nvPicPr>
        <p:blipFill>
          <a:blip r:embed="rId1"/>
          <a:stretch/>
        </p:blipFill>
        <p:spPr>
          <a:xfrm>
            <a:off x="2700360" y="4334040"/>
            <a:ext cx="4676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Users\HP\Desktop\cha_102.jpg"/>
          <p:cNvPicPr/>
          <p:nvPr/>
        </p:nvPicPr>
        <p:blipFill>
          <a:blip r:embed="rId1"/>
          <a:stretch/>
        </p:blipFill>
        <p:spPr>
          <a:xfrm>
            <a:off x="1835280" y="2492280"/>
            <a:ext cx="7308720" cy="41767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4"/>
          <p:cNvSpPr/>
          <p:nvPr/>
        </p:nvSpPr>
        <p:spPr>
          <a:xfrm>
            <a:off x="3059280" y="40788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angement of thick and thin filaments in sarcome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484000" y="278100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CYTOSKELT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 rt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21:58Z</dcterms:created>
  <dc:creator>yousif alessa</dc:creator>
  <dc:description/>
  <dc:language>en-US</dc:language>
  <cp:lastModifiedBy>User</cp:lastModifiedBy>
  <dcterms:modified xsi:type="dcterms:W3CDTF">2012-02-20T06:51:18Z</dcterms:modified>
  <cp:revision>21</cp:revision>
  <dc:subject/>
  <dc:title>Slide 1</dc:title>
</cp:coreProperties>
</file>