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C2B-7153-4D7E-A6E5-72C220F0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0D6-509E-45CB-93FA-D3656307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1DF-CBC7-4EEA-8F2B-16BD827B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E41-AED2-4779-B17F-D18649C9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2DB0-1D3F-48F8-B901-3018B410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A51-CB8B-46AF-BD7A-5335EF66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C1F-92AA-4566-829E-D1FDD16B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516-26BB-49CF-AF72-0136CA6C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8F9-7E5C-4C66-A19F-3F35C27F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B44-FC4E-4550-945A-129A7FE8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713-A7BB-4BAB-91D4-709A41DF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885-0DE0-43F1-B083-4993D154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E38A-EE64-42AF-A9F9-84E65C88BDD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1:32:59Z</dcterms:created>
  <dc:creator>Dr.Bassam Abuamarah</dc:creator>
  <dc:description/>
  <dc:language>en-US</dc:language>
  <cp:lastModifiedBy>Dr.Bassam Abuamarah</cp:lastModifiedBy>
  <dcterms:modified xsi:type="dcterms:W3CDTF">2011-03-25T21:36:15Z</dcterms:modified>
  <cp:revision>1</cp:revision>
  <dc:subject/>
  <dc:title>Slide 1</dc:title>
</cp:coreProperties>
</file>