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74D-6AE8-409D-9677-80516010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5B7-74C7-47DB-A013-764E8B29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C51-52C2-488F-A420-F1E6D360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38C-9B7E-4C19-A385-D82B50A6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F7B-5856-4C99-BCD5-8E8DD243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685-8F06-4360-A8F0-805462DC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CCF-AE2E-4463-9DCD-7638019B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9A9-21AA-4C7E-8920-955E328F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52E-20F2-4F68-999A-ECCA6D67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67E-DB12-465A-BC70-3C57C49B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0DC-2DDC-498F-B5CA-8F1A80EB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274-8F25-4488-955F-A5690EF5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7192-4C47-4807-A735-B2D871988C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2:59Z</dcterms:created>
  <dc:creator>Dr.Bassam Abuamarah</dc:creator>
  <dc:description/>
  <dc:language>en-US</dc:language>
  <cp:lastModifiedBy>Dr.Bassam Abuamarah</cp:lastModifiedBy>
  <dcterms:modified xsi:type="dcterms:W3CDTF">2011-03-25T21:36:15Z</dcterms:modified>
  <cp:revision>1</cp:revision>
  <dc:subject/>
  <dc:title>Slide 1</dc:title>
</cp:coreProperties>
</file>