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261-5A78-4D66-BE23-6873404A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0CB-606E-4321-A7E7-E606A1C4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F1D-D04E-4F26-A36E-20393133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BE2-BEB7-46FF-845A-90CC027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62F-8FB4-405D-804C-CF19989F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893-C19C-492A-B35B-AB33E18A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020-3E10-439E-94FE-22672C4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AB0-853D-4321-B2D0-015972D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91E-B7CA-409D-B547-8070A131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9E7-4A31-44B4-BBC9-DE24634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C31-7E4C-466D-AF64-BDE7B94C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DE6-AD86-4BD1-84CC-DE51A52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0200-0E75-4634-8429-E434DEA2C42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2:59Z</dcterms:created>
  <dc:creator>Dr.Bassam Abuamarah</dc:creator>
  <dc:description/>
  <dc:language>en-US</dc:language>
  <cp:lastModifiedBy>Dr.Bassam Abuamarah</cp:lastModifiedBy>
  <dcterms:modified xsi:type="dcterms:W3CDTF">2011-03-25T21:36:15Z</dcterms:modified>
  <cp:revision>1</cp:revision>
  <dc:subject/>
  <dc:title>Slide 1</dc:title>
</cp:coreProperties>
</file>