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B898-3341-4A21-B65D-6D5F41922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627C-C82F-4653-A0F1-60D127F7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8199-43F7-481C-A66E-2570A6FEF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D566-0CDD-4FE3-9D9B-67D3AB8B2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DFA1-C1B3-4BFC-B828-4334A395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6E53-573E-44EE-B4F3-2641B466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6C10-D7EE-40C9-8CD4-CECBB321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3F37-A71F-4FDA-9307-B61A7C33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BBEA-5B7A-4D6D-AB9A-7CBA3B80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F822-F21E-4212-A2A5-97DB7694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38D6-AAE0-4335-AE45-5DDB3954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6059-905F-4D73-922B-FB3791CE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0743-5117-44FD-92AF-D662833D621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21:32:59Z</dcterms:created>
  <dc:creator>Dr.Bassam Abuamarah</dc:creator>
  <dc:description/>
  <dc:language>en-US</dc:language>
  <cp:lastModifiedBy>Dr.Bassam Abuamarah</cp:lastModifiedBy>
  <dcterms:modified xsi:type="dcterms:W3CDTF">2011-03-25T21:36:15Z</dcterms:modified>
  <cp:revision>1</cp:revision>
  <dc:subject/>
  <dc:title>Slide 1</dc:title>
</cp:coreProperties>
</file>