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2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2.jpeg" ContentType="image/jpeg"/>
  <Override PartName="/ppt/media/image7.png" ContentType="image/png"/>
  <Override PartName="/ppt/media/image29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.jpeg" ContentType="image/jpeg"/>
  <Override PartName="/ppt/media/image10.png" ContentType="image/png"/>
  <Override PartName="/ppt/media/image1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png" ContentType="image/png"/>
  <Override PartName="/ppt/media/image11.png" ContentType="image/png"/>
  <Override PartName="/ppt/media/image9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9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ftr" idx="20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 type="sldNum" idx="21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CC91-2D16-4FE0-B7C8-55D714A1C75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5352-7942-40BA-8656-93A56DCB23A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8CD9-53DD-4035-A5D0-F0191A7439C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BAB0-794F-44C8-9415-C6BF136E5CF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B7BD-6C02-43A8-9E96-8F526DFCA84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B242-82E3-4616-96DB-3B6221EE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715D-676B-4E74-A92B-AC73BE23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063D-6551-4ED6-8DA2-171E088B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5F2F-7497-47CF-8E19-EEEF4288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29FB-ACD3-480E-A005-CC622954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1D98-499C-4E9B-9EB2-6D2D4C2C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D7FA-0485-4968-91AA-71E2F797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A751-7228-4957-9CB4-139E6648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7D99-1309-476C-8AA0-6EEE40D4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B66C-2B92-4004-BF6F-250D5874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975D-D3A2-47C3-8070-BFE0F406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B759-F08D-41B1-859D-A2969100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B2F2-91EC-45A0-BB2E-56BB9D17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0D41-EC45-4379-979D-6A81221B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EA41-1066-4210-8783-63EBC83A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1508-C10B-4B08-922E-3ACD79C1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8156-7D29-48AA-B702-275EC5C3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65F18-BC6B-4BA0-93AA-FA22001A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B7441-021B-40C3-A808-B419A2A9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D1D5E-3EE6-463E-B594-9DD0325E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2281E-DE1A-466B-8201-41ED6C2E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694C8-3C56-4402-81AB-18F24379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E844-919E-4444-A41A-DE9D5A56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287ED-13FD-4F02-A2C7-B90C0ECA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FB98E-5913-4CCA-BBAA-88D50C00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28985-2482-4FD2-841F-AE8D2703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DC851-5A78-4537-8AB7-6E51AC84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5E87F-98B2-4C70-BE0D-58CDE9A4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F7431-ED20-42E4-9FD1-12244EAD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85EE6-2F27-4C90-BFFD-DED89835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BC043-81F1-432C-AB13-E5D47293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96965-0722-4C63-B3F5-F9401E14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C036C-1123-4BA9-8534-511923D6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7A56-2676-40D8-B4AF-CC30570D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94F90-6D16-4F99-8C3B-D8DE2D63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4ADDE-AA97-4D58-94B8-1FB072F5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22F09-302A-44E0-93F9-2B747A2B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921EA-A894-40F9-A282-1118FC1E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80A8F-F783-49E1-9856-FC580E30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61C00-6C73-4498-9569-B8B72488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F8510-78D0-4290-A8F6-23282DA1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C6EF7-3B41-4600-BDAE-C3C5D767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9B4E0-1626-4866-8993-2C773304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C1FD7-4573-4B53-9ECF-822188F0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49E-8F0A-436A-9069-F4DCDF0A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D0CB5-865C-430A-9FD6-576614F0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E364C-1628-4886-A026-6CBDB8FA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B4D3B-9033-4330-9058-CEFAB648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BC7B8-6070-41C7-807B-D25BE9EB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9FAF1-9160-4D80-ADB1-DA8BF0DA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73027-98BD-405A-866E-769C68E4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39D25-BB86-4620-85AD-D5B576E7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C6E74-BEA7-4228-A6FA-EDCF4025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C32FC-BD32-4FAA-8810-D65813E2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96472-9E77-466C-BDF5-6D80C7D8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C415-3B20-4DE0-8C3A-F2A26051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36CCD-7BFD-4BE2-9C51-9D6E7F3D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6B89D-3CAF-4C38-89E7-4AC61700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E67D2-C984-468E-9EF5-56DE324D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68E71-9F40-48B9-986E-F47269AB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E3DE8-8DA0-44F1-9428-7085AE78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A9FF0-63D7-4252-B8AD-A66369B0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BE87B-7968-4112-9D4E-498401E1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B541E-BCF7-48C7-ABF9-38377215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623F2-C166-4498-AC45-5FAC2CE3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9A337-E9F5-41B1-B576-F3BA6E4A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E6AC-042A-4490-B5D6-D4B73F1A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72A39-14EB-4CA8-8D46-B8A079D3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7D2E7-6643-497A-AFF8-7393813F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3D4DD-83B5-4BC2-8F87-3F71A0AE1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FF80-C8ED-44F7-A482-E28C2D95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C375-D92E-4F24-967F-2426CB20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B218-CB1E-492D-A088-C28606D8AD4A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B5A0-9E61-4D01-80EF-81AD98D6E90C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BEFD-BA8D-4FFA-B831-5FC3405C0679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0E86-B19A-4240-AAD8-673EFF93DA87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BD99-918B-4D6A-91DA-08419CDEB173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0A6C-2BA5-4B11-A70F-339D2BB14A53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Radiographic technique of Pelvis, hip joint and sacroiliac joi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Franklin Gothic Book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 presentation</a:t>
            </a: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3"/>
          <p:cNvSpPr/>
          <p:nvPr/>
        </p:nvSpPr>
        <p:spPr>
          <a:xfrm>
            <a:off x="250920" y="0"/>
            <a:ext cx="82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Axial Pelvis (Pelvic outlet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0" y="54936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m Size 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D 24 x 30 cm,10x12in crossw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ING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 gonads carefully without obscuring. essential anato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Pos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 sup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Posi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ms at sides or across the chest,  pillow for the head, legs fully extended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191628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cm or 40 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: 1-2 in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5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m)distal to superior border of symphysis pub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r greater trochant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2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3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(males) or  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(females) cephal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e on four sides to area of intere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B/ (suspend respiration during Exposure 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untitledففف.png"/>
          <p:cNvPicPr/>
          <p:nvPr/>
        </p:nvPicPr>
        <p:blipFill>
          <a:blip r:embed="rId1"/>
          <a:stretch/>
        </p:blipFill>
        <p:spPr>
          <a:xfrm>
            <a:off x="4618080" y="3905280"/>
            <a:ext cx="45259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9" descr="mso39F38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4356000" y="1557360"/>
            <a:ext cx="3745080" cy="352728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4"/>
          <p:cNvSpPr/>
          <p:nvPr/>
        </p:nvSpPr>
        <p:spPr>
          <a:xfrm>
            <a:off x="3995640" y="50846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show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ior and inferior rami of pubes and body and ramus  of ischium are visible with minimal foresho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5"/>
          <p:cNvSpPr/>
          <p:nvPr/>
        </p:nvSpPr>
        <p:spPr>
          <a:xfrm>
            <a:off x="5292720" y="1628640"/>
            <a:ext cx="277920" cy="1078200"/>
          </a:xfrm>
          <a:prstGeom prst="line">
            <a:avLst/>
          </a:prstGeom>
          <a:ln w="38160">
            <a:solidFill>
              <a:srgbClr val="42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3862080" y="126828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2e2e"/>
                </a:solidFill>
                <a:latin typeface="Times New Roman"/>
                <a:ea typeface="Times New Roman"/>
              </a:rPr>
              <a:t>superior ramus of pubes</a:t>
            </a:r>
            <a:r>
              <a:rPr b="0" lang="en-US" sz="1800" spc="-1" strike="noStrike">
                <a:solidFill>
                  <a:srgbClr val="422e2e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imagesCA62U8YV.jpg"/>
          <p:cNvPicPr/>
          <p:nvPr/>
        </p:nvPicPr>
        <p:blipFill>
          <a:blip r:embed="rId2"/>
          <a:stretch/>
        </p:blipFill>
        <p:spPr>
          <a:xfrm>
            <a:off x="1042920" y="1700280"/>
            <a:ext cx="261324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3"/>
          <p:cNvSpPr/>
          <p:nvPr/>
        </p:nvSpPr>
        <p:spPr>
          <a:xfrm>
            <a:off x="250920" y="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&amp;L PO Pelvis                                                (for acetabulum)   Judet method    </a:t>
            </a:r>
            <a:r>
              <a:rPr b="0" lang="en-US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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0" y="476280"/>
            <a:ext cx="73803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m Siz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x 30 cm, 10x12in crosswi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ING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 gonads carefully without obscuring essential anato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Patient Posi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in semi-sup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Posi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low for head, affected side up or down depending on anatomy to be demonstrated,  place patient in a 4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sterior oblique ,support  with wedge sponge. femoral head and the  acetabulum of interest in the midline of cou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0" y="2421000"/>
            <a:ext cx="543564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cm or 40 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pendicular to the fil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anatomy of interest is downside, centered to 2 in(5cm) distal and 2in   (5cm) medial to downside ASIS. when anatomy of interest is upside, centered to 2 in directly distal to upside  ASI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e on four sides to area of inter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C:\Users\omar\Desktop\ksu\lectures 2010\222 XRay skeletal\row material\LOWER LIMB RADIOGRAPHY bontrager\scans thigh and hip\pelvis\279-2.tif"/>
          <p:cNvPicPr/>
          <p:nvPr/>
        </p:nvPicPr>
        <p:blipFill>
          <a:blip r:embed="rId1"/>
          <a:stretch/>
        </p:blipFill>
        <p:spPr>
          <a:xfrm>
            <a:off x="5479920" y="2997360"/>
            <a:ext cx="3664080" cy="3860640"/>
          </a:xfrm>
          <a:prstGeom prst="rect">
            <a:avLst/>
          </a:prstGeom>
          <a:ln w="0">
            <a:noFill/>
          </a:ln>
        </p:spPr>
      </p:pic>
      <p:cxnSp>
        <p:nvCxnSpPr>
          <p:cNvPr id="315" name="Straight Arrow Connector 7"/>
          <p:cNvCxnSpPr/>
          <p:nvPr/>
        </p:nvCxnSpPr>
        <p:spPr>
          <a:xfrm flipH="1">
            <a:off x="8100360" y="3499920"/>
            <a:ext cx="1080" cy="430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6" name="Straight Arrow Connector 8"/>
          <p:cNvCxnSpPr/>
          <p:nvPr/>
        </p:nvCxnSpPr>
        <p:spPr>
          <a:xfrm flipH="1">
            <a:off x="6300000" y="3644640"/>
            <a:ext cx="1080" cy="430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0" y="76500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show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center to 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wnsi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etabulu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rio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 of acetabul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ior iloischia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umn are demonstrated. 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liac wing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lso well visualiz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center to 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si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etabulum,  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io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m of acetabul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rior iloischia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umn are demonstrated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turato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amen is als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ized</a:t>
            </a:r>
            <a:r>
              <a:rPr b="0" lang="en-US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6588000" y="3573360"/>
            <a:ext cx="2556000" cy="28767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" descr=""/>
          <p:cNvPicPr/>
          <p:nvPr/>
        </p:nvPicPr>
        <p:blipFill>
          <a:blip r:embed="rId2"/>
          <a:stretch/>
        </p:blipFill>
        <p:spPr>
          <a:xfrm>
            <a:off x="3995640" y="3645000"/>
            <a:ext cx="2627280" cy="2835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"/>
          <p:cNvPicPr/>
          <p:nvPr/>
        </p:nvPicPr>
        <p:blipFill>
          <a:blip r:embed="rId3"/>
          <a:stretch/>
        </p:blipFill>
        <p:spPr>
          <a:xfrm>
            <a:off x="4352760" y="549360"/>
            <a:ext cx="479124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9680" y="-1357200"/>
            <a:ext cx="86439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   </a:t>
            </a:r>
            <a:br>
              <a:rPr sz="1600"/>
            </a:br>
            <a:endParaRPr b="0" lang="en-US" sz="16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324000" y="476280"/>
          <a:ext cx="8143560" cy="2928960"/>
        </p:xfrm>
        <a:graphic>
          <a:graphicData uri="http://schemas.openxmlformats.org/drawingml/2006/table">
            <a:tbl>
              <a:tblPr/>
              <a:tblGrid>
                <a:gridCol w="2714400"/>
                <a:gridCol w="2714760"/>
                <a:gridCol w="271440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le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 General shap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rrower, deeper, and less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a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der, with ilia more flared and more shallow from front to bac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 angle of the pubic 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ute  angle,  less than (&lt;90 degree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eater than (90 &gt;deg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ape of the inle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re heart-shaped. narr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er and more r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</a:tbl>
          </a:graphicData>
        </a:graphic>
      </p:graphicFrame>
      <p:sp>
        <p:nvSpPr>
          <p:cNvPr id="323" name="Rectangle 3"/>
          <p:cNvSpPr/>
          <p:nvPr/>
        </p:nvSpPr>
        <p:spPr>
          <a:xfrm>
            <a:off x="971640" y="0"/>
            <a:ext cx="52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ummary of male and female pelvic characteris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900000" y="3429000"/>
            <a:ext cx="734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26" name="Picture 2" descr="imagesCA95D772.jpg"/>
          <p:cNvPicPr/>
          <p:nvPr/>
        </p:nvPicPr>
        <p:blipFill>
          <a:blip r:embed="rId1"/>
          <a:stretch/>
        </p:blipFill>
        <p:spPr>
          <a:xfrm>
            <a:off x="1979640" y="1916280"/>
            <a:ext cx="518472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324000" y="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Unilateral Hip (+ proximal femur)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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907920"/>
            <a:ext cx="608472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m Size 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D24 x 30 cm, 10x12in lengthwi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I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 gonads carefully without obscuring essential anato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Positio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sup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Position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ms by the side or over chest, pelvis not rotated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ffected  leg   rotated  medially 1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2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cm or 40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 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or 2 in (2.5cm to 5cm) distal to mid femoral ne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pendicular to the fil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io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e on four sides to area of interest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8" descr="msoE935A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940360" y="2852640"/>
            <a:ext cx="32036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0" y="1844640"/>
            <a:ext cx="4572000" cy="18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show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ximal one third of the femur should be visualized,  along with the acetabulum and adjacent part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chium,  and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5" descr="Hip AP xray - good rotation"/>
          <p:cNvPicPr/>
          <p:nvPr/>
        </p:nvPicPr>
        <p:blipFill>
          <a:blip r:embed="rId1"/>
          <a:stretch/>
        </p:blipFill>
        <p:spPr>
          <a:xfrm>
            <a:off x="5148360" y="2276640"/>
            <a:ext cx="29336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96464"/>
                </a:solidFill>
                <a:latin typeface="Times New Roman"/>
                <a:ea typeface="Times New Roman"/>
              </a:rPr>
              <a:t>Radiographic Anatomy - AP Hip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-360" y="1285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1 - Anterior superior iliac spine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2 - Ilium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3 - Anterior inferior iliac spine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4 - Pelvic brim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5 - Acetabular fossa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6 - Head of femur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7 - Fovea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8 - superior ramus of pubis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Perpetua"/>
              </a:rPr>
              <a:t>9 - Obturator foramen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10 - Inferior ramus of pubis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11 - Pubic symphysis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12 - Ischium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13 - Lesser trochanter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14 - Intertrochanteric crest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15 - Greater trochanter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16 - Neck of femur</a:t>
            </a:r>
            <a:endParaRPr b="0" lang="en-US" sz="15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4" name="Picture 5" descr="AP hip joint xray labelled"/>
          <p:cNvPicPr/>
          <p:nvPr/>
        </p:nvPicPr>
        <p:blipFill>
          <a:blip r:embed="rId1"/>
          <a:stretch/>
        </p:blipFill>
        <p:spPr>
          <a:xfrm>
            <a:off x="2643120" y="857160"/>
            <a:ext cx="3643560" cy="52866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AP hip joint - nice one"/>
          <p:cNvPicPr/>
          <p:nvPr/>
        </p:nvPicPr>
        <p:blipFill>
          <a:blip r:embed="rId2"/>
          <a:stretch/>
        </p:blipFill>
        <p:spPr>
          <a:xfrm>
            <a:off x="6286680" y="857160"/>
            <a:ext cx="285732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4"/>
          <p:cNvSpPr/>
          <p:nvPr/>
        </p:nvSpPr>
        <p:spPr>
          <a:xfrm>
            <a:off x="0" y="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iolateral  inferosuperior hip                        (trauma hip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0" y="620640"/>
            <a:ext cx="5435640" cy="47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m Size 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D 24 x 30 cm, 10x12in lengthwi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I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 gonads carefully without obscuring essential anato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Pos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sup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Position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affected leg flexed and elevated such that thigh is near vertical, and outside the radiation field, cassette placed  in the crease above iliac crest 9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CR, cassette vertical, affected leg rotated 1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20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dially unless contraindicated by possible fractur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cm or 40 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femoral neck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pendicular to the film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io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e on four sides to area of inter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7" descr="mso4058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435640" y="2781360"/>
            <a:ext cx="3708360" cy="4076640"/>
          </a:xfrm>
          <a:prstGeom prst="rect">
            <a:avLst/>
          </a:prstGeom>
          <a:ln w="0">
            <a:noFill/>
          </a:ln>
        </p:spPr>
      </p:pic>
      <p:cxnSp>
        <p:nvCxnSpPr>
          <p:cNvPr id="339" name="Straight Arrow Connector 7"/>
          <p:cNvCxnSpPr/>
          <p:nvPr/>
        </p:nvCxnSpPr>
        <p:spPr>
          <a:xfrm flipH="1" flipV="1">
            <a:off x="6803640" y="4507920"/>
            <a:ext cx="1812240" cy="162360"/>
          </a:xfrm>
          <a:prstGeom prst="straightConnector1">
            <a:avLst/>
          </a:prstGeom>
          <a:ln w="38160">
            <a:solidFill>
              <a:srgbClr val="d34817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1403280" y="836640"/>
          <a:ext cx="6337440" cy="5497560"/>
        </p:xfrm>
        <a:graphic>
          <a:graphicData uri="http://schemas.openxmlformats.org/drawingml/2006/table">
            <a:tbl>
              <a:tblPr/>
              <a:tblGrid>
                <a:gridCol w="3024360"/>
                <a:gridCol w="3313080"/>
              </a:tblGrid>
              <a:tr h="48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E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 Pelvi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ilateral hips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 Axial Pelvis (Pelvic outlet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 Pelvi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ilateral frog-leg  position) – (non-trauma hips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&amp;L PO Pelvis                                (for acetabulum)   Judet metho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 Unilateral 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+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ximal femu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xiolateral  inferosuperior hip                        (trauma hip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lateral frog-leg hip(non-trauma 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 Axial Sacroiliac joint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 Sacroiliac joint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TextBox 4"/>
          <p:cNvSpPr/>
          <p:nvPr/>
        </p:nvSpPr>
        <p:spPr>
          <a:xfrm>
            <a:off x="2364840" y="260280"/>
            <a:ext cx="39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lvis, hip joint and sacroiliac j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4"/>
          <p:cNvSpPr/>
          <p:nvPr/>
        </p:nvSpPr>
        <p:spPr>
          <a:xfrm>
            <a:off x="0" y="2421000"/>
            <a:ext cx="48960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show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moral heads, and n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chanters ,acetabulum should be visualiz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8" descr="msoB257E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500720" y="1700280"/>
            <a:ext cx="46432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4"/>
          <p:cNvSpPr/>
          <p:nvPr/>
        </p:nvSpPr>
        <p:spPr>
          <a:xfrm>
            <a:off x="0" y="0"/>
            <a:ext cx="8964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lateral frog-leg hip(non-trauma hip) To show lateral hip joint                             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0" y="549360"/>
            <a:ext cx="5940360" cy="36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m Size 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x 30 cm, 10x12in crosswi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ING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 gonads carefully without obscuring essential anato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Pos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sup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Posi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p and knee of affected side flexed, sole of foot against inside of the opposite leg, (near the knee), femur abducted 4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verti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cm or 40 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d-femoral nec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pendicular to the film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e on four s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rea of inter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7" descr="mso142B4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429080" y="3213000"/>
            <a:ext cx="4714920" cy="3645000"/>
          </a:xfrm>
          <a:prstGeom prst="rect">
            <a:avLst/>
          </a:prstGeom>
          <a:ln w="0">
            <a:noFill/>
          </a:ln>
        </p:spPr>
      </p:pic>
      <p:cxnSp>
        <p:nvCxnSpPr>
          <p:cNvPr id="345" name="Straight Arrow Connector 7"/>
          <p:cNvCxnSpPr/>
          <p:nvPr/>
        </p:nvCxnSpPr>
        <p:spPr>
          <a:xfrm>
            <a:off x="5866920" y="4005000"/>
            <a:ext cx="2520" cy="864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4"/>
          <p:cNvSpPr/>
          <p:nvPr/>
        </p:nvSpPr>
        <p:spPr>
          <a:xfrm>
            <a:off x="0" y="20606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show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al view of acetabulum, and femoral heads, and neck)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ochant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rea, and proximal one third of the femur should be visu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8" descr="msoEE57A"/>
          <p:cNvPicPr/>
          <p:nvPr/>
        </p:nvPicPr>
        <p:blipFill>
          <a:blip r:embed="rId1"/>
          <a:stretch/>
        </p:blipFill>
        <p:spPr>
          <a:xfrm>
            <a:off x="4714920" y="1700280"/>
            <a:ext cx="44290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4"/>
          <p:cNvSpPr/>
          <p:nvPr/>
        </p:nvSpPr>
        <p:spPr>
          <a:xfrm>
            <a:off x="0" y="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Axial Sacroiliac joints                                                                                                  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0" y="620640"/>
            <a:ext cx="6084720" cy="28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m Siz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D 24 x 30 cm,10x12in lengthw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ING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 gonads carefully without obscuring essential anato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Posi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sup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Posi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illow for head, legs fully extended, a support under kn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cm or 40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in (5cm) below the level of A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phalic (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males,  3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for fema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e on four sides to area of inter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7" descr="mso9BF50"/>
          <p:cNvPicPr/>
          <p:nvPr/>
        </p:nvPicPr>
        <p:blipFill>
          <a:blip r:embed="rId1"/>
          <a:stretch/>
        </p:blipFill>
        <p:spPr>
          <a:xfrm>
            <a:off x="4572000" y="3716280"/>
            <a:ext cx="45720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4"/>
          <p:cNvSpPr/>
          <p:nvPr/>
        </p:nvSpPr>
        <p:spPr>
          <a:xfrm>
            <a:off x="179280" y="234936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show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roiliac joint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5-S1junction, and entire sacrum are vi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8" descr="msoD45B6"/>
          <p:cNvPicPr/>
          <p:nvPr/>
        </p:nvPicPr>
        <p:blipFill>
          <a:blip r:embed="rId1"/>
          <a:stretch/>
        </p:blipFill>
        <p:spPr>
          <a:xfrm>
            <a:off x="4427640" y="2205000"/>
            <a:ext cx="4429080" cy="2879640"/>
          </a:xfrm>
          <a:prstGeom prst="rect">
            <a:avLst/>
          </a:prstGeom>
          <a:ln w="0">
            <a:noFill/>
          </a:ln>
        </p:spPr>
      </p:pic>
      <p:sp>
        <p:nvSpPr>
          <p:cNvPr id="353" name="Straight Connector 6"/>
          <p:cNvSpPr/>
          <p:nvPr/>
        </p:nvSpPr>
        <p:spPr>
          <a:xfrm>
            <a:off x="3635280" y="2781360"/>
            <a:ext cx="2305080" cy="216000"/>
          </a:xfrm>
          <a:prstGeom prst="line">
            <a:avLst/>
          </a:prstGeom>
          <a:ln w="1260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traight Connector 8"/>
          <p:cNvSpPr/>
          <p:nvPr/>
        </p:nvSpPr>
        <p:spPr>
          <a:xfrm>
            <a:off x="1979640" y="2781360"/>
            <a:ext cx="2736720" cy="863640"/>
          </a:xfrm>
          <a:prstGeom prst="line">
            <a:avLst/>
          </a:prstGeom>
          <a:ln w="1260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1476360" y="3357720"/>
            <a:ext cx="4680000" cy="215640"/>
          </a:xfrm>
          <a:prstGeom prst="line">
            <a:avLst/>
          </a:prstGeom>
          <a:ln w="1260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179280" y="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 Sacroiliac joints                                                                     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0" y="549360"/>
            <a:ext cx="4572000" cy="43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m Siz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D 24 x 30 cm, 10x12in lengthw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ING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 gonads carefully without obscuring essential anato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Posi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sup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Posi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pillow for head,  legs fully extended, then turned 2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 posterior oblique (affected side elevated),  RPO is done for the left joint and a LPO for the right joint, support under the elevated hip, elevated knee flex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cm or 40 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in (2.5cm)  medial to the upside ASIS.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pendicular to the fil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e on four sides to area of interest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7" descr="mso8122C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003640" y="333360"/>
            <a:ext cx="3864240" cy="3024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4932360" y="3009960"/>
            <a:ext cx="406728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0" y="2349360"/>
            <a:ext cx="4572000" cy="18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show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roiliac joints farthest from the film are visible, with joint space appearing op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8" descr="mso24232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5292720" y="1341360"/>
            <a:ext cx="3851280" cy="3345120"/>
          </a:xfrm>
          <a:prstGeom prst="rect">
            <a:avLst/>
          </a:prstGeom>
          <a:ln w="0">
            <a:noFill/>
          </a:ln>
        </p:spPr>
      </p:pic>
      <p:sp>
        <p:nvSpPr>
          <p:cNvPr id="363" name="Straight Connector 4"/>
          <p:cNvSpPr/>
          <p:nvPr/>
        </p:nvSpPr>
        <p:spPr>
          <a:xfrm>
            <a:off x="4859280" y="2205000"/>
            <a:ext cx="2513160" cy="93024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3570840" y="177336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croiliac joi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Photo of pelvis - labelled"/>
          <p:cNvPicPr/>
          <p:nvPr/>
        </p:nvPicPr>
        <p:blipFill>
          <a:blip r:embed="rId1"/>
          <a:stretch/>
        </p:blipFill>
        <p:spPr>
          <a:xfrm>
            <a:off x="826920" y="0"/>
            <a:ext cx="7345440" cy="3173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Photo of hip - labelled"/>
          <p:cNvPicPr/>
          <p:nvPr/>
        </p:nvPicPr>
        <p:blipFill>
          <a:blip r:embed="rId2"/>
          <a:stretch/>
        </p:blipFill>
        <p:spPr>
          <a:xfrm>
            <a:off x="826920" y="3071880"/>
            <a:ext cx="734544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"/>
          <p:cNvSpPr/>
          <p:nvPr/>
        </p:nvSpPr>
        <p:spPr>
          <a:xfrm>
            <a:off x="0" y="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Pelv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ilateral hips)                                                                               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0" y="476280"/>
            <a:ext cx="521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m Size 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D 35x43 cm14x17in (crosswi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ING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 gonads carefully without obscuring essential  anato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Posi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 sup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Position 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ms at sides or across chest, pillow under head, support  under knees, separate legs and, feet and then internally rotate feet and lower limbs 1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2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andbag between heels, feet taped toget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0" y="2852640"/>
            <a:ext cx="5219640" cy="25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cm or 40 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 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pendicular to the fil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way between  level of  ASISs and symphysis pubis 2in (5 cm) superior to the symphysis pubis).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B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spend respiration during Exposure 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nadal shielding for males or females without obscuring the essential anatomical par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e on four sides to area of inter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7" descr="mso974EA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579920" y="4221000"/>
            <a:ext cx="4564080" cy="2637000"/>
          </a:xfrm>
          <a:prstGeom prst="rect">
            <a:avLst/>
          </a:prstGeom>
          <a:ln w="0">
            <a:noFill/>
          </a:ln>
        </p:spPr>
      </p:pic>
      <p:cxnSp>
        <p:nvCxnSpPr>
          <p:cNvPr id="289" name="Straight Arrow Connector 5"/>
          <p:cNvCxnSpPr/>
          <p:nvPr/>
        </p:nvCxnSpPr>
        <p:spPr>
          <a:xfrm flipH="1">
            <a:off x="6300000" y="4365360"/>
            <a:ext cx="1080" cy="572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"/>
          <p:cNvSpPr/>
          <p:nvPr/>
        </p:nvSpPr>
        <p:spPr>
          <a:xfrm>
            <a:off x="250920" y="2349360"/>
            <a:ext cx="374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shown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lvic girdle, L5, sacrum and coccyx, femoral heads, neck and greater trochanters are visibl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8" descr="mso5540"/>
          <p:cNvPicPr/>
          <p:nvPr/>
        </p:nvPicPr>
        <p:blipFill>
          <a:blip r:embed="rId1"/>
          <a:stretch/>
        </p:blipFill>
        <p:spPr>
          <a:xfrm>
            <a:off x="3922560" y="2060640"/>
            <a:ext cx="461016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0" y="0"/>
            <a:ext cx="91440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/ AP pelvis (bilateral hip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http://www.szote.u-szeged.hu/Radiology/Anatomy/skeleton/pics/pelvis4l.jpg"/>
          <p:cNvPicPr/>
          <p:nvPr/>
        </p:nvPicPr>
        <p:blipFill>
          <a:blip r:embed="rId1"/>
          <a:stretch/>
        </p:blipFill>
        <p:spPr>
          <a:xfrm>
            <a:off x="0" y="1000080"/>
            <a:ext cx="5357880" cy="507204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6"/>
          <p:cNvSpPr/>
          <p:nvPr/>
        </p:nvSpPr>
        <p:spPr>
          <a:xfrm>
            <a:off x="5186520" y="642960"/>
            <a:ext cx="3957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Lateral part of the sacru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Gas in col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Iliu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Sacroiliac joi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Ischial sp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Superior ramus of pub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Inferior ramus of pub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Ischial tuberos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Obturator fora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Intertrochanteric c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Pubic symph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5500800" y="3718080"/>
            <a:ext cx="3886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Pubic tuberc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Lesser Trochant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Neck of femu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Greater Trochant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Head of femu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Acetabular foss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 Anterior inferior iliac sp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 Anterior superior iliac sp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 Posterior inferior iliac sp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. Posterior superior iliac sp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. Iliac c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3"/>
          <p:cNvSpPr/>
          <p:nvPr/>
        </p:nvSpPr>
        <p:spPr>
          <a:xfrm>
            <a:off x="179280" y="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Pelv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ilateral frog-leg position) – (non-trauma hips)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79280" y="549360"/>
            <a:ext cx="748836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m Size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D 35x43 cm 14x17in (crosswis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ING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 gonads carefully without obscuring essential  anatom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Patient Posi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  sup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Posi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ms at sides or across chest,  both knees flexed 9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femurs abducted 4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4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vertical,  feet soles placed together ,ensure pelvis is not rotated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2349360"/>
            <a:ext cx="81010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: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cm or 40 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in  (7.5cm )below level of ASIS  (1 in or2.5cm  above the symphysis pubi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 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pendicular to the film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mate on four sides to area of inter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B / (suspend respiration during Exposure 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msoD5E26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788000" y="3720960"/>
            <a:ext cx="435600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8" descr="msoFC91C"/>
          <p:cNvPicPr/>
          <p:nvPr/>
        </p:nvPicPr>
        <p:blipFill>
          <a:blip r:embed="rId1"/>
          <a:stretch/>
        </p:blipFill>
        <p:spPr>
          <a:xfrm>
            <a:off x="3741840" y="2133720"/>
            <a:ext cx="4717800" cy="395928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4"/>
          <p:cNvSpPr/>
          <p:nvPr/>
        </p:nvSpPr>
        <p:spPr>
          <a:xfrm>
            <a:off x="179280" y="2349360"/>
            <a:ext cx="331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show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oral heads, neck and trochanters acetabulum are vi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2:29:49Z</dcterms:created>
  <dc:creator>sara</dc:creator>
  <dc:description/>
  <dc:language>en-US</dc:language>
  <cp:lastModifiedBy>sara</cp:lastModifiedBy>
  <dcterms:modified xsi:type="dcterms:W3CDTF">2012-12-10T19:14:30Z</dcterms:modified>
  <cp:revision>29</cp:revision>
  <dc:subject/>
  <dc:title>Slide 1</dc:title>
</cp:coreProperties>
</file>