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.jpeg" ContentType="image/jpeg"/>
  <Override PartName="/ppt/media/image10.png" ContentType="image/png"/>
  <Override PartName="/ppt/media/image1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07B9-08F7-4078-80C5-31F9C2B21A8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4148-48F9-4541-826D-3C0D9713DC5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1B5A-8829-4BEB-9E7F-08003EF0044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B414-85C3-4506-8A78-C47B7808F9B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4EC1-2739-4B60-A535-AE195296574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CB6-9ED1-40B4-90E3-C389D479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FEE-7823-4340-B5DC-DBD55C08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683-78E0-4089-AB1B-80CCEB28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154-D76C-4B75-9341-7F144AA7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C5EB-34AE-4C65-AE95-F8FB4782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BF41-9480-4A7A-9F3A-25332D2C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112C-3EC2-4CC1-9AB7-946634C7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0841-CCDA-4F6A-9E93-3F49DA72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14C1-62DE-41F7-9986-B1C29348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F3E4-128A-498C-8537-0D5760A4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6A48-245B-499E-B277-9A1BC53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1C3-77A8-4583-B7AE-867DAEE5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7D64-24CF-4188-B76B-6B1570D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C2D-A728-48B6-9656-3FBF4F8D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EF57-9831-41A6-A295-AC4C3706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1596-3E57-43D5-A5C3-273FE756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A9B2-2AF7-49EC-B762-A161E8A5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CD21E-97A6-4A70-A03D-EB6D3E6F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20661-43CB-4B2D-8701-E6D8D1D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5056-A985-456B-A0AE-2404584D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F8FA-C422-4A91-8127-C4B899BD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619F-2D7D-4325-B195-0A0824FB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3CF-486D-41DF-8D43-2216481A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1972-5916-4373-853A-80E53222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DB50-9379-4EF1-B836-5611B74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9247A-A8E0-4CFD-8508-326EDFCD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E725-79A2-4C1B-BC6E-2687BFCE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903C-4E1D-4FB4-901C-9A73092A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8E54-489E-4A53-8E3E-4CD709D8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F593-50D7-44EA-98FA-C2B31FAA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AAF8-34D7-4B2F-85DD-C15014BD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E92D-BA20-42DE-A678-2C498C54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A5D2-01B5-4847-B5B4-980AEFB3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9D5-1C55-4AE2-9816-C59A1D41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7257-DEE3-4A59-8CCC-EC6378EC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A77C-C7C9-4D55-B5B6-E04ED282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020F9-D1E6-4695-8D03-1F23EF08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10145-F05F-42EA-9BE4-E66890F3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4004-ADEB-497D-BA0D-D6A4C900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BFFF-0A29-4C09-AA26-303E3F9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6560-8A64-4D7A-8DF9-06F754B4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D514-2140-4083-ACF6-A894B322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BDE6-2216-4B90-9560-80D11406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E15F-C713-4093-BC68-867B60B0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F65-56B1-42F9-8C95-8AC0434F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AC516-4D77-4E10-88FC-2D139EA5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16E2-FE1D-41D7-A191-4F9ED131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84554-2F90-461E-8D10-D4533AAF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BCC6-0117-4FB4-89E7-184CCEE0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2A3CF-7EDD-4862-83C9-B7B8E0B3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6C796-90BA-49DA-B24F-45343F9E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1966B-F830-4EE5-8F1F-4947C6D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5865-DFE9-4CA8-A9DC-9D491EEA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B6266-793E-48EE-A004-EFF72BAF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41D23-A172-466D-9358-B07CE480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011-09DD-40CF-BAAA-BA482F96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B6FB-0848-488C-9949-B174FB73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6D90-BAF8-4E12-85EC-9029508B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34704-C0DD-4CC6-8C41-8D21BE8D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F0241-627F-401E-88CC-D8566114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C5B82-919E-47B9-A836-74834DA6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1A370-49BF-41C0-97BE-6B4D4700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E40DC-721B-404F-8B80-7A0C8395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A586-D8FB-4488-9BFE-F255B01C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A19C8-EA55-431D-A1A8-10544981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B9943-DD03-4579-926E-1E8711E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DE5-BAFE-48E4-998E-CA25FED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4F05-E31B-4F81-813B-542DDD9F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7768E-2E2D-4FC3-82EC-D367CF98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E545-A719-4F9B-B178-A5E122B8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3D4-FC94-417E-BE6C-76DEEC61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68B-926D-4082-8172-A3E0C8F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4005-1C77-4201-9D3B-8EC43F10260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17B4-8462-4C1D-95FA-DA87449694A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69C4-8C5B-4E9E-9A47-E54E71C1149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3E12-4CB1-4340-908A-DC524AEDC0A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5A94-452A-42FB-9EF7-316500F41B6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30FB-FF0C-4846-A9AF-12E55A112186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adiographic technique of Pelvis, hip joint and sacroiliac joi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Franklin Gothic Book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presentation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250920" y="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xial Pelvis (Pelvic outle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549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24 x 30 cm,10x12in cross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.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s at sides or across the chest,  pillow for the head, legs fully extended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1916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 1-2 in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m)distal to superior border of symphysis pub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greater trochan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(males) or  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(females) cepha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/ (suspend respiration during Exposure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untitledففف.png"/>
          <p:cNvPicPr/>
          <p:nvPr/>
        </p:nvPicPr>
        <p:blipFill>
          <a:blip r:embed="rId1"/>
          <a:stretch/>
        </p:blipFill>
        <p:spPr>
          <a:xfrm>
            <a:off x="4618080" y="3905280"/>
            <a:ext cx="4525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9" descr="mso39F38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4356000" y="1557360"/>
            <a:ext cx="3745080" cy="35272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3995640" y="5084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 and inferior rami of pubes and body and ramus  of ischium are visible with minimal foresh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5"/>
          <p:cNvSpPr/>
          <p:nvPr/>
        </p:nvSpPr>
        <p:spPr>
          <a:xfrm>
            <a:off x="5292720" y="1628640"/>
            <a:ext cx="277920" cy="1078200"/>
          </a:xfrm>
          <a:prstGeom prst="line">
            <a:avLst/>
          </a:prstGeom>
          <a:ln w="38160">
            <a:solidFill>
              <a:srgbClr val="42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3862080" y="126828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e2e"/>
                </a:solidFill>
                <a:latin typeface="Times New Roman"/>
                <a:ea typeface="Times New Roman"/>
              </a:rPr>
              <a:t>superior ramus of pubes</a:t>
            </a:r>
            <a:r>
              <a:rPr b="0" lang="en-US" sz="1800" spc="-1" strike="noStrike">
                <a:solidFill>
                  <a:srgbClr val="422e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imagesCA62U8YV.jpg"/>
          <p:cNvPicPr/>
          <p:nvPr/>
        </p:nvPicPr>
        <p:blipFill>
          <a:blip r:embed="rId2"/>
          <a:stretch/>
        </p:blipFill>
        <p:spPr>
          <a:xfrm>
            <a:off x="1042920" y="1700280"/>
            <a:ext cx="26132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250920" y="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&amp;L PO Pelvis                                                (for acetabulum)   Judet method   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476280"/>
            <a:ext cx="73803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x 30 cm, 10x12in crossw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atien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in semi-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low for head, affected side up or down depending on anatomy to be demonstrated,  place patient in a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terior oblique ,support  with wedge sponge. femoral head and the  acetabulum of interest in the midline of co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2421000"/>
            <a:ext cx="5435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anatomy of interest is downside, centered to 2 in(5cm) distal and 2in   (5cm) medial to downside ASIS. when anatomy of interest is upside, centered to 2 in directly distal to upside  ASI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C:\Users\omar\Desktop\ksu\lectures 2010\222 XRay skeletal\row material\LOWER LIMB RADIOGRAPHY bontrager\scans thigh and hip\pelvis\279-2.tif"/>
          <p:cNvPicPr/>
          <p:nvPr/>
        </p:nvPicPr>
        <p:blipFill>
          <a:blip r:embed="rId1"/>
          <a:stretch/>
        </p:blipFill>
        <p:spPr>
          <a:xfrm>
            <a:off x="5479920" y="2997360"/>
            <a:ext cx="3664080" cy="3860640"/>
          </a:xfrm>
          <a:prstGeom prst="rect">
            <a:avLst/>
          </a:prstGeom>
          <a:ln w="0">
            <a:noFill/>
          </a:ln>
        </p:spPr>
      </p:pic>
      <p:cxnSp>
        <p:nvCxnSpPr>
          <p:cNvPr id="315" name="Straight Arrow Connector 7"/>
          <p:cNvCxnSpPr/>
          <p:nvPr/>
        </p:nvCxnSpPr>
        <p:spPr>
          <a:xfrm flipH="1">
            <a:off x="8100360" y="3499920"/>
            <a:ext cx="1080" cy="43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6" name="Straight Arrow Connector 8"/>
          <p:cNvCxnSpPr/>
          <p:nvPr/>
        </p:nvCxnSpPr>
        <p:spPr>
          <a:xfrm flipH="1">
            <a:off x="6300000" y="3644640"/>
            <a:ext cx="1080" cy="43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0" y="7650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enter to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bul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 of acetabul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 iloischi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 are demonstrated. 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liac win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lso well visu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enter to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bulum, 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 of acetab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iloischi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 are demonstrate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turato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amen is als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zed</a:t>
            </a:r>
            <a:r>
              <a:rPr b="0" lang="en-U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2556000" cy="2876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3995640" y="3645000"/>
            <a:ext cx="2627280" cy="283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3"/>
          <a:stretch/>
        </p:blipFill>
        <p:spPr>
          <a:xfrm>
            <a:off x="4352760" y="549360"/>
            <a:ext cx="4791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9680" y="-135720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   </a:t>
            </a:r>
            <a:br>
              <a:rPr sz="1600"/>
            </a:br>
            <a:endParaRPr b="0" lang="en-US" sz="1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24000" y="476280"/>
          <a:ext cx="8143560" cy="292896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4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 General sha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rower, deeper, and less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er, with ilia more flared and more shallow from front to bac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 angle of the pubic 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ute  angle,  less than (&lt;90 degree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ater than (90 &gt;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pe of the inl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heart-shaped. narr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and more 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323" name="Rectangle 3"/>
          <p:cNvSpPr/>
          <p:nvPr/>
        </p:nvSpPr>
        <p:spPr>
          <a:xfrm>
            <a:off x="971640" y="0"/>
            <a:ext cx="52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mmary of male and female pelvic characteri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73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26" name="Picture 2" descr="imagesCA95D772.jpg"/>
          <p:cNvPicPr/>
          <p:nvPr/>
        </p:nvPicPr>
        <p:blipFill>
          <a:blip r:embed="rId1"/>
          <a:stretch/>
        </p:blipFill>
        <p:spPr>
          <a:xfrm>
            <a:off x="1979640" y="1916280"/>
            <a:ext cx="51847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324000" y="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Unilateral Hip (+ proximal femur)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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907920"/>
            <a:ext cx="608472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24 x 30 cm, 10x12in lengthw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s by the side or over chest, pelvis not rotated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ffected  leg   rotated  medially 1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r 2 in (2.5cm to 5cm) distal to mid femoral n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msoE935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0" y="1844640"/>
            <a:ext cx="457200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ximal one third of the femur should be visualized,  along with the acetabulum and adjacent part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hium,  a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Hip AP xray - good rotation"/>
          <p:cNvPicPr/>
          <p:nvPr/>
        </p:nvPicPr>
        <p:blipFill>
          <a:blip r:embed="rId1"/>
          <a:stretch/>
        </p:blipFill>
        <p:spPr>
          <a:xfrm>
            <a:off x="5148360" y="2276640"/>
            <a:ext cx="2933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Radiographic Anatomy - AP Hip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 - Anterior superior iliac spine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2 - Ilium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3 - Anterior inferior iliac spine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4 - Pelvic brim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5 - Acetabular fossa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6 - Head of femur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7 - Fovea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8 - superior ramus of pubis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Perpetua"/>
              </a:rPr>
              <a:t>9 - Obturator foramen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0 - Inferior ramus of pubis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1 - Pubic symphysis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2 - Ischium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3 - Lesser trochanter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4 - Intertrochanteric crest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5 - Greater trochanter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6 - Neck of femur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4" name="Picture 5" descr="AP hip joint xray labelled"/>
          <p:cNvPicPr/>
          <p:nvPr/>
        </p:nvPicPr>
        <p:blipFill>
          <a:blip r:embed="rId1"/>
          <a:stretch/>
        </p:blipFill>
        <p:spPr>
          <a:xfrm>
            <a:off x="2643120" y="857160"/>
            <a:ext cx="3643560" cy="5286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AP hip joint - nice one"/>
          <p:cNvPicPr/>
          <p:nvPr/>
        </p:nvPicPr>
        <p:blipFill>
          <a:blip r:embed="rId2"/>
          <a:stretch/>
        </p:blipFill>
        <p:spPr>
          <a:xfrm>
            <a:off x="6286680" y="857160"/>
            <a:ext cx="28573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0" y="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olateral  inferosuperior hip                        (trauma hi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620640"/>
            <a:ext cx="54356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24 x 30 cm, 10x12in lengthw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affected leg flexed and elevated such that thigh is near vertical, and outside the radiation field, cassette placed  in the crease above iliac crest 9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R, cassette vertical, affected leg rotated 1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lly unless contraindicated by possible fractur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femoral neck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7" descr="mso405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435640" y="2781360"/>
            <a:ext cx="3708360" cy="4076640"/>
          </a:xfrm>
          <a:prstGeom prst="rect">
            <a:avLst/>
          </a:prstGeom>
          <a:ln w="0">
            <a:noFill/>
          </a:ln>
        </p:spPr>
      </p:pic>
      <p:cxnSp>
        <p:nvCxnSpPr>
          <p:cNvPr id="339" name="Straight Arrow Connector 7"/>
          <p:cNvCxnSpPr/>
          <p:nvPr/>
        </p:nvCxnSpPr>
        <p:spPr>
          <a:xfrm flipH="1" flipV="1">
            <a:off x="6803640" y="4507920"/>
            <a:ext cx="1812240" cy="162360"/>
          </a:xfrm>
          <a:prstGeom prst="straightConnector1">
            <a:avLst/>
          </a:prstGeom>
          <a:ln w="38160">
            <a:solidFill>
              <a:srgbClr val="d3481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403280" y="836640"/>
          <a:ext cx="6337440" cy="5497560"/>
        </p:xfrm>
        <a:graphic>
          <a:graphicData uri="http://schemas.openxmlformats.org/drawingml/2006/table">
            <a:tbl>
              <a:tblPr/>
              <a:tblGrid>
                <a:gridCol w="3024360"/>
                <a:gridCol w="331308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Pelv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ilateral hips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Axial Pelvis (Pelvic outlet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Pelv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ilateral frog-leg  position) – (non-trauma hips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L PO Pelvis                                (for acetabulum)   Judet metho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Unilateral 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ximal femu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xiolateral  inferosuperior hip                        (trauma hip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lateral frog-leg hip(non-trauma 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Axial Sacroiliac joi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 Sacroiliac joi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Box 4"/>
          <p:cNvSpPr/>
          <p:nvPr/>
        </p:nvSpPr>
        <p:spPr>
          <a:xfrm>
            <a:off x="2364840" y="26028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lvis, hip joint and sacroiliac 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0" y="2421000"/>
            <a:ext cx="489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oral heads, and n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chanters ,acetabulum should be visualiz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8" descr="msoB257E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00720" y="1700280"/>
            <a:ext cx="4643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0" y="0"/>
            <a:ext cx="896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lateral frog-leg hip(non-trauma hip) To show lateral hip joint               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549360"/>
            <a:ext cx="5940360" cy="36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x 30 cm, 10x12in crossw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p and knee of affected side flexed, sole of foot against inside of the opposite leg, (near the knee), femur abducted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ver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d-femoral ne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rea of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mso142B4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9080" y="3213000"/>
            <a:ext cx="4714920" cy="3645000"/>
          </a:xfrm>
          <a:prstGeom prst="rect">
            <a:avLst/>
          </a:prstGeom>
          <a:ln w="0">
            <a:noFill/>
          </a:ln>
        </p:spPr>
      </p:pic>
      <p:cxnSp>
        <p:nvCxnSpPr>
          <p:cNvPr id="345" name="Straight Arrow Connector 7"/>
          <p:cNvCxnSpPr/>
          <p:nvPr/>
        </p:nvCxnSpPr>
        <p:spPr>
          <a:xfrm>
            <a:off x="5866920" y="4005000"/>
            <a:ext cx="2520" cy="864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0" y="2060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 view of acetabulum, and femoral heads, and neck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ochan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a, and proximal one third of the femur should be visu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8" descr="msoEE57A"/>
          <p:cNvPicPr/>
          <p:nvPr/>
        </p:nvPicPr>
        <p:blipFill>
          <a:blip r:embed="rId1"/>
          <a:stretch/>
        </p:blipFill>
        <p:spPr>
          <a:xfrm>
            <a:off x="4714920" y="1700280"/>
            <a:ext cx="4429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0" y="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xial Sacroiliac joints                                                                                    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0" y="620640"/>
            <a:ext cx="6084720" cy="28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24 x 30 cm,10x12in length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llow for head, legs fully extended, a support under kn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in (5cm) below the level of 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phalic (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males,  3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or fem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mso9BF50"/>
          <p:cNvPicPr/>
          <p:nvPr/>
        </p:nvPicPr>
        <p:blipFill>
          <a:blip r:embed="rId1"/>
          <a:stretch/>
        </p:blipFill>
        <p:spPr>
          <a:xfrm>
            <a:off x="4572000" y="3716280"/>
            <a:ext cx="4572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179280" y="2349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roiliac joi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5-S1junction, and entire sacrum are 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msoD45B6"/>
          <p:cNvPicPr/>
          <p:nvPr/>
        </p:nvPicPr>
        <p:blipFill>
          <a:blip r:embed="rId1"/>
          <a:stretch/>
        </p:blipFill>
        <p:spPr>
          <a:xfrm>
            <a:off x="4427640" y="2205000"/>
            <a:ext cx="4429080" cy="2879640"/>
          </a:xfrm>
          <a:prstGeom prst="rect">
            <a:avLst/>
          </a:prstGeom>
          <a:ln w="0">
            <a:noFill/>
          </a:ln>
        </p:spPr>
      </p:pic>
      <p:sp>
        <p:nvSpPr>
          <p:cNvPr id="353" name="Straight Connector 6"/>
          <p:cNvSpPr/>
          <p:nvPr/>
        </p:nvSpPr>
        <p:spPr>
          <a:xfrm>
            <a:off x="3635280" y="2781360"/>
            <a:ext cx="2305080" cy="216000"/>
          </a:xfrm>
          <a:prstGeom prst="line">
            <a:avLst/>
          </a:prstGeom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8"/>
          <p:cNvSpPr/>
          <p:nvPr/>
        </p:nvSpPr>
        <p:spPr>
          <a:xfrm>
            <a:off x="1979640" y="2781360"/>
            <a:ext cx="2736720" cy="863640"/>
          </a:xfrm>
          <a:prstGeom prst="line">
            <a:avLst/>
          </a:prstGeom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1476360" y="3357720"/>
            <a:ext cx="4680000" cy="215640"/>
          </a:xfrm>
          <a:prstGeom prst="line">
            <a:avLst/>
          </a:prstGeom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79280" y="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Sacroiliac joints                                                                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0" y="549360"/>
            <a:ext cx="45720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D 24 x 30 cm, 10x12in length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illow for head,  legs fully extended, then turned 2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posterior oblique (affected side elevated),  RPO is done for the left joint and a LPO for the right joint, support under the elevated hip, elevated knee fle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in (2.5cm)  medial to the upside ASIS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7" descr="mso8122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003640" y="333360"/>
            <a:ext cx="3864240" cy="3024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932360" y="3009960"/>
            <a:ext cx="4067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2349360"/>
            <a:ext cx="4572000" cy="18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roiliac joints farthest from the film are visible, with joint space appearing o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mso24232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292720" y="1341360"/>
            <a:ext cx="3851280" cy="3345120"/>
          </a:xfrm>
          <a:prstGeom prst="rect">
            <a:avLst/>
          </a:prstGeom>
          <a:ln w="0">
            <a:noFill/>
          </a:ln>
        </p:spPr>
      </p:pic>
      <p:sp>
        <p:nvSpPr>
          <p:cNvPr id="363" name="Straight Connector 4"/>
          <p:cNvSpPr/>
          <p:nvPr/>
        </p:nvSpPr>
        <p:spPr>
          <a:xfrm>
            <a:off x="4859280" y="2205000"/>
            <a:ext cx="2513160" cy="93024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3570840" y="177336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roiliac joi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Photo of pelvis - labelled"/>
          <p:cNvPicPr/>
          <p:nvPr/>
        </p:nvPicPr>
        <p:blipFill>
          <a:blip r:embed="rId1"/>
          <a:stretch/>
        </p:blipFill>
        <p:spPr>
          <a:xfrm>
            <a:off x="826920" y="0"/>
            <a:ext cx="7345440" cy="3173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Photo of hip - labelled"/>
          <p:cNvPicPr/>
          <p:nvPr/>
        </p:nvPicPr>
        <p:blipFill>
          <a:blip r:embed="rId2"/>
          <a:stretch/>
        </p:blipFill>
        <p:spPr>
          <a:xfrm>
            <a:off x="826920" y="3071880"/>
            <a:ext cx="7345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0" y="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Pelv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ilateral hips)                                                                              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476280"/>
            <a:ext cx="52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35x43 cm14x17in (crosswi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 sup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s at sides or across chest, pillow under head, support  under knees, separate legs and, feet and then internally rotate feet and lower limbs 1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andbag between heels, feet taped toget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2852640"/>
            <a:ext cx="5219640" cy="25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to the fil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way between  level of  ASISs and symphysis pubis 2in (5 cm) superior to the symphysis pubis)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spend respiration during Exposure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nadal shielding for males or females without obscuring the essential anatomical pa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mso974E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9920" y="4221000"/>
            <a:ext cx="4564080" cy="2637000"/>
          </a:xfrm>
          <a:prstGeom prst="rect">
            <a:avLst/>
          </a:prstGeom>
          <a:ln w="0">
            <a:noFill/>
          </a:ln>
        </p:spPr>
      </p:pic>
      <p:cxnSp>
        <p:nvCxnSpPr>
          <p:cNvPr id="289" name="Straight Arrow Connector 5"/>
          <p:cNvCxnSpPr/>
          <p:nvPr/>
        </p:nvCxnSpPr>
        <p:spPr>
          <a:xfrm flipH="1">
            <a:off x="6300000" y="4365360"/>
            <a:ext cx="108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250920" y="234936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vic girdle, L5, sacrum and coccyx, femoral heads, neck and greater trochanters are visi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mso5540"/>
          <p:cNvPicPr/>
          <p:nvPr/>
        </p:nvPicPr>
        <p:blipFill>
          <a:blip r:embed="rId1"/>
          <a:stretch/>
        </p:blipFill>
        <p:spPr>
          <a:xfrm>
            <a:off x="3922560" y="2060640"/>
            <a:ext cx="46101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/ AP pelvis (bilateral hip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http://www.szote.u-szeged.hu/Radiology/Anatomy/skeleton/pics/pelvis4l.jpg"/>
          <p:cNvPicPr/>
          <p:nvPr/>
        </p:nvPicPr>
        <p:blipFill>
          <a:blip r:embed="rId1"/>
          <a:stretch/>
        </p:blipFill>
        <p:spPr>
          <a:xfrm>
            <a:off x="0" y="1000080"/>
            <a:ext cx="5357880" cy="50720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5186520" y="642960"/>
            <a:ext cx="395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ateral part of the sacr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as in col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li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acroiliac joi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schial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Superior ramus of pub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Inferior ramus of pub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Ischial tubero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Obturator for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Intertrochanteric 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Pubic symph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5500800" y="3718080"/>
            <a:ext cx="38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Pubic tuberc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Lesser Trocha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Neck of fem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Greater Trocha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Head of fem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cetabular foss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nterior inferior iliac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Anterior superior iliac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Posterior inferior iliac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 Posterior superior iliac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 Iliac 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179280" y="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Pelv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ilateral frog-leg position) – (non-trauma hips)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79280" y="549360"/>
            <a:ext cx="748836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35x43 cm 14x17in (crosswis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atien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s at sides or across chest,  both knees flexed 9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femurs abducted 4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vertical,  feet soles placed together ,ensure pelvis is not rotate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2349360"/>
            <a:ext cx="81010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in  (7.5cm )below level of ASIS  (1 in or2.5cm  above the symphysis pubi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to the film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 / (suspend respiration during Exposure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msoD5E2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88000" y="3720960"/>
            <a:ext cx="43560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8" descr="msoFC91C"/>
          <p:cNvPicPr/>
          <p:nvPr/>
        </p:nvPicPr>
        <p:blipFill>
          <a:blip r:embed="rId1"/>
          <a:stretch/>
        </p:blipFill>
        <p:spPr>
          <a:xfrm>
            <a:off x="3741840" y="2133720"/>
            <a:ext cx="4717800" cy="39592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179280" y="234936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oral heads, neck and trochanters acetabulum are 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2:29:49Z</dcterms:created>
  <dc:creator>sara</dc:creator>
  <dc:description/>
  <dc:language>en-US</dc:language>
  <cp:lastModifiedBy>sara</cp:lastModifiedBy>
  <dcterms:modified xsi:type="dcterms:W3CDTF">2012-12-10T19:14:30Z</dcterms:modified>
  <cp:revision>29</cp:revision>
  <dc:subject/>
  <dc:title>Slide 1</dc:title>
</cp:coreProperties>
</file>