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44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40.png" ContentType="image/png"/>
  <Override PartName="/ppt/media/image11.jpeg" ContentType="image/jpeg"/>
  <Override PartName="/ppt/media/image31.jpeg" ContentType="image/jpeg"/>
  <Override PartName="/ppt/media/image41.png" ContentType="image/png"/>
  <Override PartName="/ppt/media/image36.png" ContentType="image/png"/>
  <Override PartName="/ppt/media/image6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D4E-361D-4639-B4B1-2C7FA07A31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8F91-FA6F-4432-9A94-052535B17A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D4D9-A02D-4168-BFCB-0742C299654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BDFF-2360-4097-B12B-D584E463DA0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DB5-D264-4A57-9CFD-E693C232E29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342F-819F-4C79-AC98-7F47AF4A29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D087-C758-4211-95A2-15F6220F2D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F96F-2118-4093-8C6B-4B6110A271F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37E1-2698-4C04-BCF2-1C08F599E1D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647C-7E16-4F51-A637-850CE44FD30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51C-2038-4CDD-AFA9-BCE14E812AC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F2A5-7D79-486A-A27F-943A3ADC574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F43C-9FC8-4D0C-A6E4-1899018C1C7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953-585E-4DD6-BEB1-4CF1BB550D6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C627-F95B-4568-8FE8-A120D9D7E2E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8573-5A70-4C58-A2FA-0A45D6569F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8A4-E167-4817-AA53-F46DF8C8CD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6910-B2F5-43E4-84D0-C7515BD51B7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3797-82A7-448B-93A1-D3645ED027F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C443-50B2-4E96-B806-ECBC2BA046C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FDA1-99D0-4F8C-ACC3-96DDE5F6983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18E-D238-4B1D-A1C3-C4F1F8A372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8696-C5C8-4E42-99B3-52F9DCEB41D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CED-5AC9-47B2-91DD-90CEEE08436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707-B5EF-4380-98F8-ED97707DAF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2D6E-67AB-46AF-B551-3CA005968B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AF34-E85D-4015-9D62-C4B7C2DE62A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1DB0-7149-4288-AB65-450440E172B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8C9C-A16E-4E08-93F5-19EC4A8FD10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E41C-F470-4319-B4C9-1FDB87A9B29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B1E0-AF61-4253-A77B-C16A2177BB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0915-ADD6-4009-937B-63502B37702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63E-A991-43E2-AE51-871E7CAF5A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6D29-50CE-4CC2-845C-FB6CE040CC5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7103-784E-4713-8733-7B6E0AAB29D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BCC8-0A5F-4EC5-8E14-95C831353FA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DCB-2CA4-4EA8-9310-50E88209E7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7E19-C7AA-4367-8D31-FB2280F750E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7ADA-C294-4AA0-9105-0D9B1CF8AC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C005-4137-479E-A302-2A24BE722F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EBA-3149-4C3E-B4DF-DE967668994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C404-85A6-4E57-BEE0-4160D16C6DD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EAD0-3A31-473B-B54D-F6E4D38CC97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91B5-0C13-4DCB-817C-8AD7FFCE35F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DA18-054C-488F-8288-C3F872046AB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01EB-103A-4A04-9043-4FD2DE35860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E3A-E18E-4FB6-9829-AC92B7F964E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6ED-EAE8-48E3-803D-0407D5F62D1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7AC-DD93-476C-BB4A-786A4CBBD54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225D-BC54-4629-BD2D-0B162FC2936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8331-9C03-493B-B6B0-A08D0E6B7A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5C43-6DB7-4ABE-9484-B4C6FBD1715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15CA-8FBC-4904-921E-DB751C3ABA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3DF-4407-4A7C-AE54-7B9E5368595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717B-B9AC-4876-9464-46E9D8F5375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4AC7-91C1-473B-9417-ED053B7F4B1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8F9A-8BCB-4954-A19B-661C96ED8F7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E72C-5156-4097-8CB1-1B56EB5E790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09DA-8B5D-46E1-A47B-DEE1CE7E37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43B4-9A7E-4846-9682-A65228CA5B6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72C8-07BF-4066-A1A0-5C7D9E3690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36BD-C2D2-4DA3-B305-7CC0FA4A5D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5CBD-D30B-4439-9DD0-B33B5146D56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F153-DD89-45BD-9245-BD747273452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BF57-52F6-44A6-A461-A7B23946BB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0419-9FD4-40E8-8AF8-74092CFB13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E80-F37E-4EE7-B3D6-24A07DC1924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564D-A415-4CCE-A8F0-B9C8FD295E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42D7-7D53-4102-8CE0-D5747B518D7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40D-C256-4807-98AB-C1DC731B7FB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BB29-3328-4027-9F30-308E7FC6B7F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612E-C2F7-4FEA-AA0A-0D79C2E42EE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135E-F5B9-43DF-91BB-46E0C97002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0FD2-45DE-46A4-BC82-79DCDCC054A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9FD1-0363-4EFB-985D-C32271B5F8F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5719-8A02-461A-A267-98153B2DF1B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4B5-2F8C-4CCB-A1FC-782DB1E4EDC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FEA1-279D-42C4-A166-CE250666ACA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B2D3-0EF3-482B-A2ED-3AEEE183666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4ED-F545-4F2C-838B-1791C05C516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90D-1F70-4E3E-8816-80C9CF11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3BF-10A5-4F01-8D3A-BB41D673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01F-41F7-42EE-B3CF-6325C567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1E6-6233-444E-9933-3BD3A764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C388E-8E17-4020-BD57-045AF7DE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FA49C-B756-4390-ACEB-CC43498A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B128-1DBB-4DEC-9110-89590FE2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1D0FC-7A85-44F4-B9F6-39A5D4E1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0A957-36A5-4C5E-8D26-0A6C7F0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B0F52-E744-444B-8356-304C25C6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A9AD8-44D8-4EEA-B490-B7957FD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249-1F37-40DB-82E9-8C63EC13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E56AB-E2BA-4CC9-8EDF-DC7E68A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E98E5-9404-4D86-B5F6-932F8C37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73493-CA22-4D69-BB2A-6B339B28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8EC5C-CD56-4FE7-8444-85F0D99A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B9D90-BE29-46BD-A474-9E822D9F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E54-2864-4532-9C2F-BD1AB6AF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631-57D4-4CAD-A4C7-C2DE24C1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6D4-8912-4473-AE14-C06BA6BD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253-9158-45A6-816D-4022E72E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4F4-2512-4E9E-8F37-B6ECC15E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18E-8076-490B-8A8A-07612AC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2F3-982C-4626-A5D9-2AE118A6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20D-C60D-4782-9839-C3C62750310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28A4-832A-4BCA-BC67-E652B223352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inciples of Fractures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0520" y="26665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Abdulrahman Algarni, MD, SSC (Ortho), AB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. 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nt orthopedic and arthroplasty surg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lo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lux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dislo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100-0013_IMG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Dislocation: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omplete separation of the articular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Distal to proximal frag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Anterior, Posterior, Inferior, Sup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7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014800" y="1928880"/>
            <a:ext cx="330516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Subluxation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ncomplete s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oint Function in Anatomical position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8"/>
          <p:cNvPicPr/>
          <p:nvPr/>
        </p:nvPicPr>
        <p:blipFill>
          <a:blip r:embed="rId1"/>
          <a:stretch/>
        </p:blipFill>
        <p:spPr>
          <a:xfrm>
            <a:off x="5019840" y="1838160"/>
            <a:ext cx="32954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Fracture Dislocation:-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ssociation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3ee27"/>
                </a:solidFill>
                <a:latin typeface="Arial"/>
              </a:rPr>
              <a:t>Always X-Ray J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ee2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3ee27"/>
                </a:solidFill>
                <a:latin typeface="Arial"/>
              </a:rPr>
              <a:t>Above and Bel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100-0013_IMG"/>
          <p:cNvPicPr/>
          <p:nvPr/>
        </p:nvPicPr>
        <p:blipFill>
          <a:blip r:embed="rId1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00-0015_IMG"/>
          <p:cNvPicPr/>
          <p:nvPr/>
        </p:nvPicPr>
        <p:blipFill>
          <a:blip r:embed="rId2"/>
          <a:stretch/>
        </p:blipFill>
        <p:spPr>
          <a:xfrm>
            <a:off x="5219640" y="39243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thological Fracture:-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Fracture abnormal   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yst, Tumour,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Pathological # Humerus"/>
          <p:cNvPicPr/>
          <p:nvPr/>
        </p:nvPicPr>
        <p:blipFill>
          <a:blip r:embed="rId1"/>
          <a:stretch/>
        </p:blipFill>
        <p:spPr>
          <a:xfrm>
            <a:off x="6172200" y="1219320"/>
            <a:ext cx="2244600" cy="217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6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6400800" y="3581280"/>
            <a:ext cx="147636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logical fra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609588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Amount of Force: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*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ivial force  =  Pathologi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Magnitude     = Non-pathological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Direction of Force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Direct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Indirect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On Long Bones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wisting Force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Spiral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Non Ossifying Fibroma HumrusPath # 1"/>
          <p:cNvPicPr/>
          <p:nvPr/>
        </p:nvPicPr>
        <p:blipFill>
          <a:blip r:embed="rId1"/>
          <a:stretch/>
        </p:blipFill>
        <p:spPr>
          <a:xfrm>
            <a:off x="5791320" y="1371600"/>
            <a:ext cx="263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On Long Bones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) Angulating For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montagis#"/>
          <p:cNvPicPr/>
          <p:nvPr/>
        </p:nvPicPr>
        <p:blipFill>
          <a:blip r:embed="rId1"/>
          <a:stretch/>
        </p:blipFill>
        <p:spPr>
          <a:xfrm>
            <a:off x="5448240" y="1704960"/>
            <a:ext cx="2438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on Long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3) Angulati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Axial compression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Transverse 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Triangular   “Butterfly”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Butterfly fragment"/>
          <p:cNvPicPr/>
          <p:nvPr/>
        </p:nvPicPr>
        <p:blipFill>
          <a:blip r:embed="rId1"/>
          <a:stretch/>
        </p:blipFill>
        <p:spPr>
          <a:xfrm>
            <a:off x="5029200" y="18288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roduction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hea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on Long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4)  Angula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Axial com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+ Twisting forces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(short oblique patter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retfm4"/>
          <p:cNvPicPr/>
          <p:nvPr/>
        </p:nvPicPr>
        <p:blipFill>
          <a:blip r:embed="rId1"/>
          <a:stretch/>
        </p:blipFill>
        <p:spPr>
          <a:xfrm>
            <a:off x="5715000" y="1295280"/>
            <a:ext cx="2233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ndirect For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On Long Bones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5)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Vertical compression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ommin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tibpp2type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8320" y="2003400"/>
            <a:ext cx="40384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Direction of 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On Cancell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ones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Direct OR Indir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omminuted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10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400800" y="1066680"/>
            <a:ext cx="2089080" cy="2171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Fracture  L1 Vertebral"/>
          <p:cNvPicPr/>
          <p:nvPr/>
        </p:nvPicPr>
        <p:blipFill>
          <a:blip r:embed="rId2"/>
          <a:stretch/>
        </p:blipFill>
        <p:spPr>
          <a:xfrm>
            <a:off x="6477120" y="3429000"/>
            <a:ext cx="1671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Mechanis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Force due to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Resisted Muscle Action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vuls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nsverse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1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5105520" y="1295280"/>
            <a:ext cx="3592440" cy="2171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Avulsion"/>
          <p:cNvPicPr/>
          <p:nvPr/>
        </p:nvPicPr>
        <p:blipFill>
          <a:blip r:embed="rId2"/>
          <a:stretch/>
        </p:blipFill>
        <p:spPr>
          <a:xfrm>
            <a:off x="5943600" y="3581280"/>
            <a:ext cx="1573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I-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II-  EXAMINA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-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B-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II- INVESTIG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I-  HIST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Trauma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Pathological  (trivia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Non-pathological ( magnitu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2) Mechanism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Fall from heigh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* RTA, pedestrian, Driver…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- 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3) Complai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)  Pain  sharp, increase by movement, Not radi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b)  Loss of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)  Defor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d)  Symptoms  of 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e)  Other organs:   </a:t>
            </a: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head, chest, abd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II- 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A-  General exam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-  Local exam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A-  General examin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1) Signs resulting from fracture or traum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a) Vital signs, Shock  A,B,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) Associated  Head, Chest, Abdo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2) Signs related to cause of fractu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Pathological # …CA Lung, Prostat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-  Local Exam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LOOK :  Skin damage, deformity, sw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FEEL   :  Localized tender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MOVE :  Abnormal movement, 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DO 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a) Special tests :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Circulation &amp;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) Measurements : shor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3ee27"/>
                </a:solidFill>
                <a:latin typeface="Arial"/>
              </a:rPr>
              <a:t>[Always compare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roduction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s in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ological fra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 techn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fra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of inj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INVESTIGATIONS  X-RAY: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- Essential requirements: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1) Two view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P &amp; Lat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2) Two joint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bove &amp; below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TwoView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mont1"/>
          <p:cNvPicPr/>
          <p:nvPr/>
        </p:nvPicPr>
        <p:blipFill>
          <a:blip r:embed="rId1"/>
          <a:stretch/>
        </p:blipFill>
        <p:spPr>
          <a:xfrm>
            <a:off x="1558800" y="0"/>
            <a:ext cx="46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INVESTIGATION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X-RAY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B- Occasional Requi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Two Limbs  “ Compare 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Two Occasions  “Scaphi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* Special X-rays  Stress, C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8" name="Picture 4" descr="13 and 14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66720" y="1685880"/>
            <a:ext cx="78105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- Description of X-ray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1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Situation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side,  site, loc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Pattern 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line of fra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Displacement </a:t>
            </a:r>
            <a:r>
              <a:rPr b="1" lang="en-US" sz="3200" spc="-1" strike="noStrike">
                <a:solidFill>
                  <a:srgbClr val="f3ee27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a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Shift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lateral,medial,anterior,pos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Tilt  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an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Twist 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rotation , internal, 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d) </a:t>
            </a:r>
            <a:r>
              <a:rPr b="1" lang="en-US" sz="2800" spc="-1" strike="noStrike">
                <a:solidFill>
                  <a:srgbClr val="f3ee27"/>
                </a:solidFill>
                <a:latin typeface="Arial"/>
              </a:rPr>
              <a:t>Shortening: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overriding, imp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3ee27"/>
                </a:solidFill>
                <a:latin typeface="Arial"/>
              </a:rPr>
              <a:t>Diagnos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15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22860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3ee27"/>
                </a:solidFill>
                <a:latin typeface="Arial"/>
              </a:rPr>
              <a:t>Repair of Fra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A - Primary rep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With Rigid Internal Fi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No Callus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Active Haversian remol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Long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100-0012_IM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324480" y="0"/>
            <a:ext cx="28195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Repair of Fra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B - Secondary Rep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Without rigid fix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Commonest type even with I.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Stag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Repair of Fra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188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1 and 2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914400" y="1905120"/>
            <a:ext cx="739152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609480" y="457200"/>
            <a:ext cx="7696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3ee27"/>
                </a:solidFill>
                <a:latin typeface="Arial"/>
              </a:rPr>
              <a:t>Fracture:-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       Break in the continuity of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Time Factor- Perkin’s formu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1600200"/>
          <a:ext cx="8839080" cy="4087800"/>
        </p:xfrm>
        <a:graphic>
          <a:graphicData uri="http://schemas.openxmlformats.org/drawingml/2006/table">
            <a:tbl>
              <a:tblPr/>
              <a:tblGrid>
                <a:gridCol w="2627280"/>
                <a:gridCol w="3211560"/>
                <a:gridCol w="3000240"/>
              </a:tblGrid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Un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Consolid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Upper lim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al         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verse  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   wee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     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Lower</a:t>
                      </a: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3ee27"/>
                          </a:solidFill>
                          <a:latin typeface="Arial"/>
                        </a:rPr>
                        <a:t>Lim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ral          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verse  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    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    =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26"/>
          <p:cNvSpPr/>
          <p:nvPr/>
        </p:nvSpPr>
        <p:spPr>
          <a:xfrm>
            <a:off x="5025600" y="57657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ee27"/>
                </a:solidFill>
                <a:latin typeface="Arial"/>
              </a:rPr>
              <a:t>Children Half this time is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ee27"/>
                </a:solidFill>
                <a:latin typeface="Arial"/>
              </a:rPr>
              <a:t>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rom those in ad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's bones are more malleable, allowing a plastic type of "bowing" inj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iosteum is thicker than in adults and usually remains intact on one side of the fracture which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tabilize any redu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decreases the amount of displacement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lower incidence of open fractures in children than in adul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ing is more rap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reduction is rarely indic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remolding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disturb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missed (poor communic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-rays of both limbs for compari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yseal Injur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 of the fra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ce as often in the upper extremities as in the lower extremit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er-Harris classification: based on the radiographic appearance of the fracture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19"/>
          <p:cNvPicPr/>
          <p:nvPr/>
        </p:nvPicPr>
        <p:blipFill>
          <a:blip r:embed="rId2"/>
          <a:stretch/>
        </p:blipFill>
        <p:spPr>
          <a:xfrm>
            <a:off x="6019920" y="1295280"/>
            <a:ext cx="2887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2319480" cy="4019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2"/>
          <a:stretch/>
        </p:blipFill>
        <p:spPr>
          <a:xfrm>
            <a:off x="5386320" y="1676520"/>
            <a:ext cx="2463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rth Fra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in the clavicle, humerus, hip, and fem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rarely require surgery but frequently are diagnosed as pseudopalsy, infection, or dislo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ctures Caused by Child Abu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 birth and 2 years of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fractures in different stages of healing are almost always indicative of child abu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areas of large ecchymoses in different stages of resolution (from black and blue to brown and green) also are pathognomonic of child abu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Fracture in childre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sites of fractures caused by child abuse are the humerus, tibia, and fem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e scan or a skeletal survey generally is indi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9099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within an abnormal bone structure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congenital diseases (O.I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Infection (osteomyeliti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Fracture through a cys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Metabolic diseases ( Osteoporosis, Osteomalacia, Pagets diseas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- Primary bone tum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 Metastatic bone tum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7" descr="100-0007_IMG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1952640" cy="2847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3"/>
          <p:cNvSpPr/>
          <p:nvPr/>
        </p:nvSpPr>
        <p:spPr>
          <a:xfrm>
            <a:off x="6175080" y="1905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1602720" y="20574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mp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iagnosi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insignificant amount of trau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constitution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history of maligna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in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/ General: S/S of malignancy o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/ Local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tenderness, pain, swel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muscle spasm and deformity is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vestig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/ Radiolog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X-rays of the lesion , MRI, CT-s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X-ray / CT-chest ( pulmonary Met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Bone Sc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/  Laborator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CBC &amp; dif., ESR, C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Acid phosphatase P, B J P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LDH, ec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: to make patient more functional and pain free for the remaining life s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operative stability should be carri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otherapy, Radiation, Horm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athological Frac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dication for prophylactic fixation due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metastasi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involvement of the cort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 increased 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 pure 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 weight bearing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acture Manage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 AIM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Save the Life of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apid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Of Injured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Of Its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 management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 THREATENING Inj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ck , Head, Chest, Abd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agement Dangers to viability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cha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*SAVE LIF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*SAVE LIM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*SAVE FUN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VE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 RE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MOBILI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FT TISSUE TREA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)  FUNCTIONAL ACTIVITY &amp;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- </a:t>
            </a: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duction – Metho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ld be Under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ed or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y X-Ray and direction of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sic Maneuver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Reverse mechanism of I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Direct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d fracture (simp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fracture (compoun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ed fra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-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duction -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Reduction is Ideal for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Reduction is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 MU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Dis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Intra-articular fra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Fractures Both bones Fore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Ray Image Intensifier help control re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ember to Assess Reduction after 10 Day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duction Standards con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ion can b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Acceptable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f :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Alignment will NOT affect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Remolding CAN correct deform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ld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n correct :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*Angular NOT  Rotational deformities *Children MORE tha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-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duction - Ti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mediate R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a  MUST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Vascular I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Spinal Cord or Nerve In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gent R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OPEN fractures ; “Save Limb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locations Ne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gent redu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ED fractur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N wa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f Facilities do not permit Urgen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I- Immobiliz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Life is Movement, 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ovement is Lif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mmobilize Any Joint Unnecessar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anagement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I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obilization –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laster of Par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l Fix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ternal Fixa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Open fractur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cture site communicate with the external enviro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will occur with delayed or inadequate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Compound"/>
          <p:cNvPicPr/>
          <p:nvPr/>
        </p:nvPicPr>
        <p:blipFill>
          <a:blip r:embed="rId1"/>
          <a:stretch/>
        </p:blipFill>
        <p:spPr>
          <a:xfrm>
            <a:off x="5041800" y="1600200"/>
            <a:ext cx="3249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Open fractur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neral c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ave life, save limb, then s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directed against staphylococci (most common), and a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anus prophylax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Open fractur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care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tio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lution is the Solution Fo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rid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tamination of the 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???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obiliz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ney Complication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ayed Union: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ing Slow but Active, Remove the cau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cture Site T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 Ray little Callus, Medull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 Union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arative process Stopped, Need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inless, Abnormal Movement, Psudoarthrosi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- Ray: Sclerosis, Blocked Medu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layed Un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union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uses: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cal 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Blood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Tissue Inter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adequate Immo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-Di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hology, T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losed Fracture (simple ):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Does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communicate with external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3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400800" y="1523880"/>
            <a:ext cx="2516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Union &amp;Nonunion Causes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l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ne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ld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41"/>
          <p:cNvPicPr/>
          <p:nvPr/>
        </p:nvPicPr>
        <p:blipFill>
          <a:blip r:embed="rId1"/>
          <a:stretch/>
        </p:blipFill>
        <p:spPr>
          <a:xfrm>
            <a:off x="5257800" y="1447920"/>
            <a:ext cx="3649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lunion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 Primary Neglected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 After Reduction! 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-Ray After 10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 Epiphyseal Growth 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 Deformities…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Malunion"/>
          <p:cNvPicPr/>
          <p:nvPr/>
        </p:nvPicPr>
        <p:blipFill>
          <a:blip r:embed="rId1"/>
          <a:stretch/>
        </p:blipFill>
        <p:spPr>
          <a:xfrm>
            <a:off x="5759280" y="1371600"/>
            <a:ext cx="3384720" cy="2171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43"/>
          <p:cNvPicPr/>
          <p:nvPr/>
        </p:nvPicPr>
        <p:blipFill>
          <a:blip r:embed="rId2"/>
          <a:stretch/>
        </p:blipFill>
        <p:spPr>
          <a:xfrm>
            <a:off x="6324480" y="3809880"/>
            <a:ext cx="2460600" cy="21718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8"/>
          <p:cNvSpPr/>
          <p:nvPr/>
        </p:nvSpPr>
        <p:spPr>
          <a:xfrm>
            <a:off x="7089840" y="61722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xa V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ascular Necrosis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th of Bone from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Impairment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Loss of bloo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Sites: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lerosis = X-Ray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ayed or Non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wristscaphoidavnscaphoidx1600"/>
          <p:cNvPicPr/>
          <p:nvPr/>
        </p:nvPicPr>
        <p:blipFill>
          <a:blip r:embed="rId1"/>
          <a:stretch/>
        </p:blipFill>
        <p:spPr>
          <a:xfrm>
            <a:off x="5791320" y="1523880"/>
            <a:ext cx="2487600" cy="2171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44"/>
          <p:cNvPicPr/>
          <p:nvPr/>
        </p:nvPicPr>
        <p:blipFill>
          <a:blip r:embed="rId2"/>
          <a:stretch/>
        </p:blipFill>
        <p:spPr>
          <a:xfrm>
            <a:off x="4876920" y="4038480"/>
            <a:ext cx="403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yositis Ossificans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myo! or itis! 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terotopic O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follow minor 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cep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bow ; Knee; 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45"/>
          <p:cNvPicPr/>
          <p:nvPr/>
        </p:nvPicPr>
        <p:blipFill>
          <a:blip r:embed="rId1"/>
          <a:stretch/>
        </p:blipFill>
        <p:spPr>
          <a:xfrm>
            <a:off x="5562720" y="1295280"/>
            <a:ext cx="3276360" cy="2810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Heterotopic ossification Hip2"/>
          <p:cNvPicPr/>
          <p:nvPr/>
        </p:nvPicPr>
        <p:blipFill>
          <a:blip r:embed="rId2"/>
          <a:stretch/>
        </p:blipFill>
        <p:spPr>
          <a:xfrm>
            <a:off x="5486400" y="4495680"/>
            <a:ext cx="34290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sitis Ossificans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&amp; Limitatio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 Calcification then O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severe Head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ion : Avoid Passive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Susceptible site after inju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Need Excision When Ma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Primary Congenital Form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sitis Ossificans Progressiv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Heterotopic ossification both Knees Head Inj2"/>
          <p:cNvPicPr/>
          <p:nvPr/>
        </p:nvPicPr>
        <p:blipFill>
          <a:blip r:embed="rId1"/>
          <a:stretch/>
        </p:blipFill>
        <p:spPr>
          <a:xfrm>
            <a:off x="6019920" y="2743200"/>
            <a:ext cx="2600280" cy="2171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lex Regional Pain Syndrome(Reflex Sympathetic Dystrop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deck’s Acute Bone Atroph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est Hand and foot # Arm or Le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, Swelling, Restriction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in :Glossy, Smooth, Stre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 Sympathetic Dystr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-Ray: Osteopor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Blood Flow in the lim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lex Sympathetic Activity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o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athetic 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 Medical : Drug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 Surgical: Regional 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athect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RSDystrophy Foot"/>
          <p:cNvPicPr/>
          <p:nvPr/>
        </p:nvPicPr>
        <p:blipFill>
          <a:blip r:embed="rId1"/>
          <a:stretch/>
        </p:blipFill>
        <p:spPr>
          <a:xfrm>
            <a:off x="5486400" y="24382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artment Syndro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tion of the interstitial pressure in a closed osseofascial compartment that results in microvascular comprom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common causes of acute compartment syndrome a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traum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erial injur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b compression during altered consciousnes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bur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auses include intravenous fluid extravasation and anticoagu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46f004"/>
          <p:cNvPicPr/>
          <p:nvPr/>
        </p:nvPicPr>
        <p:blipFill>
          <a:blip r:embed="rId1"/>
          <a:stretch/>
        </p:blipFill>
        <p:spPr>
          <a:xfrm>
            <a:off x="1905120" y="228600"/>
            <a:ext cx="440532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Open Fracture (compound ):-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ommunicate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with extern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3ee27"/>
                </a:solidFill>
                <a:latin typeface="Arial"/>
              </a:rPr>
              <a:t>Infection 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4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6934320" y="0"/>
            <a:ext cx="1812960" cy="36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214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3ee27"/>
                </a:solidFill>
                <a:latin typeface="Arial"/>
              </a:rPr>
              <a:t>Defintion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omplicated Fracture:-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Associated with damage to nerves, vessels o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5">
            <a:hlinkClick r:id="rId1" action="ppaction://hlinksldjump"/>
          </p:cNvPr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4648320" y="1684440"/>
            <a:ext cx="40384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2:01:37Z</dcterms:created>
  <dc:creator>winxp</dc:creator>
  <dc:description/>
  <dc:language>en-US</dc:language>
  <cp:lastModifiedBy>Raghad</cp:lastModifiedBy>
  <dcterms:modified xsi:type="dcterms:W3CDTF">2013-02-23T19:56:20Z</dcterms:modified>
  <cp:revision>34</cp:revision>
  <dc:subject/>
  <dc:title>Principles Of Fractures</dc:title>
</cp:coreProperties>
</file>