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32.png" ContentType="image/png"/>
  <Override PartName="/ppt/media/image24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42.jpeg" ContentType="image/jpeg"/>
  <Override PartName="/ppt/media/image1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17.jpeg" ContentType="image/jpeg"/>
  <Override PartName="/ppt/media/image7.png" ContentType="image/png"/>
  <Override PartName="/ppt/media/image22.jpeg" ContentType="image/jpeg"/>
  <Override PartName="/ppt/media/image9.png" ContentType="image/png"/>
  <Override PartName="/ppt/media/image44.jpeg" ContentType="image/jpeg"/>
  <Override PartName="/ppt/media/image28.png" ContentType="image/png"/>
  <Override PartName="/ppt/media/image29.jpeg" ContentType="image/jpeg"/>
  <Override PartName="/ppt/media/image30.png" ContentType="image/png"/>
  <Override PartName="/ppt/media/image37.jpeg" ContentType="image/jpeg"/>
  <Override PartName="/ppt/media/image40.png" ContentType="image/png"/>
  <Override PartName="/ppt/media/image11.jpeg" ContentType="image/jpeg"/>
  <Override PartName="/ppt/media/image31.jpeg" ContentType="image/jpeg"/>
  <Override PartName="/ppt/media/image41.png" ContentType="image/png"/>
  <Override PartName="/ppt/media/image36.png" ContentType="image/png"/>
  <Override PartName="/ppt/media/image6.png" ContentType="image/png"/>
  <Override PartName="/ppt/media/image45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35.jpeg" ContentType="image/jpeg"/>
  <Override PartName="/ppt/media/image10.png" ContentType="image/png"/>
  <Override PartName="/ppt/media/image5.png" ContentType="image/png"/>
  <Override PartName="/ppt/media/image43.jpeg" ContentType="image/jpeg"/>
  <Override PartName="/ppt/media/image13.jpeg" ContentType="image/jpeg"/>
  <Override PartName="/ppt/media/image23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3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6D79C-08B8-4D32-93F4-D057193195E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727F2-E361-40C6-922A-56CE8313C85E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AF358-950B-43D0-AE48-51653AEEE2A3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37671-ECB2-4617-A0A4-47FD5FB0803E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11611-377D-4AE5-9F3E-6323CA320E5E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B1DFD-1C4E-4FF7-BB29-74FF54BA96F0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716BA-4D06-44CB-A1BC-1AFCC1A44488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D552F-A2A8-4739-9393-6DC4FF0EAA23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D3A08-AFF2-4A1B-A5EE-1524B4837F55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C80F8-029D-49CA-9BB6-1E58D735CFE1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1386F-A924-4FE9-826B-26FFB2F6A668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EC848-4BE2-4EA7-8673-E5EDDA17F79E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A2C55-49A3-4FFE-A61E-AF1E65B69B94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06FD4-5852-4FC2-A07E-4462454523B4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0E7B9-F8F0-404F-8826-6D41D438754B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A843C-619C-408A-ADDB-80A1F4AE7DA1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F8BA5-0F77-4E52-A122-22B70628A423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7540B-0558-4291-9EB7-C8A55EC55865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58E14-3DA7-4754-A178-E1AA380F2E13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C7F09-CCF9-4E27-AD47-6E63E5D7B6A5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1BEFF-CC69-4534-90C8-8648ECE17B5E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8D054-811A-421E-843C-F52AD8AA8DF0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5E1DB-3570-4056-9845-F5BF29A1DAEE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A10CF-00DF-49B4-8355-B392332988F5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5C653-FD9E-4AAD-A86A-86BB9A521308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FB9B0-B70D-43C0-982D-6B6E6B1E4D2D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9AC08-6CD6-418E-8688-7DDBC7FB0BF2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A066D-505C-4475-8302-7D7F3107DABD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701FE-9A31-411D-8D43-BBC93CA475A0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FB8D3-81C8-4306-B556-338712E13629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F141F-F457-4630-A3BF-07A5FEFECE84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05DB4-3E6B-4D09-90B7-A0CE257EDEC7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63149-81CD-4D92-A176-B74BE78A099B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A83F0-8E9B-4139-8C9C-42E455467B11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2AFC9-3C03-48DC-85C1-CF3793E4A152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E1B03-9AAC-4EE3-88D5-FE69458F1FDC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89822-C950-49BC-AD84-EB95605EC145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072A0-DB97-4863-B054-A39318ED9870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118E1-2411-4C32-B360-B4A47B99A421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51ED0-FE1C-4C6D-A697-D0BFBE971658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219F7-C374-4796-852F-3C839A9392F2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8957C-4B8C-41B1-829F-2926BC28CE73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11A04-4948-44FC-9923-3423716A05E8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1AF44-B91C-42D1-9002-3CF1608EA096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297D3-B71A-4ACA-82CF-DE325CBEF20E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244EA-CFE2-487F-940F-8853B134B023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48084-9FF8-4011-A5CD-84E01AF8E4D6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CA583-A36E-40E3-867E-BACB940D3095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928E7-B8E2-4A49-BEB1-694302906ED1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69398-C104-4659-AF3D-1FBF21FDF987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4F5B4-1BAC-4B1E-97D2-857474A5669D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098A2-7BC2-4739-9280-9D0ED2AB2F1F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89C27-35D8-4024-B6F1-CDB126896499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11853-748A-4072-A344-8E6A3A970D4F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49FF1-0259-4A43-A37E-54DF00EB9C2C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3AC11-7FEE-4332-9766-D53FCFCC8C09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140FC-BD2F-43D5-A007-68B35E994C72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514CB-C15E-4660-852A-AB677253C97B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3E5E3-888A-417A-91B3-50705AC265F2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EEE42-B513-4EBA-BD08-C2E556524539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EE6A3-BD89-438B-A423-6F4FBA5A52D9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EA2D8-4DCE-4E57-B145-51B68D4CD25F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32DB5-2493-46F3-8A03-D752660C22EC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4B694-D7A6-442A-B8F4-E86D9B99628E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49DA2-C568-42EE-A724-6F235D4EA54E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5B697-875A-4A03-A959-115B0A1B90AA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D52C2-041D-4CC7-BD4D-37C9468DCFFD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165C3-B721-4A61-87EE-2178A20EC1AE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D0EEB-B864-4874-A81C-BADAC95E47FE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8242D-7570-44F8-933D-59CFB7A0E541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B66D8-F73C-4095-9724-5CB5DF7D7AE2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D77C2-62C5-432D-818C-D1AD7348F21E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A7D97-B820-43A4-A1DB-31CCEDC20516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56732-8F1A-471F-9ABA-876EB7F150A2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867D5-BCE7-4142-862A-5642DCB2DB4F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39D4C-5687-4C93-AE80-773719B0E053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849D9-506D-4C81-805F-1558DB0CAD23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161C1-7D10-4130-AC9E-54489DC7BED3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2AA8B-08BC-412D-857B-704DB0DA5B6D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BDCF9-7065-4796-87E0-CC8096148363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4234-A48F-4087-9BB5-63DA06E02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9D85-EEBB-4A1E-BE87-2950D7EFD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93D3-6B72-4750-A923-6F37FDC84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2D20-9D4E-4351-888E-BB3BCC67F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1F5DF8-8C8E-4BEA-9289-5164C1FFE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A6FB3F-D144-4D81-B755-D879E1FCB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76D32F-4F54-4086-8E56-671EB5ADE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8B3C92-6187-4949-98AB-57BB8D287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01A771-DBE3-403C-8D08-6293CED41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4E639D-4F83-448D-9D3A-F614B6119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221267-72ED-4F07-B2AF-5B1C93CCA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DF90-D0EC-4C07-AC8A-EDCC995A8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9BD73C-65A4-4599-9B0B-89B5BF171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AE5AB3-AF9C-4352-A267-D3DB48E7F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AA0563-713B-4B71-80C0-CDC1815A7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3463FC-91D7-41FD-ACCA-6E45E3509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2C4019-F4A2-4DA3-A255-0CC6705A8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B144-82B7-4BA2-A150-223FBF4DA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BC32-48A6-4620-AFC6-E65A8CAF1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3108-FC4E-4827-9B2A-6A67EEB65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A401-7DF0-47FD-AA6D-3750A4C48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79F7-178C-44B5-81BA-D7D873491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0960-43AC-40F5-9202-418507771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06C3-24D6-4C3B-BD45-F913B658B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E012E-134B-4537-8988-0C45715D3A8C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E25BE-A7BF-469C-8EB1-ACDF7B5544C7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56.xml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Principles of Fractures</a:t>
            </a:r>
            <a:br>
              <a:rPr sz="5400"/>
            </a:b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380520" y="2666520"/>
            <a:ext cx="84582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. Abdulrahman Algarni, MD, SSC (Ortho), AB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ist. Prof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ultant orthopedic and arthroplasty surge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3ee27"/>
                </a:solidFill>
                <a:latin typeface="Arial"/>
              </a:rPr>
              <a:t>Defintions.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loc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lux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acture disloc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5" descr="100-0013_IMG"/>
          <p:cNvPicPr/>
          <p:nvPr/>
        </p:nvPicPr>
        <p:blipFill>
          <a:blip r:embed="rId1"/>
          <a:stretch/>
        </p:blipFill>
        <p:spPr>
          <a:xfrm>
            <a:off x="4495680" y="1828800"/>
            <a:ext cx="4496040" cy="337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3ee27"/>
                </a:solidFill>
                <a:latin typeface="Arial"/>
              </a:rPr>
              <a:t>Defintions.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e3ff"/>
                </a:solidFill>
                <a:latin typeface="Arial"/>
              </a:rPr>
              <a:t>Dislocation:-</a:t>
            </a: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e3e3ff"/>
                </a:solidFill>
                <a:latin typeface="Arial"/>
              </a:rPr>
              <a:t>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3e3ff"/>
                </a:solidFill>
                <a:latin typeface="Arial"/>
              </a:rPr>
              <a:t>             </a:t>
            </a: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Complete separation of the articular surfa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3e3ff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Distal to proximal fragm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3e3ff"/>
                </a:solidFill>
                <a:latin typeface="Arial"/>
              </a:rPr>
              <a:t>Anterior, Posterior, Inferior, Superi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6" descr="7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5014800" y="1928880"/>
            <a:ext cx="3305160" cy="383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3ee27"/>
                </a:solidFill>
                <a:latin typeface="Arial"/>
              </a:rPr>
              <a:t>Defintions.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267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Subluxation:-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Incomplete sepa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Joint Function in Anatomical position Onl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4" descr="8"/>
          <p:cNvPicPr/>
          <p:nvPr/>
        </p:nvPicPr>
        <p:blipFill>
          <a:blip r:embed="rId1"/>
          <a:stretch/>
        </p:blipFill>
        <p:spPr>
          <a:xfrm>
            <a:off x="5019840" y="1838160"/>
            <a:ext cx="3295440" cy="40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3ee27"/>
                </a:solidFill>
                <a:latin typeface="Arial"/>
              </a:rPr>
              <a:t>Defintions.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Fracture Dislocation:-</a:t>
            </a: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Association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3ee27"/>
                </a:solidFill>
                <a:latin typeface="Arial"/>
              </a:rPr>
              <a:t>Always X-Ray Jo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3ee27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3ee27"/>
                </a:solidFill>
                <a:latin typeface="Arial"/>
              </a:rPr>
              <a:t>Above and Below</a:t>
            </a: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4" descr="100-0013_IMG"/>
          <p:cNvPicPr/>
          <p:nvPr/>
        </p:nvPicPr>
        <p:blipFill>
          <a:blip r:embed="rId1"/>
          <a:stretch/>
        </p:blipFill>
        <p:spPr>
          <a:xfrm>
            <a:off x="5219640" y="1600200"/>
            <a:ext cx="2895840" cy="21718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100-0015_IMG"/>
          <p:cNvPicPr/>
          <p:nvPr/>
        </p:nvPicPr>
        <p:blipFill>
          <a:blip r:embed="rId2"/>
          <a:stretch/>
        </p:blipFill>
        <p:spPr>
          <a:xfrm>
            <a:off x="5219640" y="3924360"/>
            <a:ext cx="289584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3ee27"/>
                </a:solidFill>
                <a:latin typeface="Arial"/>
              </a:rPr>
              <a:t>Defintions.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95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Pathological Fracture:-</a:t>
            </a: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Fracture abnormal   b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Cyst, Tumour, Inf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6" descr="Pathological # Humerus"/>
          <p:cNvPicPr/>
          <p:nvPr/>
        </p:nvPicPr>
        <p:blipFill>
          <a:blip r:embed="rId1"/>
          <a:stretch/>
        </p:blipFill>
        <p:spPr>
          <a:xfrm>
            <a:off x="6172200" y="1219320"/>
            <a:ext cx="2244600" cy="21715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6"/>
          <p:cNvPicPr/>
          <p:nvPr/>
        </p:nvPicPr>
        <p:blipFill>
          <a:blip r:embed="rId2">
            <a:lum bright="-30000"/>
          </a:blip>
          <a:stretch/>
        </p:blipFill>
        <p:spPr>
          <a:xfrm>
            <a:off x="6400800" y="3581280"/>
            <a:ext cx="1476360" cy="21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3ee27"/>
                </a:solidFill>
                <a:latin typeface="Arial"/>
              </a:rPr>
              <a:t>Defintions.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hological fract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/>
          <a:stretch/>
        </p:blipFill>
        <p:spPr>
          <a:xfrm>
            <a:off x="2057400" y="2209680"/>
            <a:ext cx="6095880" cy="382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3ee27"/>
                </a:solidFill>
                <a:latin typeface="Arial"/>
              </a:rPr>
              <a:t>Mechanisms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Amount of Force:-</a:t>
            </a: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* </a:t>
            </a: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Trivial force  =  Pathologica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* Magnitude     = Non-pathological</a:t>
            </a: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Direction of Force:-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          </a:t>
            </a: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* Direct For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* Indirect For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3ee27"/>
                </a:solidFill>
                <a:latin typeface="Arial"/>
              </a:rPr>
              <a:t>Mechanisms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Indirect Force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On Long Bones:-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Twisting Force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Spiral 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5" descr="Non Ossifying Fibroma HumrusPath # 1"/>
          <p:cNvPicPr/>
          <p:nvPr/>
        </p:nvPicPr>
        <p:blipFill>
          <a:blip r:embed="rId1"/>
          <a:stretch/>
        </p:blipFill>
        <p:spPr>
          <a:xfrm>
            <a:off x="5791320" y="1371600"/>
            <a:ext cx="26334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3ee27"/>
                </a:solidFill>
                <a:latin typeface="Arial"/>
              </a:rPr>
              <a:t>Mechanisms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Indirect Forc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On Long Bones: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) Angulating Force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Transverse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4" descr="montagis#"/>
          <p:cNvPicPr/>
          <p:nvPr/>
        </p:nvPicPr>
        <p:blipFill>
          <a:blip r:embed="rId1"/>
          <a:stretch/>
        </p:blipFill>
        <p:spPr>
          <a:xfrm>
            <a:off x="5448240" y="1704960"/>
            <a:ext cx="243864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3ee27"/>
                </a:solidFill>
                <a:latin typeface="Arial"/>
              </a:rPr>
              <a:t>Mechanisms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267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Indirect Forc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on Long B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3) Angulating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+ Axial compression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Transverse lin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+ Triangular   “Butterfly”</a:t>
            </a: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4" descr="Butterfly fragment"/>
          <p:cNvPicPr/>
          <p:nvPr/>
        </p:nvPicPr>
        <p:blipFill>
          <a:blip r:embed="rId1"/>
          <a:stretch/>
        </p:blipFill>
        <p:spPr>
          <a:xfrm>
            <a:off x="5029200" y="182880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ntroduction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0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chanis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agnos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ssific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acture heal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3ee27"/>
                </a:solidFill>
                <a:latin typeface="Arial"/>
              </a:rPr>
              <a:t>Mechanisms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Indirect Forc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on Long B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4)  Angulat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+ Axial compress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+ Twisting forces</a:t>
            </a: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(short oblique patter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4" descr="retfm4"/>
          <p:cNvPicPr/>
          <p:nvPr/>
        </p:nvPicPr>
        <p:blipFill>
          <a:blip r:embed="rId1"/>
          <a:stretch/>
        </p:blipFill>
        <p:spPr>
          <a:xfrm>
            <a:off x="5715000" y="1295280"/>
            <a:ext cx="223344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3ee27"/>
                </a:solidFill>
                <a:latin typeface="Arial"/>
              </a:rPr>
              <a:t>Mechanisms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Indirect Forc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On Long Bones: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5) </a:t>
            </a: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Vertical compression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comminu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4" descr="tibpp2type5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648320" y="2003400"/>
            <a:ext cx="4038480" cy="36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3ee27"/>
                </a:solidFill>
                <a:latin typeface="Arial"/>
              </a:rPr>
              <a:t>Mechanisms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e3ff"/>
                </a:solidFill>
                <a:latin typeface="Arial"/>
              </a:rPr>
              <a:t>Direction of For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e3ff"/>
                </a:solidFill>
                <a:latin typeface="Arial"/>
              </a:rPr>
              <a:t>On Cancello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e3ff"/>
                </a:solidFill>
                <a:latin typeface="Arial"/>
              </a:rPr>
              <a:t>Bones: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Direct OR Indirec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Comminuted</a:t>
            </a: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3e3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Bur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5" descr="10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6400800" y="1066680"/>
            <a:ext cx="2089080" cy="21718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Fracture  L1 Vertebral"/>
          <p:cNvPicPr/>
          <p:nvPr/>
        </p:nvPicPr>
        <p:blipFill>
          <a:blip r:embed="rId2"/>
          <a:stretch/>
        </p:blipFill>
        <p:spPr>
          <a:xfrm>
            <a:off x="6477120" y="3429000"/>
            <a:ext cx="167148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3ee27"/>
                </a:solidFill>
                <a:latin typeface="Arial"/>
              </a:rPr>
              <a:t>Mechanisms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Force due to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Resisted Muscle Action: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Avulsion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Transverse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Picture 4" descr="11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5105520" y="1295280"/>
            <a:ext cx="3592440" cy="21718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Avulsion"/>
          <p:cNvPicPr/>
          <p:nvPr/>
        </p:nvPicPr>
        <p:blipFill>
          <a:blip r:embed="rId2"/>
          <a:stretch/>
        </p:blipFill>
        <p:spPr>
          <a:xfrm>
            <a:off x="5943600" y="3581280"/>
            <a:ext cx="157320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I- </a:t>
            </a: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e3e3ff"/>
                </a:solidFill>
                <a:latin typeface="Arial"/>
              </a:rPr>
              <a:t>HISTO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e3ff"/>
                </a:solidFill>
                <a:latin typeface="Arial"/>
              </a:rPr>
              <a:t>II-  EXAMINA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A- Gene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B- Lo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III- INVESTIGA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3ee27"/>
                </a:solidFill>
                <a:latin typeface="Arial"/>
              </a:rPr>
              <a:t>Diagnosis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e3ff"/>
                </a:solidFill>
                <a:latin typeface="Arial"/>
              </a:rPr>
              <a:t>I-  HISTOR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Trauma</a:t>
            </a: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               </a:t>
            </a: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* Pathological  (trivial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               </a:t>
            </a: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* Non-pathological ( magnitu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2) Mechanism</a:t>
            </a: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* Fall from height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* RTA, pedestrian, Driver….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3ee27"/>
                </a:solidFill>
                <a:latin typeface="Arial"/>
              </a:rPr>
              <a:t>Diagnosis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I-  HIS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3) Complain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a)  Pain  sharp, increase by movement, Not radia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b)  Loss of Fun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c)  Deform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d)  Symptoms  of com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e)  Other organs:   </a:t>
            </a:r>
            <a:r>
              <a:rPr b="1" lang="en-US" sz="2000" spc="-1" strike="noStrike">
                <a:solidFill>
                  <a:srgbClr val="e3e3ff"/>
                </a:solidFill>
                <a:latin typeface="Arial"/>
              </a:rPr>
              <a:t>head, chest, abdom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3ee27"/>
                </a:solidFill>
                <a:latin typeface="Arial"/>
              </a:rPr>
              <a:t>Diagnosis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II-  EXAMIN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        </a:t>
            </a:r>
            <a:r>
              <a:rPr b="1" lang="en-US" sz="3600" spc="-1" strike="noStrike">
                <a:solidFill>
                  <a:srgbClr val="e3e3ff"/>
                </a:solidFill>
                <a:latin typeface="Arial"/>
              </a:rPr>
              <a:t>A-  General examin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e3ff"/>
                </a:solidFill>
                <a:latin typeface="Arial"/>
              </a:rPr>
              <a:t>        </a:t>
            </a:r>
            <a:r>
              <a:rPr b="1" lang="en-US" sz="3600" spc="-1" strike="noStrike">
                <a:solidFill>
                  <a:srgbClr val="e3e3ff"/>
                </a:solidFill>
                <a:latin typeface="Arial"/>
              </a:rPr>
              <a:t>B-  Local examin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3ee27"/>
                </a:solidFill>
                <a:latin typeface="Arial"/>
              </a:rPr>
              <a:t>Diagnosis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e3ff"/>
                </a:solidFill>
                <a:latin typeface="Arial"/>
              </a:rPr>
              <a:t>A-  General examination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1) Signs resulting from fracture or trauma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             </a:t>
            </a: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a) Vital signs, Shock  A,B,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             </a:t>
            </a: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b) Associated  Head, Chest, Abdom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2) Signs related to cause of fracture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             </a:t>
            </a: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Pathological # …CA Lung, Prostate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3ee27"/>
                </a:solidFill>
                <a:latin typeface="Arial"/>
              </a:rPr>
              <a:t>Diagnosis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e3ff"/>
                </a:solidFill>
                <a:latin typeface="Arial"/>
              </a:rPr>
              <a:t>B-  Local Examin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LOOK :  Skin damage, deformity, swel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FEEL   :  Localized tender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MOVE :  Abnormal movement, crepit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DO :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a) Special tests : </a:t>
            </a:r>
            <a:r>
              <a:rPr b="1" lang="en-US" sz="2800" spc="-1" strike="noStrike">
                <a:solidFill>
                  <a:srgbClr val="f3ee27"/>
                </a:solidFill>
                <a:latin typeface="Arial"/>
              </a:rPr>
              <a:t>Circulation &amp; Ner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b) Measurements : shorte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e3ff"/>
                </a:solidFill>
                <a:latin typeface="Arial"/>
              </a:rPr>
              <a:t>                       </a:t>
            </a:r>
            <a:r>
              <a:rPr b="1" lang="en-US" sz="2400" spc="-1" strike="noStrike">
                <a:solidFill>
                  <a:srgbClr val="f3ee27"/>
                </a:solidFill>
                <a:latin typeface="Arial"/>
              </a:rPr>
              <a:t>[Always compare]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3ee27"/>
                </a:solidFill>
                <a:latin typeface="Arial"/>
              </a:rPr>
              <a:t>Diagnosis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ntroduction 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actures in childr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thological fractur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agement  techniqu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n fractur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lications of inju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3ee27"/>
                </a:solidFill>
                <a:latin typeface="Arial"/>
              </a:rPr>
              <a:t>Diagnosis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INVESTIGATIONS  X-RAY:-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3e3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A- Essential requirements:</a:t>
            </a: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1) Two views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AP &amp; Later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2) Two joints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Above &amp; below #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4" descr="TwoView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3" descr="mont1"/>
          <p:cNvPicPr/>
          <p:nvPr/>
        </p:nvPicPr>
        <p:blipFill>
          <a:blip r:embed="rId1"/>
          <a:stretch/>
        </p:blipFill>
        <p:spPr>
          <a:xfrm>
            <a:off x="1558800" y="0"/>
            <a:ext cx="46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INVESTIGATIONS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X-RAY:-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e3ff"/>
                </a:solidFill>
                <a:latin typeface="Arial"/>
              </a:rPr>
              <a:t>B- Occasional Requirem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                 </a:t>
            </a: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* Two Limbs  “ Compare 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               </a:t>
            </a: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* Two Occasions  “Scaphio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               </a:t>
            </a: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* Special X-rays  Stress, CT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3ee27"/>
                </a:solidFill>
                <a:latin typeface="Arial"/>
              </a:rPr>
              <a:t>Diagnosis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3ee27"/>
                </a:solidFill>
                <a:latin typeface="Arial"/>
              </a:rPr>
              <a:t>Diagnosis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18" name="Picture 4" descr="13 and 14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666720" y="1685880"/>
            <a:ext cx="781056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C- Description of X-ray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1) </a:t>
            </a:r>
            <a:r>
              <a:rPr b="1" lang="en-US" sz="2800" spc="-1" strike="noStrike">
                <a:solidFill>
                  <a:srgbClr val="f3ee27"/>
                </a:solidFill>
                <a:latin typeface="Arial"/>
              </a:rPr>
              <a:t>Situation :</a:t>
            </a: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  side,  site, loc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2) </a:t>
            </a:r>
            <a:r>
              <a:rPr b="1" lang="en-US" sz="2800" spc="-1" strike="noStrike">
                <a:solidFill>
                  <a:srgbClr val="f3ee27"/>
                </a:solidFill>
                <a:latin typeface="Arial"/>
              </a:rPr>
              <a:t>Pattern  :</a:t>
            </a: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 line of fra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3) </a:t>
            </a:r>
            <a:r>
              <a:rPr b="1" lang="en-US" sz="2800" spc="-1" strike="noStrike">
                <a:solidFill>
                  <a:srgbClr val="f3ee27"/>
                </a:solidFill>
                <a:latin typeface="Arial"/>
              </a:rPr>
              <a:t>Displacement </a:t>
            </a:r>
            <a:r>
              <a:rPr b="1" lang="en-US" sz="3200" spc="-1" strike="noStrike">
                <a:solidFill>
                  <a:srgbClr val="f3ee27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            </a:t>
            </a: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a) </a:t>
            </a:r>
            <a:r>
              <a:rPr b="1" lang="en-US" sz="2800" spc="-1" strike="noStrike">
                <a:solidFill>
                  <a:srgbClr val="f3ee27"/>
                </a:solidFill>
                <a:latin typeface="Arial"/>
              </a:rPr>
              <a:t>Shift :</a:t>
            </a: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 lateral,medial,anterior,posteri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            </a:t>
            </a: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b) </a:t>
            </a:r>
            <a:r>
              <a:rPr b="1" lang="en-US" sz="2800" spc="-1" strike="noStrike">
                <a:solidFill>
                  <a:srgbClr val="f3ee27"/>
                </a:solidFill>
                <a:latin typeface="Arial"/>
              </a:rPr>
              <a:t>Tilt   :</a:t>
            </a: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 ang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            </a:t>
            </a: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c) </a:t>
            </a:r>
            <a:r>
              <a:rPr b="1" lang="en-US" sz="2800" spc="-1" strike="noStrike">
                <a:solidFill>
                  <a:srgbClr val="f3ee27"/>
                </a:solidFill>
                <a:latin typeface="Arial"/>
              </a:rPr>
              <a:t>Twist :</a:t>
            </a: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 rotation , internal, exter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            </a:t>
            </a: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d) </a:t>
            </a:r>
            <a:r>
              <a:rPr b="1" lang="en-US" sz="2800" spc="-1" strike="noStrike">
                <a:solidFill>
                  <a:srgbClr val="f3ee27"/>
                </a:solidFill>
                <a:latin typeface="Arial"/>
              </a:rPr>
              <a:t>Shortening:</a:t>
            </a: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 overriding, imp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3ee27"/>
                </a:solidFill>
                <a:latin typeface="Arial"/>
              </a:rPr>
              <a:t>Diagnosis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4" descr="15"/>
          <p:cNvPicPr/>
          <p:nvPr/>
        </p:nvPicPr>
        <p:blipFill>
          <a:blip r:embed="rId1">
            <a:lum bright="-42000"/>
          </a:blip>
          <a:stretch/>
        </p:blipFill>
        <p:spPr>
          <a:xfrm>
            <a:off x="0" y="228600"/>
            <a:ext cx="9144000" cy="578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3ee27"/>
                </a:solidFill>
                <a:latin typeface="Arial"/>
              </a:rPr>
              <a:t>Repair of Fractur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A - Primary repai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e3ff"/>
                </a:solidFill>
                <a:latin typeface="Arial"/>
              </a:rPr>
              <a:t>With Rigid Internal Fix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e3ff"/>
                </a:solidFill>
                <a:latin typeface="Arial"/>
              </a:rPr>
              <a:t>No Callus 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e3ff"/>
                </a:solidFill>
                <a:latin typeface="Arial"/>
              </a:rPr>
              <a:t>Active Haversian remold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e3ff"/>
                </a:solidFill>
                <a:latin typeface="Arial"/>
              </a:rPr>
              <a:t>Long ti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4" descr="100-0012_IMG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6324480" y="0"/>
            <a:ext cx="2819520" cy="27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3ee27"/>
                </a:solidFill>
                <a:latin typeface="Arial"/>
              </a:rPr>
              <a:t>Repair of Fracture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B - Secondary Repai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Without rigid fix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Commonest type even with I.F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Stages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3ee27"/>
                </a:solidFill>
                <a:latin typeface="Arial"/>
              </a:rPr>
              <a:t>Repair of Fracture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28" name="Picture 4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188120" cy="33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1 and 2"/>
          <p:cNvPicPr/>
          <p:nvPr/>
        </p:nvPicPr>
        <p:blipFill>
          <a:blip r:embed="rId1">
            <a:lum bright="-36000"/>
          </a:blip>
          <a:stretch/>
        </p:blipFill>
        <p:spPr>
          <a:xfrm>
            <a:off x="914400" y="1905120"/>
            <a:ext cx="7391520" cy="407664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7"/>
          <p:cNvSpPr/>
          <p:nvPr/>
        </p:nvSpPr>
        <p:spPr>
          <a:xfrm>
            <a:off x="609480" y="457200"/>
            <a:ext cx="7696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3ee27"/>
                </a:solidFill>
                <a:latin typeface="Arial"/>
              </a:rPr>
              <a:t>Fracture:-</a:t>
            </a: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    </a:t>
            </a:r>
            <a:br>
              <a:rPr sz="2800"/>
            </a:b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             Break in the continuity of b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Time Factor- Perkin’s formula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0" y="1600200"/>
          <a:ext cx="8839080" cy="4087800"/>
        </p:xfrm>
        <a:graphic>
          <a:graphicData uri="http://schemas.openxmlformats.org/drawingml/2006/table">
            <a:tbl>
              <a:tblPr/>
              <a:tblGrid>
                <a:gridCol w="2627280"/>
                <a:gridCol w="3211560"/>
                <a:gridCol w="3000240"/>
              </a:tblGrid>
              <a:tr h="116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3ee27"/>
                          </a:solidFill>
                          <a:latin typeface="Arial"/>
                        </a:rPr>
                        <a:t>Unio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3ee27"/>
                          </a:solidFill>
                          <a:latin typeface="Arial"/>
                        </a:rPr>
                        <a:t>Consolidatio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5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3ee27"/>
                          </a:solidFill>
                          <a:latin typeface="Arial"/>
                        </a:rPr>
                        <a:t>Upper limb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iral          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nsverse  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   week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      =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3ee27"/>
                          </a:solidFill>
                          <a:latin typeface="Arial"/>
                        </a:rPr>
                        <a:t>Lower</a:t>
                      </a:r>
                      <a:r>
                        <a:rPr b="1" lang="en-US" sz="3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f3ee27"/>
                          </a:solidFill>
                          <a:latin typeface="Arial"/>
                        </a:rPr>
                        <a:t>Limb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iral          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nsverse  1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     =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     =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1" name="Rectangle 26"/>
          <p:cNvSpPr/>
          <p:nvPr/>
        </p:nvSpPr>
        <p:spPr>
          <a:xfrm>
            <a:off x="5025600" y="5765760"/>
            <a:ext cx="411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ee27"/>
                </a:solidFill>
                <a:latin typeface="Arial"/>
              </a:rPr>
              <a:t>Children Half this time is</a:t>
            </a:r>
            <a:r>
              <a:rPr b="1" lang="en-US" sz="18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3ee27"/>
                </a:solidFill>
                <a:latin typeface="Arial"/>
              </a:rPr>
              <a:t>need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Arial"/>
              </a:rPr>
              <a:t>Fracture in children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79246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t from those in adul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ildren's bones are more malleable, allowing a plastic type of "bowing" inju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Arial"/>
              </a:rPr>
              <a:t>Fracture in children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eriosteum is thicker than in adults and usually remains intact on one side of the fracture which helps 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stabilize any reduction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decreases the amount of displacement, a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lower incidence of open fractures in children than in adult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Arial"/>
              </a:rPr>
              <a:t>Fracture in children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ling is more rapi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en reduction is rarely indica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 remolding r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wth disturba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ten missed (poor communication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-rays of both limbs for comparis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Arial"/>
              </a:rPr>
              <a:t>Fracture in children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095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hyseal Injurie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0% of the frac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ice as often in the upper extremities as in the lower extremiti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lter-Harris classification: based on the radiographic appearance of the fracture</a:t>
            </a:r>
            <a:r>
              <a:rPr b="0" lang="en-US" sz="28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Picture 4" descr="19"/>
          <p:cNvPicPr/>
          <p:nvPr/>
        </p:nvPicPr>
        <p:blipFill>
          <a:blip r:embed="rId2"/>
          <a:stretch/>
        </p:blipFill>
        <p:spPr>
          <a:xfrm>
            <a:off x="6019920" y="1295280"/>
            <a:ext cx="288756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Arial"/>
              </a:rPr>
              <a:t>Fracture in children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7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2319480" cy="40197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8" descr=""/>
          <p:cNvPicPr/>
          <p:nvPr/>
        </p:nvPicPr>
        <p:blipFill>
          <a:blip r:embed="rId2"/>
          <a:stretch/>
        </p:blipFill>
        <p:spPr>
          <a:xfrm>
            <a:off x="5386320" y="1676520"/>
            <a:ext cx="24638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Arial"/>
              </a:rPr>
              <a:t>Fracture in children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irth Frac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commonly in the clavicle, humerus, hip, and femu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rarely require surgery but frequently are diagnosed as pseudopalsy, infection, or dislocatio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Arial"/>
              </a:rPr>
              <a:t>Fracture in children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ractures Caused by Child Abus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tween birth and 2 years of 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ple fractures in different stages of healing are almost always indicative of child abus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ple areas of large ecchymoses in different stages of resolution (from black and blue to brown and green) also are pathognomonic of child abus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Arial"/>
              </a:rPr>
              <a:t>Fracture in children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52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ost common sites of fractures caused by child abuse are the humerus, tibia, and femu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ne scan or a skeletal survey generally is indicat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Picture 5" descr=""/>
          <p:cNvPicPr/>
          <p:nvPr/>
        </p:nvPicPr>
        <p:blipFill>
          <a:blip r:embed="rId1"/>
          <a:stretch/>
        </p:blipFill>
        <p:spPr>
          <a:xfrm>
            <a:off x="5181480" y="2286000"/>
            <a:ext cx="390996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Arial"/>
              </a:rPr>
              <a:t>Pathological Fractures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acture within an abnormal bone structure due 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- congenital diseases (O.I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- Infection (osteomyelitis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- Fracture through a cyst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- Metabolic diseases ( Osteoporosis, Osteomalacia, Pagets disease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- Primary bone tumou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- Metastatic bone tumou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3ee27"/>
                </a:solidFill>
                <a:latin typeface="Arial"/>
              </a:rPr>
              <a:t>Defintions.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8" name="Picture 7" descr="100-0007_IMG"/>
          <p:cNvPicPr/>
          <p:nvPr/>
        </p:nvPicPr>
        <p:blipFill>
          <a:blip r:embed="rId1"/>
          <a:stretch/>
        </p:blipFill>
        <p:spPr>
          <a:xfrm>
            <a:off x="4648320" y="23335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"/>
          <p:cNvPicPr/>
          <p:nvPr/>
        </p:nvPicPr>
        <p:blipFill>
          <a:blip r:embed="rId2"/>
          <a:stretch/>
        </p:blipFill>
        <p:spPr>
          <a:xfrm>
            <a:off x="1295280" y="2590920"/>
            <a:ext cx="1952640" cy="284796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13"/>
          <p:cNvSpPr/>
          <p:nvPr/>
        </p:nvSpPr>
        <p:spPr>
          <a:xfrm>
            <a:off x="6175080" y="190512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le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14"/>
          <p:cNvSpPr/>
          <p:nvPr/>
        </p:nvSpPr>
        <p:spPr>
          <a:xfrm>
            <a:off x="1602720" y="205740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comple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Arial"/>
              </a:rPr>
              <a:t>Pathological Fractures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Diagnosis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tor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- insignificant amount of traum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- constitutional sympto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- history of malignanc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Arial"/>
              </a:rPr>
              <a:t>Pathological Fractures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xamination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 / General: S/S of malignancy or infec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B / Local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- tenderness, pain, swell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- muscle spasm and deformity is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im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Arial"/>
              </a:rPr>
              <a:t>Pathological Fractures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nvestigation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/ Radiology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- X-rays of the lesion , MRI, CT-sca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- X-ray / CT-chest ( pulmonary Mets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- Bone Sca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/  Laboratory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- CBC &amp; dif., ESR, CR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- Acid phosphatase P, B J P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- LDH, ec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Arial"/>
              </a:rPr>
              <a:t>Pathological Fractures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agemen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m: to make patient more functional and pain free for the remaining life sp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ly operative stability should be carried ou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motherapy, Radiation, Hormon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Arial"/>
              </a:rPr>
              <a:t>Pathological Fractures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ndication for prophylactic fixation due 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metastasis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- involvement of the cortex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- increased pa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- pure lys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- weight bearing are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Fracture Management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 AIM 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 Save the Life of Pat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CA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IM 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Rapid Recov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* Of Injured Pa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* Of Its Fun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Management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AL management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IFE THREATENING Inj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hock , Head, Chest, Abdom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CA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anagement Dangers to viability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schaem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* Inf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Management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10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*SAVE LIF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*SAVE LIMB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*SAVE FUNC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Management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AVE FUN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)  REDU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e3e3ff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MMOBILIS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e3e3ff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OFT TISSUE TREAT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)  FUNCTIONAL ACTIVITY &amp; REHABILIT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Management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- </a:t>
            </a:r>
            <a:r>
              <a:rPr b="0" lang="en-US" sz="3200" spc="-1" strike="noStrike">
                <a:solidFill>
                  <a:srgbClr val="33cc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duction – Method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ould be Under Anesthe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osed or Op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udy X-Ray and direction of fo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basic Maneuvers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* Tr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* Reverse mechanism of In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* Direct press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3ee27"/>
                </a:solidFill>
                <a:latin typeface="Arial"/>
              </a:rPr>
              <a:t>Defintions.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osed fracture (simple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en fracture (compound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licated fract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Management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-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duction - Standa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tomical Reduction is Ideal for 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tomical Reduction is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a MUS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in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* Dislo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* Intra-articular frac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* Fractures Both bones Forea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-Ray Image Intensifier help control re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emember to Assess Reduction after 10 Days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Management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duction Standards cont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duction can be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“Acceptable”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if :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* Alignment will NOT affect Fun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* Remolding CAN correct deformity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molding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an correct :-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           *Angular NOT  Rotational deformities *Children MORE than Ad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Management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- 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duction - Tim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mmediate R.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is a  MUST i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* Vascular In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* Spinal Cord or Nerve In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Urgent R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in OPEN fractures ; “Save Limb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locations Need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Urgent reduc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for P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OSED fractures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AN wai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If Facilities do not permit Urgent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Management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I- Immobilizatio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Life is Movement, and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                     </a:t>
            </a: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Movement is Life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Immobilize Any Joint Unnecessari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Management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II-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mmobilization –Method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laster of Par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ra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ternal Fix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xternal Fixat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Arial"/>
              </a:rPr>
              <a:t>Open fractures.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acture site communicate with the external enviro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ergency manage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ection will occur with delayed or inadequate treat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" name="Picture 4" descr="Compound"/>
          <p:cNvPicPr/>
          <p:nvPr/>
        </p:nvPicPr>
        <p:blipFill>
          <a:blip r:embed="rId1"/>
          <a:stretch/>
        </p:blipFill>
        <p:spPr>
          <a:xfrm>
            <a:off x="5041800" y="1600200"/>
            <a:ext cx="32497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Arial"/>
              </a:rPr>
              <a:t>Open fractures.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518040" indent="-518040">
              <a:lnSpc>
                <a:spcPct val="80000"/>
              </a:lnSpc>
              <a:spcBef>
                <a:spcPts val="10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General care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180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18040" indent="-51804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L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save life, save limb, then sav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8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nction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8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8040" indent="-51804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ibiotics directed against staphylococci (most common), and as need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8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8040" indent="-51804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tanus prophylax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8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8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Arial"/>
              </a:rPr>
              <a:t>Open fractures.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ocal care</a:t>
            </a:r>
            <a:r>
              <a:rPr b="1" lang="ar-SA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ea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rrigation: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ilution is the Solution For pol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bride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ontamination of the b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osure???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mobiliz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Arial"/>
              </a:rPr>
              <a:t>COMPLICATIONS</a:t>
            </a:r>
            <a:endParaRPr b="0" lang="en-US" sz="6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Boney Complication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elayed Union:-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aling Slow but Active, Remove the cause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acture Site Ten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- Ray little Callus, Medulla Op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on Union: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parative process Stopped, Need Interven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inless, Abnormal Movement, Psudoarthrosi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- Ray: Sclerosis, Blocked Medull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Arial"/>
              </a:rPr>
              <a:t>COMPLICATIONS</a:t>
            </a:r>
            <a:endParaRPr b="0" lang="en-US" sz="6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elayed Union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&amp;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onunion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auses: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Local :-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or Blood Supp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ft Tissue Interpos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f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adequate Immobi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-Distr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thology, Tum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3ee27"/>
                </a:solidFill>
                <a:latin typeface="Arial"/>
              </a:rPr>
              <a:t>Defintions.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05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Closed Fracture (simple ):-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Does </a:t>
            </a: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NOT</a:t>
            </a: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 communicate with external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4" descr="3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6400800" y="1523880"/>
            <a:ext cx="251604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Arial"/>
              </a:rPr>
              <a:t>COMPLICATIONS</a:t>
            </a:r>
            <a:endParaRPr b="0" lang="en-US" sz="6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724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Union &amp;Nonunion Causes: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General: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tr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one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ld 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Picture 4" descr="41"/>
          <p:cNvPicPr/>
          <p:nvPr/>
        </p:nvPicPr>
        <p:blipFill>
          <a:blip r:embed="rId1"/>
          <a:stretch/>
        </p:blipFill>
        <p:spPr>
          <a:xfrm>
            <a:off x="5257800" y="1447920"/>
            <a:ext cx="36496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Arial"/>
              </a:rPr>
              <a:t>COMPLICATIONS</a:t>
            </a:r>
            <a:endParaRPr b="0" lang="en-US" sz="6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05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alunion: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 Primary Neglected #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- After Reduction! Wat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X-Ray After 10 Day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- Epiphyseal Growth pl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 Deformities…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2" name="Picture 4" descr="Malunion"/>
          <p:cNvPicPr/>
          <p:nvPr/>
        </p:nvPicPr>
        <p:blipFill>
          <a:blip r:embed="rId1"/>
          <a:stretch/>
        </p:blipFill>
        <p:spPr>
          <a:xfrm>
            <a:off x="5759280" y="1371600"/>
            <a:ext cx="3384720" cy="21718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6" descr="43"/>
          <p:cNvPicPr/>
          <p:nvPr/>
        </p:nvPicPr>
        <p:blipFill>
          <a:blip r:embed="rId2"/>
          <a:stretch/>
        </p:blipFill>
        <p:spPr>
          <a:xfrm>
            <a:off x="6324480" y="3809880"/>
            <a:ext cx="2460600" cy="217188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8"/>
          <p:cNvSpPr/>
          <p:nvPr/>
        </p:nvSpPr>
        <p:spPr>
          <a:xfrm>
            <a:off x="7089840" y="6172200"/>
            <a:ext cx="16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oxa Va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Arial"/>
              </a:rPr>
              <a:t>COMPLICATIONS</a:t>
            </a:r>
            <a:endParaRPr b="0" lang="en-US" sz="6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4724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vascular Necrosis: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ath of Bone from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* Impairment 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* Loss of blood Supp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tomical Sites:-----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lerosis = X-Ray Den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layed or Nonun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Picture 4" descr="wristscaphoidavnscaphoidx1600"/>
          <p:cNvPicPr/>
          <p:nvPr/>
        </p:nvPicPr>
        <p:blipFill>
          <a:blip r:embed="rId1"/>
          <a:stretch/>
        </p:blipFill>
        <p:spPr>
          <a:xfrm>
            <a:off x="5791320" y="1523880"/>
            <a:ext cx="2487600" cy="21718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6" descr="44"/>
          <p:cNvPicPr/>
          <p:nvPr/>
        </p:nvPicPr>
        <p:blipFill>
          <a:blip r:embed="rId2"/>
          <a:stretch/>
        </p:blipFill>
        <p:spPr>
          <a:xfrm>
            <a:off x="4876920" y="4038480"/>
            <a:ext cx="40384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Arial"/>
              </a:rPr>
              <a:t>COMPLICATIONS</a:t>
            </a:r>
            <a:endParaRPr b="0" lang="en-US" sz="6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5410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yositis Ossificans: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“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ot myo! or itis! “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terotopic Ossif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y follow minor trau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scepti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bow ; Knee; 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Picture 4" descr="45"/>
          <p:cNvPicPr/>
          <p:nvPr/>
        </p:nvPicPr>
        <p:blipFill>
          <a:blip r:embed="rId1"/>
          <a:stretch/>
        </p:blipFill>
        <p:spPr>
          <a:xfrm>
            <a:off x="5562720" y="1295280"/>
            <a:ext cx="3276360" cy="28101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6" descr="Heterotopic ossification Hip2"/>
          <p:cNvPicPr/>
          <p:nvPr/>
        </p:nvPicPr>
        <p:blipFill>
          <a:blip r:embed="rId2"/>
          <a:stretch/>
        </p:blipFill>
        <p:spPr>
          <a:xfrm>
            <a:off x="5486400" y="4495680"/>
            <a:ext cx="3429000" cy="18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MPLICATIONS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6019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yositis Ossificans: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in &amp; Limitation of mov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-Ray Calcification then Ossif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ter severe Head Inju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vention : Avoid Passive Mass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t Susceptible site after injur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y Need Excision When Matur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is Primary Congenital Form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ositis Ossificans Progressiva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5" name="Picture 4" descr="Heterotopic ossification both Knees Head Inj2"/>
          <p:cNvPicPr/>
          <p:nvPr/>
        </p:nvPicPr>
        <p:blipFill>
          <a:blip r:embed="rId1"/>
          <a:stretch/>
        </p:blipFill>
        <p:spPr>
          <a:xfrm>
            <a:off x="6019920" y="2743200"/>
            <a:ext cx="2600280" cy="217188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4648320" y="3924360"/>
            <a:ext cx="4038480" cy="21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Arial"/>
              </a:rPr>
              <a:t>COMPLICATIONS</a:t>
            </a:r>
            <a:endParaRPr b="0" lang="en-US" sz="6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mplex Regional Pain Syndrome(Reflex Sympathetic Dystroph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deck’s Acute Bone Atrophy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monest Hand and foot # Arm or Leg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in, Swelling, Restriction Mov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kin :Glossy, Smooth, Stretch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Arial"/>
              </a:rPr>
              <a:t>COMPLICATIONS</a:t>
            </a:r>
            <a:endParaRPr b="0" lang="en-US" sz="6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5715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flex Sympathetic Dystroph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-Ray: Osteoporo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ased Blood Flow in the lim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flex Sympathetic Activity 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ysiotherap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ympathetic Blo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  Medical : Drugs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  Surgical: Regional Blo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ympathectom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1" name="Picture 4" descr="RSDystrophy Foot"/>
          <p:cNvPicPr/>
          <p:nvPr/>
        </p:nvPicPr>
        <p:blipFill>
          <a:blip r:embed="rId1"/>
          <a:stretch/>
        </p:blipFill>
        <p:spPr>
          <a:xfrm>
            <a:off x="5486400" y="2438280"/>
            <a:ext cx="35053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Arial"/>
              </a:rPr>
              <a:t>COMPLICATIONS</a:t>
            </a:r>
            <a:endParaRPr b="0" lang="en-US" sz="6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ompartment Syndrome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vation of the interstitial pressure in a closed osseofascial compartment that results in microvascular compromis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most common causes of acute compartment syndrome ar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actures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Arial"/>
              </a:rPr>
              <a:t>COMPLICATIONS</a:t>
            </a:r>
            <a:endParaRPr b="0" lang="en-US" sz="6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ft tissue trauma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terial injury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mb compression during altered consciousness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burn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causes include intravenous fluid extravasation and anticoagul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4" descr="46f004"/>
          <p:cNvPicPr/>
          <p:nvPr/>
        </p:nvPicPr>
        <p:blipFill>
          <a:blip r:embed="rId1"/>
          <a:stretch/>
        </p:blipFill>
        <p:spPr>
          <a:xfrm>
            <a:off x="1905120" y="228600"/>
            <a:ext cx="4405320" cy="63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3ee27"/>
                </a:solidFill>
                <a:latin typeface="Arial"/>
              </a:rPr>
              <a:t>Defintions.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Open Fracture (compound ):-</a:t>
            </a:r>
            <a:r>
              <a:rPr b="0" lang="en-US" sz="2000" spc="-1" strike="noStrike">
                <a:solidFill>
                  <a:srgbClr val="e3e3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3e3ff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e3e3ff"/>
                </a:solidFill>
                <a:latin typeface="Arial"/>
              </a:rPr>
              <a:t>Communicate</a:t>
            </a: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 with external enviro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f3ee27"/>
                </a:solidFill>
                <a:latin typeface="Arial"/>
              </a:rPr>
              <a:t>Infection !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4" descr="4"/>
          <p:cNvPicPr/>
          <p:nvPr/>
        </p:nvPicPr>
        <p:blipFill>
          <a:blip r:embed="rId1">
            <a:lum bright="-36000"/>
          </a:blip>
          <a:stretch/>
        </p:blipFill>
        <p:spPr>
          <a:xfrm>
            <a:off x="6934320" y="0"/>
            <a:ext cx="1812960" cy="36576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"/>
          <p:cNvPicPr/>
          <p:nvPr/>
        </p:nvPicPr>
        <p:blipFill>
          <a:blip r:embed="rId2"/>
          <a:stretch/>
        </p:blipFill>
        <p:spPr>
          <a:xfrm>
            <a:off x="6477120" y="3886200"/>
            <a:ext cx="221436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3ee27"/>
                </a:solidFill>
                <a:latin typeface="Arial"/>
              </a:rPr>
              <a:t>Defintions.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Complicated Fracture:-</a:t>
            </a: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Associated with damage to nerves, vessels or internal org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4" descr="5">
            <a:hlinkClick r:id="rId1" action="ppaction://hlinksldjump"/>
          </p:cNvPr>
          <p:cNvPicPr/>
          <p:nvPr/>
        </p:nvPicPr>
        <p:blipFill>
          <a:blip r:embed="rId2">
            <a:lum bright="-36000"/>
          </a:blip>
          <a:stretch/>
        </p:blipFill>
        <p:spPr>
          <a:xfrm>
            <a:off x="4648320" y="1684440"/>
            <a:ext cx="4038480" cy="43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2:01:37Z</dcterms:created>
  <dc:creator>winxp</dc:creator>
  <dc:description/>
  <dc:language>en-US</dc:language>
  <cp:lastModifiedBy>Raghad</cp:lastModifiedBy>
  <dcterms:modified xsi:type="dcterms:W3CDTF">2013-02-23T19:56:20Z</dcterms:modified>
  <cp:revision>34</cp:revision>
  <dc:subject/>
  <dc:title>Principles Of Fractures</dc:title>
</cp:coreProperties>
</file>