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3A51-AFAF-498D-A0CB-285F02058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CABE-8B63-4EEB-BEFE-F073BED3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F324-1106-44B8-AA9E-81BF86EB1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9DAF-86D1-4832-9B30-BFAA3A9B0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05D3-7E09-4CC2-8D28-98AA06582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85B3-A702-4AD9-9CD1-FCD7BA53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D717-90A9-471C-861F-F006A7A7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89D2-A7B8-4DA6-8F93-4D2B53CA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BAC8-8C19-483D-80E2-69E4211E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1E3F-8F68-4D0F-8D15-0B5A9D75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268E-F18B-42A6-865D-AA4ADAF5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2D3F-D819-481C-B76E-3B918B3A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E456-F50F-4265-AAFF-4BEB1280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544C4-C84C-468C-894B-B0306C11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32F7-1DDA-46E3-B928-3ECAF434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58FC-0AD6-4AF4-ADE2-3C366A867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A8E9-14C4-475A-B5E1-FCD6A212F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8E0C-A7BF-4D67-A9F1-FD9AA32B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2541-23BE-420D-ACE5-2178F1B2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8DD2-AE49-49A9-8ED6-D9FFABE9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1485-B0DE-492E-A225-A37CF1FA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15AC-A4B4-4A8E-AC28-0A97FEA1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D633-414D-4165-8795-84F69A72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F5EE-FF12-4850-B97F-DAD4B2C9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BE06-51B5-435F-8DEA-FEDD701316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E243-3970-4D2A-892D-47B20331DE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Properties of Magma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ysical &amp; Chemical Propert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3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3400" spc="-1" strike="noStrike" u="sng">
                <a:solidFill>
                  <a:srgbClr val="cc0000"/>
                </a:solidFill>
                <a:uFillTx/>
                <a:latin typeface="Arial"/>
              </a:rPr>
              <a:t>elemen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is a substance that cannot be broken down into other substances (ex. Carbon, Hydrogen, Oxygen)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400" spc="-1" strike="noStrike" u="sng">
                <a:solidFill>
                  <a:srgbClr val="cc0000"/>
                </a:solidFill>
                <a:uFillTx/>
                <a:latin typeface="Arial"/>
              </a:rPr>
              <a:t>compound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is a substance made of 2 or more elements that have been chemically combined (ex. Water, carbon dioxide, and table salt)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ysical &amp; Chemical Propert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Each substance has a particular set of physical &amp; chemical properties.  Their properties can be used to identify a substance or to predict how it will behave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300" spc="-1" strike="noStrike" u="sng">
                <a:solidFill>
                  <a:srgbClr val="cc0000"/>
                </a:solidFill>
                <a:uFillTx/>
                <a:latin typeface="Arial"/>
              </a:rPr>
              <a:t>physical property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is any characteristic of a substance that can be observed or measured without changing the composition of the substance (ex. Density, hardness, melting &amp; boiling points)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ysical &amp; Chemical Propert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chemical proper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y property that produces a change in the composition of matter (ex. The ability to burn, combine or react with other substanc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ysical property of liquids called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viscos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resistance of a liquid to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liquids differ in viscosity, some liquids flow more easily than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ater the viscosity of a liquid, the slower it flows (like hone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iscosity of Mag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iscosity of magma depends upon its silica content and temper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pound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sili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he major component of magma) is made up of particles of the elements oxygen &amp; silic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mount of silica in magma helps to determine its viscosity.  The less silica magma contains, the lower its viscosity (flows very easil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iscosity of Mag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cosity increases as temperature decre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Pahoeho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fast-moving, hot lava that has low visco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va that is cooler and slower-moving is called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r?t=a&amp;d=us&amp;s=a&amp;c=p&amp;ti=1&amp;ai=30751&amp;l=dir&amp;o=0&amp;sv=0a30052b&amp;ip=4815ef78&amp;u=http%3A%2F%2Fvolcanoes"/>
          <p:cNvPicPr/>
          <p:nvPr/>
        </p:nvPicPr>
        <p:blipFill>
          <a:blip r:embed="rId1"/>
          <a:stretch/>
        </p:blipFill>
        <p:spPr>
          <a:xfrm>
            <a:off x="4648320" y="1066680"/>
            <a:ext cx="4343400" cy="2714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r?t=a&amp;d=us&amp;s=a&amp;c=p&amp;ti=1&amp;ai=30751&amp;l=dir&amp;o=0&amp;sv=0a300528&amp;ip=4815ef78&amp;u=http%3A%2F%2Fwww"/>
          <p:cNvPicPr/>
          <p:nvPr/>
        </p:nvPicPr>
        <p:blipFill>
          <a:blip r:embed="rId2"/>
          <a:stretch/>
        </p:blipFill>
        <p:spPr>
          <a:xfrm>
            <a:off x="4648320" y="3859200"/>
            <a:ext cx="4343400" cy="26179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9"/>
          <p:cNvSpPr/>
          <p:nvPr/>
        </p:nvSpPr>
        <p:spPr>
          <a:xfrm>
            <a:off x="6918480" y="3008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6858000" y="3352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hoeh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4952880" y="60199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02:06:06Z</dcterms:created>
  <dc:creator>Jessi Huber</dc:creator>
  <dc:description/>
  <dc:language>en-US</dc:language>
  <cp:lastModifiedBy>ksu</cp:lastModifiedBy>
  <dcterms:modified xsi:type="dcterms:W3CDTF">2011-11-01T09:07:03Z</dcterms:modified>
  <cp:revision>13</cp:revision>
  <dc:subject/>
  <dc:title>Properties of Magma</dc:title>
</cp:coreProperties>
</file>