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54E2-676B-4D99-8C48-43FE336EC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C5F0-851C-4C77-A2F8-9E333C11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1CF7-BF29-4960-BD6C-88A7C19EC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42E8-A968-4350-9E35-5F06BE7DE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B03A-A9FF-4F05-845A-A2DD3DA6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0E76-7A7F-4C81-A653-5F6EBA06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6192-A8B2-4325-A319-5FED0C8A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6502-C09E-4271-BE11-957F4EAE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ED4E-A479-412D-A57E-681A711B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E574-1673-4E56-842B-80D81B68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E97C-0490-4797-9938-18CBB2E2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08B6-F3F3-4C09-AEF4-06C7DC44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757D-BEF5-4B32-A2DB-6E0E1C6C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C96C-4976-47DE-9B75-5E683316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7BFC-291D-41E1-810D-986B7874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CCF7-B8DF-4600-ACE7-0F1FB96C2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4EDC-C28E-47C6-84FC-5C1D40354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A6B1-3A0F-4FA4-B7E0-EE452774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967C-F689-4362-9853-F47516EC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F843-67B7-4EF2-B673-04BC26D9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9CDB-084A-4706-B1CF-3358DF27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09E5-D5E8-48DF-BFE0-BDF6C9C2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5737-AF31-4391-BBB6-E7BDFB1F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718E-7C4F-4A0C-B1F4-FFB6A121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C2EB-0A7B-4F35-9A0C-BE6D1A3AE3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AFE1-7B71-4DE8-8702-59622C103B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Properties of Magma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ysical &amp; Chemical Propert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3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3400" spc="-1" strike="noStrike" u="sng">
                <a:solidFill>
                  <a:srgbClr val="cc0000"/>
                </a:solidFill>
                <a:uFillTx/>
                <a:latin typeface="Arial"/>
              </a:rPr>
              <a:t>elemen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is a substance that cannot be broken down into other substances (ex. Carbon, Hydrogen, Oxygen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400" spc="-1" strike="noStrike" u="sng">
                <a:solidFill>
                  <a:srgbClr val="cc0000"/>
                </a:solidFill>
                <a:uFillTx/>
                <a:latin typeface="Arial"/>
              </a:rPr>
              <a:t>compound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is a substance made of 2 or more elements that have been chemically combined (ex. Water, carbon dioxide, and table salt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ysical &amp; Chemical Propert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ach substance has a particular set of physical &amp; chemical properties.  Their properties can be used to identify a substance or to predict how it will behav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300" spc="-1" strike="noStrike" u="sng">
                <a:solidFill>
                  <a:srgbClr val="cc0000"/>
                </a:solidFill>
                <a:uFillTx/>
                <a:latin typeface="Arial"/>
              </a:rPr>
              <a:t>physical property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is any characteristic of a substance that can be observed or measured without changing the composition of the substance (ex. Density, hardness, melting &amp; boiling points)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ysical &amp; Chemical Propert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chemical proper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y property that produces a change in the composition of matter (ex. The ability to burn, combine or react with other substanc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ysical property of liquids called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viscos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resistance of a liquid to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liquids differ in viscosity, some liquids flow more easily than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er the viscosity of a liquid, the slower it flows (like hone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iscosity of Mag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iscosity of magma depends upon its silica content and temp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ound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sili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he major component of magma) is made up of particles of the elements oxygen &amp; silic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ount of silica in magma helps to determine its viscosity.  The less silica magma contains, the lower its viscosity (flows very easil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iscosity of Mag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cosity increases as temperature decr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Pahoeho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fast-moving, hot lava that has low visco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va that is cooler and slower-moving is called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r?t=a&amp;d=us&amp;s=a&amp;c=p&amp;ti=1&amp;ai=30751&amp;l=dir&amp;o=0&amp;sv=0a30052b&amp;ip=4815ef78&amp;u=http%3A%2F%2Fvolcanoes"/>
          <p:cNvPicPr/>
          <p:nvPr/>
        </p:nvPicPr>
        <p:blipFill>
          <a:blip r:embed="rId1"/>
          <a:stretch/>
        </p:blipFill>
        <p:spPr>
          <a:xfrm>
            <a:off x="4648320" y="1066680"/>
            <a:ext cx="4343400" cy="2714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r?t=a&amp;d=us&amp;s=a&amp;c=p&amp;ti=1&amp;ai=30751&amp;l=dir&amp;o=0&amp;sv=0a300528&amp;ip=4815ef78&amp;u=http%3A%2F%2Fwww"/>
          <p:cNvPicPr/>
          <p:nvPr/>
        </p:nvPicPr>
        <p:blipFill>
          <a:blip r:embed="rId2"/>
          <a:stretch/>
        </p:blipFill>
        <p:spPr>
          <a:xfrm>
            <a:off x="4648320" y="3859200"/>
            <a:ext cx="4343400" cy="26179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9"/>
          <p:cNvSpPr/>
          <p:nvPr/>
        </p:nvSpPr>
        <p:spPr>
          <a:xfrm>
            <a:off x="6918480" y="3008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6858000" y="3352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hoeh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4952880" y="60199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02:06:06Z</dcterms:created>
  <dc:creator>Jessi Huber</dc:creator>
  <dc:description/>
  <dc:language>en-US</dc:language>
  <cp:lastModifiedBy>ksu</cp:lastModifiedBy>
  <dcterms:modified xsi:type="dcterms:W3CDTF">2011-11-01T09:07:03Z</dcterms:modified>
  <cp:revision>13</cp:revision>
  <dc:subject/>
  <dc:title>Properties of Magma</dc:title>
</cp:coreProperties>
</file>