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955-363B-43B7-8C5A-9000B7F7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C86-05C7-4BC9-A8D1-666FE3EC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FFC-A99A-4BC7-A720-4A656799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68C-E36D-4A04-AF89-94859CE3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0711-D155-4FB9-88B4-7CF17CD0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5224-894A-452F-9BAC-E9F3D465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703F-5F62-4B9A-8E87-F9E2D2AB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8B78-B48A-4C36-8C24-FC6EE8F6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E0E5-0C74-484A-B11E-6437EB74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EB7E-A4DD-4C36-96E0-38EA3BBB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ED93-17D4-4B50-9CC1-D734CBE3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2D3-0463-40C9-974F-347355FE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1BD5-AB44-4884-89EF-92C8670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556A-C2F6-4D01-8467-2345F3A2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7DED-45D9-4D9B-9BC6-1B8F09C3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38C1-FB57-40BA-A542-39B72040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86FC-F27F-49A1-8E56-6D9F284F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9CD-7101-40F2-B412-6BDE4969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D7C-9162-4411-92F8-3BDFCDEA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168-DE86-4733-A384-593B9C17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BEB6-9EFA-433A-A665-5A205926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7F2-51E4-41AE-A32F-947444A1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D48-E63F-488D-A2C1-AC27AB3B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0FE-A44C-4949-85AB-88D3C346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9B35-2981-4268-A4CF-E14DA15E7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59B4-5908-4A21-980D-68C00BD7AC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operties of Mag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elemen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that cannot be broken down into other substances (ex. Carbon, Hydrogen, Oxygen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compou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made of 2 or more elements that have been chemically combined (ex. Water, carbon dioxide, and table salt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ach substance has a particular set of physical &amp; chemical properties.  Their properties can be used to identify a substance or to predict how it will behav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300" spc="-1" strike="noStrike" u="sng">
                <a:solidFill>
                  <a:srgbClr val="cc0000"/>
                </a:solidFill>
                <a:uFillTx/>
                <a:latin typeface="Arial"/>
              </a:rPr>
              <a:t>physical property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any characteristic of a substance that can be observed or measured without changing the composition of the substance (ex. Density, hardness, melting &amp; boiling points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hemical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roperty that produces a change in the composition of matter (ex. The ability to burn, combine or react with other substan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al property of liquids call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esistance of a liquid to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liquids differ in viscosity, some liquids flow more easily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viscosity of a liquid, the slower it flows (like hon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cosity of magma depends upon its silica content and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un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il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major component of magma) is made up of particles of the elements oxygen &amp; sil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ilica in magma helps to determine its viscosity.  The less silica magma contains, the lower its viscosity (flows very easi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sity increases as temperature de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st-moving, hot lava that has low visc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 that is cooler and slower-moving is calle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r?t=a&amp;d=us&amp;s=a&amp;c=p&amp;ti=1&amp;ai=30751&amp;l=dir&amp;o=0&amp;sv=0a30052b&amp;ip=4815ef78&amp;u=http%3A%2F%2Fvolcanoes"/>
          <p:cNvPicPr/>
          <p:nvPr/>
        </p:nvPicPr>
        <p:blipFill>
          <a:blip r:embed="rId1"/>
          <a:stretch/>
        </p:blipFill>
        <p:spPr>
          <a:xfrm>
            <a:off x="4648320" y="1066680"/>
            <a:ext cx="4343400" cy="271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r?t=a&amp;d=us&amp;s=a&amp;c=p&amp;ti=1&amp;ai=30751&amp;l=dir&amp;o=0&amp;sv=0a300528&amp;ip=4815ef78&amp;u=http%3A%2F%2Fwww"/>
          <p:cNvPicPr/>
          <p:nvPr/>
        </p:nvPicPr>
        <p:blipFill>
          <a:blip r:embed="rId2"/>
          <a:stretch/>
        </p:blipFill>
        <p:spPr>
          <a:xfrm>
            <a:off x="4648320" y="3859200"/>
            <a:ext cx="4343400" cy="261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91848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5800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hoe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95288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2:06:06Z</dcterms:created>
  <dc:creator>Jessi Huber</dc:creator>
  <dc:description/>
  <dc:language>en-US</dc:language>
  <cp:lastModifiedBy>ksu</cp:lastModifiedBy>
  <dcterms:modified xsi:type="dcterms:W3CDTF">2011-11-01T09:07:03Z</dcterms:modified>
  <cp:revision>13</cp:revision>
  <dc:subject/>
  <dc:title>Properties of Magma</dc:title>
</cp:coreProperties>
</file>