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4E4-EF6B-4111-998B-AB11E992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D6B-7469-43FC-9B2E-8E8C3758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80B-66C1-4C60-A86D-83C05560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29B-D7B6-4757-859A-187040BB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C9F4-FE16-43ED-86FE-9DB3EF14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994C-3930-41DD-8776-B85F7D1C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2C6E-4CDB-4DF6-A343-44F3CDA0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2CB1-BC06-43B3-8FE6-589C1B19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7C31-AD23-4730-BD78-1DAD4659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BB02-143A-4A05-A79F-3C1D23D0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E922-FF3F-4FBD-87C2-77899BA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1B2-3387-40DB-AA85-521B0C1D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DD46-0CB9-4F44-B512-237FEA7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31CD-DB48-4C84-AA16-B0D8780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57EF-7A1A-4E09-9FAB-158D62AA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DBEE-7E8D-4BBB-B8CD-62D88387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80E5-FFFD-42D1-8D06-EA4800F8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185-9C15-4F79-B410-7BD8F4AA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B37-DAEA-492A-9CE6-EE185770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E8F-3204-4E20-BD91-51D6BBD8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967-B6BE-48DD-A2E3-029E159A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B26-523B-4587-87A0-30B29A2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5B2-CF3B-4DA3-9A2A-1B3A95A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C51-F037-4443-81A9-FADCFFDB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F246-EDCE-40BB-9CF1-C1641B3A8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4C42-7C52-4A17-A297-7C7E5FBB6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operties of Mag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elemen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that cannot be broken down into other substances (ex. Carbon, Hydrogen, Oxygen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mpou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made of 2 or more elements that have been chemically combined (ex. Water, carbon dioxide, and table salt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substance has a particular set of physical &amp; chemical properties.  Their properties can be used to identify a substance or to predict how it will behav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300" spc="-1" strike="noStrike" u="sng">
                <a:solidFill>
                  <a:srgbClr val="cc0000"/>
                </a:solidFill>
                <a:uFillTx/>
                <a:latin typeface="Arial"/>
              </a:rPr>
              <a:t>physical property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ny characteristic of a substance that can be observed or measured without changing the composition of the substance (ex. Density, hardness, melting &amp; boiling points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hemical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roperty that produces a change in the composition of matter (ex. The ability to burn, combine or react with other sub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al property of liquids call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esistance of a liquid to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iquids differ in viscosity, some liquids flow more easily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viscosity of a liquid, the slower it flows (like hon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cosity of magma depends upon its silica content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u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il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major component of magma) is made up of particles of the elements oxygen &amp; sil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ilica in magma helps to determine its viscosity.  The less silica magma contains, the lower its viscosity (flows very easi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sity increases as temperature de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st-moving, hot lava that has low visc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that is cooler and slower-moving is call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r?t=a&amp;d=us&amp;s=a&amp;c=p&amp;ti=1&amp;ai=30751&amp;l=dir&amp;o=0&amp;sv=0a30052b&amp;ip=4815ef78&amp;u=http%3A%2F%2Fvolcanoes"/>
          <p:cNvPicPr/>
          <p:nvPr/>
        </p:nvPicPr>
        <p:blipFill>
          <a:blip r:embed="rId1"/>
          <a:stretch/>
        </p:blipFill>
        <p:spPr>
          <a:xfrm>
            <a:off x="4648320" y="1066680"/>
            <a:ext cx="4343400" cy="271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r?t=a&amp;d=us&amp;s=a&amp;c=p&amp;ti=1&amp;ai=30751&amp;l=dir&amp;o=0&amp;sv=0a300528&amp;ip=4815ef78&amp;u=http%3A%2F%2Fwww"/>
          <p:cNvPicPr/>
          <p:nvPr/>
        </p:nvPicPr>
        <p:blipFill>
          <a:blip r:embed="rId2"/>
          <a:stretch/>
        </p:blipFill>
        <p:spPr>
          <a:xfrm>
            <a:off x="4648320" y="385920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91848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5800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hoe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95288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2:06:06Z</dcterms:created>
  <dc:creator>Jessi Huber</dc:creator>
  <dc:description/>
  <dc:language>en-US</dc:language>
  <cp:lastModifiedBy>ksu</cp:lastModifiedBy>
  <dcterms:modified xsi:type="dcterms:W3CDTF">2011-11-01T09:07:03Z</dcterms:modified>
  <cp:revision>13</cp:revision>
  <dc:subject/>
  <dc:title>Properties of Magma</dc:title>
</cp:coreProperties>
</file>