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2ADF-6C6A-47F6-AE7F-3A6C8EA6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735D-3B50-45C6-92C1-D059A1BE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4769-65C0-4362-80A2-38471470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5413-EB60-4D34-9083-63AA5852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807B-4A8C-49F6-A30D-3075C937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2C73-E38C-4DA4-9AD1-06FF4149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1ACE-8FB4-43AE-8781-69C42E5B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F938-4E51-4DEA-A68F-D91127D4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E164-6891-40D0-B1BF-4DCB2A8D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7A17-7837-4099-9166-69A12BA0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881B-676E-4CB8-B562-0A054F4D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6C92-F655-463C-AAD0-B37D5822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8C60-B465-43BC-B878-B397D225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E31C-9BCE-4009-9E28-95757415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960A-BBF5-43F9-9917-7F02D5F7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8564-44DD-44FA-9BF7-53BBED5B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8F1D-87D5-4D92-8FEB-7478AD53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BCAB-D650-4B85-9E8E-5176AAB0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D668-A832-4032-8F2B-6A812822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6AE3-EAB4-434E-8FC0-815678DD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000C-0C84-4C36-AEAD-6476D7FF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85DD-F100-4229-8EDE-96F1D652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E14B-6D75-4A51-861E-1DA048AE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7896-AF2F-42DE-8F98-EF8E0D6F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F823-DB53-477D-A0B1-7FEA599E3A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7B20-43BC-49FC-87A1-344E2CE7C2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roperties of Magma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ysical &amp; Chemical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elemen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s a substance that cannot be broken down into other substances (ex. Carbon, Hydrogen, Oxygen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compoun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s a substance made of 2 or more elements that have been chemically combined (ex. Water, carbon dioxide, and table salt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ysical &amp; Chemical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ach substance has a particular set of physical &amp; chemical properties.  Their properties can be used to identify a substance or to predict how it will behav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300" spc="-1" strike="noStrike" u="sng">
                <a:solidFill>
                  <a:srgbClr val="cc0000"/>
                </a:solidFill>
                <a:uFillTx/>
                <a:latin typeface="Arial"/>
              </a:rPr>
              <a:t>physical property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is any characteristic of a substance that can be observed or measured without changing the composition of the substance (ex. Density, hardness, melting &amp; boiling points)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ysical &amp; Chemical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chemical prop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y property that produces a change in the composition of matter (ex. The ability to burn, combine or react with other substanc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ysical property of liquids calle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visco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resistance of a liquid to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liquids differ in viscosity, some liquids flow more easily than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r the viscosity of a liquid, the slower it flows (like hone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iscosity of Mag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scosity of magma depends upon its silica content and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oun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sili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e major component of magma) is made up of particles of the elements oxygen &amp; silic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silica in magma helps to determine its viscosity.  The less silica magma contains, the lower its viscosity (flows very easil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iscosity of Mag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cosity increases as temperature de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ahoeho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fast-moving, hot lava that has low visco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va that is cooler and slower-moving is calle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r?t=a&amp;d=us&amp;s=a&amp;c=p&amp;ti=1&amp;ai=30751&amp;l=dir&amp;o=0&amp;sv=0a30052b&amp;ip=4815ef78&amp;u=http%3A%2F%2Fvolcanoes"/>
          <p:cNvPicPr/>
          <p:nvPr/>
        </p:nvPicPr>
        <p:blipFill>
          <a:blip r:embed="rId1"/>
          <a:stretch/>
        </p:blipFill>
        <p:spPr>
          <a:xfrm>
            <a:off x="4648320" y="1066680"/>
            <a:ext cx="4343400" cy="2714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r?t=a&amp;d=us&amp;s=a&amp;c=p&amp;ti=1&amp;ai=30751&amp;l=dir&amp;o=0&amp;sv=0a300528&amp;ip=4815ef78&amp;u=http%3A%2F%2Fwww"/>
          <p:cNvPicPr/>
          <p:nvPr/>
        </p:nvPicPr>
        <p:blipFill>
          <a:blip r:embed="rId2"/>
          <a:stretch/>
        </p:blipFill>
        <p:spPr>
          <a:xfrm>
            <a:off x="4648320" y="3859200"/>
            <a:ext cx="4343400" cy="26179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6918480" y="300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6858000" y="3352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hoeh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4952880" y="60199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02:06:06Z</dcterms:created>
  <dc:creator>Jessi Huber</dc:creator>
  <dc:description/>
  <dc:language>en-US</dc:language>
  <cp:lastModifiedBy>ksu</cp:lastModifiedBy>
  <dcterms:modified xsi:type="dcterms:W3CDTF">2011-11-01T09:07:03Z</dcterms:modified>
  <cp:revision>13</cp:revision>
  <dc:subject/>
  <dc:title>Properties of Magma</dc:title>
</cp:coreProperties>
</file>