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EA5D-AD57-4E81-9E30-2800889A2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65F5-763B-4B8B-AFEE-3DD38E39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8A24-2FDF-4F11-A7E0-D8B8118DE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02AC-B741-44B5-9B99-B04A8B99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09BB-B61A-4C99-B31C-2271933A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BC5A-8E79-4F18-A77F-86568D73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A113-230F-44BD-9683-E5542AEB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4D2B-0D3E-4DE3-8C8D-CAFA750F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D983-5F8B-4692-ACA3-00B2BD15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E42D-F31C-49B0-9F21-2DD983E2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C6A3-9636-4043-ADD0-4B0B2772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7851-37B5-46D5-9027-8287D338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8367-60C3-42F2-9C6D-144ED0F4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102C-F2D4-4874-A717-5E4B20F8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FFD8-E6FE-46B6-B902-AC833105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AF69-24DA-4A9B-B112-9A8433597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0ED2-B3DF-43D1-83B9-02D2954E3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82A1-24F9-4018-8301-F3402079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A9A6-D142-4777-8F2C-7D6731B2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C6D3-1FD1-4EDA-8F0B-2F2D1FD8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559C-98FB-4843-91B5-F10803F5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44BD-069F-4C3D-863C-8DDB0D3E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76C6-72AF-4EFF-B98D-ABF31106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5C17-7EE0-4130-9B29-987965D5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8228-F3FC-4944-8039-D8EEF74799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6178-790B-4E02-8A40-5DE993D386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Properties of Magma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ysical &amp; Chemical Propert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3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400" spc="-1" strike="noStrike" u="sng">
                <a:solidFill>
                  <a:srgbClr val="cc0000"/>
                </a:solidFill>
                <a:uFillTx/>
                <a:latin typeface="Arial"/>
              </a:rPr>
              <a:t>elemen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is a substance that cannot be broken down into other substances (ex. Carbon, Hydrogen, Oxygen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400" spc="-1" strike="noStrike" u="sng">
                <a:solidFill>
                  <a:srgbClr val="cc0000"/>
                </a:solidFill>
                <a:uFillTx/>
                <a:latin typeface="Arial"/>
              </a:rPr>
              <a:t>compound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is a substance made of 2 or more elements that have been chemically combined (ex. Water, carbon dioxide, and table salt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ysical &amp; Chemical Propert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ach substance has a particular set of physical &amp; chemical properties.  Their properties can be used to identify a substance or to predict how it will behav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300" spc="-1" strike="noStrike" u="sng">
                <a:solidFill>
                  <a:srgbClr val="cc0000"/>
                </a:solidFill>
                <a:uFillTx/>
                <a:latin typeface="Arial"/>
              </a:rPr>
              <a:t>physical property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is any characteristic of a substance that can be observed or measured without changing the composition of the substance (ex. Density, hardness, melting &amp; boiling points)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ysical &amp; Chemical Propert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chemical proper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y property that produces a change in the composition of matter (ex. The ability to burn, combine or react with other substanc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ysical property of liquids called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viscos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resistance of a liquid to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liquids differ in viscosity, some liquids flow more easily than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er the viscosity of a liquid, the slower it flows (like hone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iscosity of Mag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scosity of magma depends upon its silica content and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ound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sili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he major component of magma) is made up of particles of the elements oxygen &amp; silic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ount of silica in magma helps to determine its viscosity.  The less silica magma contains, the lower its viscosity (flows very easil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iscosity of Mag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cosity increases as temperature de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ahoeho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fast-moving, hot lava that has low visco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va that is cooler and slower-moving is called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r?t=a&amp;d=us&amp;s=a&amp;c=p&amp;ti=1&amp;ai=30751&amp;l=dir&amp;o=0&amp;sv=0a30052b&amp;ip=4815ef78&amp;u=http%3A%2F%2Fvolcanoes"/>
          <p:cNvPicPr/>
          <p:nvPr/>
        </p:nvPicPr>
        <p:blipFill>
          <a:blip r:embed="rId1"/>
          <a:stretch/>
        </p:blipFill>
        <p:spPr>
          <a:xfrm>
            <a:off x="4648320" y="1066680"/>
            <a:ext cx="4343400" cy="2714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r?t=a&amp;d=us&amp;s=a&amp;c=p&amp;ti=1&amp;ai=30751&amp;l=dir&amp;o=0&amp;sv=0a300528&amp;ip=4815ef78&amp;u=http%3A%2F%2Fwww"/>
          <p:cNvPicPr/>
          <p:nvPr/>
        </p:nvPicPr>
        <p:blipFill>
          <a:blip r:embed="rId2"/>
          <a:stretch/>
        </p:blipFill>
        <p:spPr>
          <a:xfrm>
            <a:off x="4648320" y="3859200"/>
            <a:ext cx="4343400" cy="26179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6918480" y="3008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6858000" y="3352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hoeh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4952880" y="60199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02:06:06Z</dcterms:created>
  <dc:creator>Jessi Huber</dc:creator>
  <dc:description/>
  <dc:language>en-US</dc:language>
  <cp:lastModifiedBy>ksu</cp:lastModifiedBy>
  <dcterms:modified xsi:type="dcterms:W3CDTF">2011-11-01T09:07:03Z</dcterms:modified>
  <cp:revision>13</cp:revision>
  <dc:subject/>
  <dc:title>Properties of Magma</dc:title>
</cp:coreProperties>
</file>