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A75A-FCD1-44D1-BEC2-28846A64C92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ED9F-4378-48FA-A417-A38D06E7B76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fortunately the chronicity of these pains and their unrecognized psychogenic</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eatures invariably lead to many patients being referred elsewhere or abandoned</a:t>
            </a:r>
            <a:r>
              <a:rPr b="0" lang="en-CA" sz="2400" spc="-1" strike="noStrike">
                <a:solidFill>
                  <a:srgbClr val="000000"/>
                </a:solidFill>
                <a:latin typeface="Arial"/>
              </a:rPr>
              <a: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is reflected in a formal audit of 813 new referrals to this department over an</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8</a:t>
            </a:r>
            <a:r>
              <a:rPr b="0" lang="en-CA" sz="2400" spc="-1" strike="noStrike">
                <a:solidFill>
                  <a:srgbClr val="000000"/>
                </a:solidFill>
                <a:latin typeface="Arial"/>
              </a:rPr>
              <a:t>-</a:t>
            </a:r>
            <a:r>
              <a:rPr b="0" lang="en-CA" sz="2400" spc="-1" strike="noStrike">
                <a:solidFill>
                  <a:srgbClr val="000000"/>
                </a:solidFill>
                <a:latin typeface="Arial"/>
              </a:rPr>
              <a:t>month period. Their mean pain duration was 4.2 years (median 1-2 years) despite</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ing been seen by an average of two consultants. Hence, 25% were tertiary</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ferrals. This reflects a major expenditure to the Health Service as well as los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time</a:t>
            </a:r>
            <a:r>
              <a:rPr b="0" lang="en-CA" sz="2400" spc="-1" strike="noStrike">
                <a:solidFill>
                  <a:srgbClr val="000000"/>
                </a:solidFill>
                <a:latin typeface="Arial"/>
              </a:rPr>
              <a: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cyclic antidepressant (high placebo response &amp;high relapse if stop treatments before 6 months)</a:t>
            </a:r>
            <a:r>
              <a:rPr b="0" lang="en-CA" sz="2400" spc="-1" strike="noStrike">
                <a:solidFill>
                  <a:srgbClr val="000000"/>
                </a:solidFill>
                <a:latin typeface="Arial"/>
              </a:rPr>
              <a:t>.</a:t>
            </a:r>
            <a:endParaRPr b="0" lang="en-US" sz="2400" spc="-1" strike="noStrike">
              <a:solidFill>
                <a:srgbClr val="000000"/>
              </a:solidFill>
              <a:latin typeface="Arial"/>
            </a:endParaRPr>
          </a:p>
        </p:txBody>
      </p:sp>
      <p:sp>
        <p:nvSpPr>
          <p:cNvPr id="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DA68-B7A1-4307-8B8C-BD14610D541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nd, frequently, the patient seeks treatment to correct the supposed deformity</a:t>
            </a:r>
            <a:r>
              <a:rPr b="0" lang="en-CA" sz="900" spc="-1" strike="noStrike">
                <a:solidFill>
                  <a:srgbClr val="000000"/>
                </a:solidFill>
                <a:latin typeface="Arial"/>
              </a:rPr>
              <a:t>. </a:t>
            </a:r>
            <a:endParaRPr b="0" lang="en-US" sz="900" spc="-1" strike="noStrike">
              <a:solidFill>
                <a:srgbClr val="000000"/>
              </a:solidFill>
              <a:latin typeface="Arial"/>
            </a:endParaRPr>
          </a:p>
          <a:p>
            <a:pPr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t>
            </a:r>
            <a:r>
              <a:rPr b="0" lang="en-CA" sz="800" spc="-1" strike="noStrike">
                <a:solidFill>
                  <a:srgbClr val="000000"/>
                </a:solidFill>
                <a:latin typeface="Arial"/>
              </a:rPr>
              <a:t>thnic dysphoria</a:t>
            </a:r>
            <a:r>
              <a:rPr b="0" lang="en-CA" sz="1200" spc="-1" strike="noStrike">
                <a:solidFill>
                  <a:srgbClr val="000000"/>
                </a:solidFill>
                <a:latin typeface="Arial"/>
              </a:rPr>
              <a:t> : </a:t>
            </a:r>
            <a:r>
              <a:rPr b="0" lang="en-CA" sz="800" spc="-1" strike="noStrike">
                <a:solidFill>
                  <a:srgbClr val="000000"/>
                </a:solidFill>
                <a:latin typeface="Arial"/>
              </a:rPr>
              <a:t>Dissatisfaction with ethnic features is used to describe patien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o desire a change from an Oriental or Negro to a Caucasian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Frequently, the complaint is first vocalized in early adolescence and the patien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y report being teased at school about their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xual or gender dysphoria is an obsessional need to change gender. This complex</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problem may present the maxillofacial surgeon with the task of reducing the</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sculine features of a male transsexual. Such cases should only be treated in collaboration</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a unit specializing in the appropriate psychiatric, hormonal, and surgical</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xual realignment</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orselli [18], who first described dysmorphophobia, emphasized that a patient</a:t>
            </a:r>
            <a:endParaRPr b="0" lang="en-US" sz="800" spc="-1" strike="noStrike">
              <a:solidFill>
                <a:srgbClr val="000000"/>
              </a:solidFill>
              <a:latin typeface="Arial"/>
            </a:endParaRPr>
          </a:p>
          <a:p>
            <a:pPr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C4B0-EEC6-4D8F-BD5B-91C8E400639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could be perfectly healthy, perhaps emotionally rather sensitive, and then suddenl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velop the complaint and become preoccupied by it. Patients tend to be sociall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solated, sensitive, introverted individuals with no sexual experience. Environmental</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tresses such as employment problems, difficulties in personal relationships, or</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cute events such as bereavements, are liable to concentrate attention on facial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 morbid affective state such as depression may also make the patien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ore likely to express dissatisfaction</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DD is a rare symptom in isolation, and a necessary psychiatric evaluation of</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ch patients requesting cosmetic surgery is not always possible. Few psychiatrists</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understand the nature and scope of cosmetic surgery and many patients refuse to</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e psychiatrists. The problem is whether to do what the patient wants, what the patien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eeds, or nothing</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outcome of surgery is usually unsatisfactory, except where some recognizable</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formity has been carefully corrected. Reich [19], who examined 3000 patient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ggested that surgery should proceed if the patient's expectations are realistic and</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atient appears able to withstand an imperfect result. But, with no deformit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minimal deformity and inappropriate concern the prognosis is poor. Psychiatric</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nagement may be very difficult because of poor drug compliance and a tendenc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ward "surgeon shopping" (seeking numerous surgical opinion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relationship between the surgeon and patient is a vital factor in achieving</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ood results and a psychiatrist should be included in clinical management. It is essential</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have several meetings preoperatively so that mutual trust can be established</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tailed discussions about possible surgery and close follow-up after surger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re all necessary if the patient is to be satisfied. Repeat surgery is invariably unsuccessfu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re is also evidence that BDD patients respond well to Fluoxetine, both</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one and in combination with cognitive therapy. [20]. Joint treatment by a surgeon</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nd a psychiatrist may be most optimal</a:t>
            </a:r>
            <a:r>
              <a:rPr b="0" lang="en-CA" sz="800" spc="-1" strike="noStrike">
                <a:solidFill>
                  <a:srgbClr val="000000"/>
                </a:solidFill>
                <a:latin typeface="Arial"/>
              </a:rPr>
              <a:t>.</a:t>
            </a:r>
            <a:endParaRPr b="0" lang="en-US" sz="800" spc="-1" strike="noStrike">
              <a:solidFill>
                <a:srgbClr val="000000"/>
              </a:solidFill>
              <a:latin typeface="Arial"/>
            </a:endParaRPr>
          </a:p>
        </p:txBody>
      </p:sp>
      <p:sp>
        <p:nvSpPr>
          <p:cNvPr id="1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DFC3-3102-4CEE-97AF-4C77C2ABAC0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DD is a rare symptom in isolation, and a necessary psychiatric evaluation of</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ch patients requesting cosmetic surgery is not always possible. Few psychiatris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understand the nature and scope of cosmetic surgery and many patients refuse to</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e psychiatrists. The problem is whether to do what the patient wants, what the patien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eeds, or nothing</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outcome of surgery is usually unsatisfactory, except where some recognizable</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formity has been carefully corrected. Reich [19], who examined 3000 patient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ggested that surgery should proceed if the patient's expectations are realistic and</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atient appears able to withstand an imperfect result. But, with no deformit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minimal deformity and inappropriate concern the prognosis is poor. Psychiatric</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nagement may be very difficult because of poor drug compliance and a tendenc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ward "surgeon shopping" (seeking numerous surgical opinion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relationship between the surgeon and patient is a vital factor in achieving</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ood results and a psychiatrist should be included in clinical management. It is essential</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have several meetings preoperatively so that mutual trust can be established</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tailed discussions about possible surgery and close follow-up after surger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re all necessary if the patient is to be satisfied. Repeat surgery is invariably unsuccessfu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re is also evidence that BDD patients respond well to Fluoxetine, both</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one and in combination with cognitive therapy. [20]. Joint treatment by a surgeon</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nd a psychiatrist may be most optima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393D-BB33-4156-94DB-B904BD6174C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Aphthous ulcers</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troublesome condition of shallow, painful oral ulcers varies in incidenc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sporadic single lesions to recurrent crops. The exact etiology is unknown although</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ndition often has the features of an autoimmune disturbance. Despit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any patients are aware that emotional problems may precipitate their lesion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this reason, it is useful, where patients complain of recurrent crops of painful</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lcers, to obtain a full and careful history, including social and emotional factor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hould be followed-up by an ulcer diary, where the patient notes the number</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ulcers present in the mouth and any associated factors on a day-to-day basis. Mild</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dation or a tricyclic antidepressant will often produce a marked reduction in th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umber, frequency, and duration of the ulcers, making them more amenable to topical</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roid therapy</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1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651F-CF8C-44BD-89A5-FCC40A529BF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700" spc="-1" strike="noStrike">
                <a:solidFill>
                  <a:srgbClr val="000000"/>
                </a:solidFill>
                <a:latin typeface="Arial"/>
              </a:rPr>
              <a:t>Factitious ulceration (stomatitis artifacta)</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Factitious ulceration is the intraoral counterpart of the well-recognized dermatiti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rtifacta [21]. The lesions vary in their appearance according to the manner in</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hich they are created. The most common and least troublesome lesion is due to cheek chewing. Here, usually a young, anxious, individual continually chews th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buccal mucosa producing wide areas of peeling, macerated, hyperkeratinized epidermis</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t is usually bilateral and painless and may be associated with facial arthromyalgia</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ith facial arthromyalgia. Similarly, lip biting may produce fissures, whit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reas of hyperkeratosis or a mucus extravasation cyst. In the older, anxious or agitated</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atient, lip chewing produces varicosities so that the vermilion border become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curiously cyanotic in appearance</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Greater difficulty may be experienced in recognizing the discrete lesion that local</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brasion with a finger nail or sharp instrument may produce. Occasionally, caustic</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gents such as tablets or undiluted antiseptics may be used. The condition ma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mimic a natural lesion, particularly if the patient has some knowledge of dentistr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or medicine and knows how to produce such a lesion. Unfortunately, there appear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to be no age, intellectual, or professional barriers to this problem, although women</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seem to be more prone than men. The history of this problem is characteristicall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vague and the lesion either persists longer or recurs more frequently than on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ould expect. It is often associated with one of the pain syndromes, and the patien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ppears to produce the lesion to validate an organic diagnosis for their pain</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Sneddon [21] describes three groups of definatitis artifacta</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1</a:t>
            </a:r>
            <a:r>
              <a:rPr b="0" lang="en-CA" sz="700" spc="-1" strike="noStrike">
                <a:solidFill>
                  <a:srgbClr val="000000"/>
                </a:solidFill>
                <a:latin typeface="Arial"/>
              </a:rPr>
              <a:t>. </a:t>
            </a:r>
            <a:r>
              <a:rPr b="0" lang="en-CA" sz="700" spc="-1" strike="noStrike">
                <a:solidFill>
                  <a:srgbClr val="000000"/>
                </a:solidFill>
                <a:latin typeface="Arial"/>
              </a:rPr>
              <a:t>True malingerers, where the injury is consciously aggravated for monetar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gain or the avoidance of some responsibility</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2</a:t>
            </a:r>
            <a:r>
              <a:rPr b="0" lang="en-CA" sz="700" spc="-1" strike="noStrike">
                <a:solidFill>
                  <a:srgbClr val="000000"/>
                </a:solidFill>
                <a:latin typeface="Arial"/>
              </a:rPr>
              <a:t>. </a:t>
            </a:r>
            <a:r>
              <a:rPr b="0" lang="en-CA" sz="700" spc="-1" strike="noStrike">
                <a:solidFill>
                  <a:srgbClr val="000000"/>
                </a:solidFill>
                <a:latin typeface="Arial"/>
              </a:rPr>
              <a:t>Munchausen's syndrome, which is a persistent, incurable psychopathic way of</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life that offers no obvious advantage other than requiring medical and nursing</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care</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3</a:t>
            </a:r>
            <a:r>
              <a:rPr b="0" lang="en-CA" sz="700" spc="-1" strike="noStrike">
                <a:solidFill>
                  <a:srgbClr val="000000"/>
                </a:solidFill>
                <a:latin typeface="Arial"/>
              </a:rPr>
              <a:t>. </a:t>
            </a:r>
            <a:r>
              <a:rPr b="0" lang="en-CA" sz="700" spc="-1" strike="noStrike">
                <a:solidFill>
                  <a:srgbClr val="000000"/>
                </a:solidFill>
                <a:latin typeface="Arial"/>
              </a:rPr>
              <a:t>Part of an emotional instability, such as a personality disorder, where the underlying</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roblem is a disturbance in personal relationships</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t is rare to obtain an acknowledgment or an explanation as to how the lesions ar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roduced, and it is often difficult to get the patient or his/her family to agree to psychiatric</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help---nevertheless, this is important to protect the patient from inappropriat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nvestigations and treatment</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1A8E-CFC2-4F5F-A4F8-4EDC08E194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neddon  describes three groups of definatitis artifacta</a:t>
            </a:r>
            <a:r>
              <a:rPr b="0" lang="en-CA"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rare to obtain an acknowledgment or an explanation as to how the lesions are produced, and it is often difficult to get the patient or his/her family to agree to psychiatric help</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1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CF96-AAC8-427A-9FF2-DB4F9DFBEE8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55A4-E2A2-47C7-A6F7-CCAAB49067B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Presentation of anxiety problems to the dentis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xiety problems may vary from a simple overreaction to a dental procedure to</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re aggressive responses. Anxious, obsessional, or depressed patients may amplif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n or become agitated after what appears to the dentist to be a normal consultation</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imilarly, an acute hypochondrial reaction may be precipitated by an innoce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mark or trivial investigation</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xiety provoked by dental treatment is a problem for both patients and dent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actitioners. It is normal for individuals to feel some anxiety about dental treatment</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dd and Walker [22] interviewed 6000 British citizens and found that 43%</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them avoided going to the dentist unless they were in trouble--an attitude th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s conflict for the dental surgeon who is trained to help the patients and relieve</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ffering, but is regarded by patients as someone who inflicts distress. Kent [23], in</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urvery of stresses encountered by dentists in practice found that the most significa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d common problem included coping with difficult, anxious patients. The situation</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complicated, anxious patients expect treatment to be painful, and their anxiet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not modified by a painless experience. Thus, coping with anxiety means th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tients' preconceptions about treatment must be modified [24]</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prevent anxiety dentists should adopt more explicitly the role of dental health</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ducator. Furthermore, if the dentist becomes responsible for the long-term dent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of the patient he will inspire greater confidence. A major obstacle to the enhanceme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the dentist's role (identified by Bochier [24]) is the relative infrequenc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visits. Bochier suggests that this might be overcome by interspersing convention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ntal consultations with sessions devoted purely to educational aims</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haps conducted in small groups</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1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982A-47DA-4EC8-A176-9F2BFB153A7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Development of dental phobia</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seems obvious that most people are anxious about dental treatment, becaus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y are anticipating pain. Gale [25] demonstrated that the amount of fear could no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e specified from knowledge of the situation alone and he concluded that a fair</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mount of dental anxiety was caused by uncertainty about particular treatments</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ardle [26] asked patients awaiting dental treatment how anxious they felt and how</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uch pain they expected from several dental procedures. She found, not unexpectedly</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at highly anxious patients were more fearful of pain. Undoubtedly, previous</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perience shapes a patient's response to treatment</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allstrom and Halling [27] examined 784 women from a representative populatio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ample in G0teborg, Sweden, and found a prevalence of severe dental anxiety</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phobia in 13.4% of the population studied. Previous studies have found a</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revalence rate of between 8% and 15%. The prevalence was much greater i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omen with lower school education and those from the lower social classes. In 88%</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phobia onset occurred before age 20, but only 11% were aware of having bee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posed to anxiety-provoking dental treatment prior to the development of phobias</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age of onset was similar to those in other studies, but the tack of a provoking</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actor is in contrast with other work [27]. All studies agree, however, th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disorder runs a chronic course. It seems that a number of factors contribute to</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anxiety. Uncertainty and fear result from previous learning that includes th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ist's behavior and a biological propensity to develop anxiety, which leads to th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voidance of dental treatment. Once this anxiety becomes too great, a phobia of</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treatment will develop and the patient will avoid all contact with the dentist</a:t>
            </a:r>
            <a:r>
              <a:rPr b="0" lang="en-CA" sz="1000" spc="-1" strike="noStrike">
                <a:solidFill>
                  <a:srgbClr val="000000"/>
                </a:solidFill>
                <a:latin typeface="Arial"/>
              </a:rPr>
              <a:t>.</a:t>
            </a:r>
            <a:endParaRPr b="0" lang="en-US" sz="1000" spc="-1" strike="noStrike">
              <a:solidFill>
                <a:srgbClr val="000000"/>
              </a:solidFill>
              <a:latin typeface="Arial"/>
            </a:endParaRPr>
          </a:p>
        </p:txBody>
      </p:sp>
      <p:sp>
        <p:nvSpPr>
          <p:cNvPr id="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265E-10F7-42AB-939B-21C02EECE47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Arial"/>
              </a:rPr>
              <a:t>Management of anxiet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nce a patient becomes conditioned to be fearful of dentistry, the dentist mus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bviously attempt to allay such fears. Mild anxiety may be treated by reassurance</a:t>
            </a:r>
            <a:r>
              <a:rPr b="0" lang="en-CA" sz="800" spc="-1" strike="noStrike">
                <a:solidFill>
                  <a:srgbClr val="000000"/>
                </a:solidFill>
                <a:latin typeface="Arial"/>
              </a:rPr>
              <a:t>,</a:t>
            </a:r>
            <a:endParaRPr b="0" lang="en-US" sz="800" spc="-1" strike="noStrike">
              <a:solidFill>
                <a:srgbClr val="000000"/>
              </a:solidFill>
              <a:latin typeface="Arial"/>
            </a:endParaRPr>
          </a:p>
          <a:p>
            <a:pPr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52FB-34C6-44EE-B1BE-ABED477881A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aim that men are equally affected but more women seek treat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F92A-CDEE-42CB-82DC-56FAE277980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Malocclusion ,bruxism , tension headache reasons  are not supported in controlled trials</a:t>
            </a:r>
            <a:r>
              <a:rPr b="0" lang="en-CA" sz="1100" spc="-1" strike="noStrike">
                <a:solidFill>
                  <a:srgbClr val="000000"/>
                </a:solidFill>
                <a:latin typeface="Arial"/>
              </a:rPr>
              <a:t>.</a:t>
            </a:r>
            <a:endParaRPr b="0" lang="en-US" sz="1100" spc="-1" strike="noStrike">
              <a:solidFill>
                <a:srgbClr val="000000"/>
              </a:solidFill>
              <a:latin typeface="Arial"/>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C703-D4D3-4B6F-9BEF-EE136557C02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6"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 name="Group 7"/>
          <p:cNvGrpSpPr/>
          <p:nvPr/>
        </p:nvGrpSpPr>
        <p:grpSpPr>
          <a:xfrm>
            <a:off x="279360" y="152280"/>
            <a:ext cx="8686800" cy="1600200"/>
            <a:chOff x="279360" y="152280"/>
            <a:chExt cx="8686800" cy="1600200"/>
          </a:xfrm>
        </p:grpSpPr>
        <p:sp>
          <p:nvSpPr>
            <p:cNvPr id="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 name="Group 8"/>
          <p:cNvGrpSpPr/>
          <p:nvPr/>
        </p:nvGrpSpPr>
        <p:grpSpPr>
          <a:xfrm>
            <a:off x="380880" y="304920"/>
            <a:ext cx="8391600" cy="5790960"/>
            <a:chOff x="380880" y="304920"/>
            <a:chExt cx="8391600" cy="5790960"/>
          </a:xfrm>
        </p:grpSpPr>
        <p:sp>
          <p:nvSpPr>
            <p:cNvPr id="47"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4"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 name="PlaceHolder 3"/>
          <p:cNvSpPr>
            <a:spLocks noGrp="1"/>
          </p:cNvSpPr>
          <p:nvPr>
            <p:ph type="dt" idx="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ea typeface="Times New Roman"/>
              </a:rPr>
              <a:t>Psychiatry &amp; Dentistry II</a:t>
            </a:r>
            <a:endParaRPr b="0" lang="en-US" sz="5400" spc="-1" strike="noStrike">
              <a:solidFill>
                <a:srgbClr val="420000"/>
              </a:solidFill>
              <a:latin typeface="Times New Roman"/>
            </a:endParaRPr>
          </a:p>
        </p:txBody>
      </p:sp>
      <p:sp>
        <p:nvSpPr>
          <p:cNvPr id="100"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Fahad Alosaimi MBBS, SSC-Psych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Consultation liaison psychiatris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King Saud Universit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REATMENT</a:t>
            </a:r>
            <a:endParaRPr b="0" lang="en-US" sz="4400" spc="-1" strike="noStrike">
              <a:solidFill>
                <a:srgbClr val="420000"/>
              </a:solidFill>
              <a:latin typeface="Times New Roman"/>
            </a:endParaRPr>
          </a:p>
        </p:txBody>
      </p:sp>
      <p:sp>
        <p:nvSpPr>
          <p:cNvPr id="121" name=""/>
          <p:cNvSpPr txBox="1"/>
          <p:nvPr/>
        </p:nvSpPr>
        <p:spPr>
          <a:xfrm>
            <a:off x="457200" y="1752120"/>
            <a:ext cx="8229600" cy="4302360"/>
          </a:xfrm>
          <a:prstGeom prst="rect">
            <a:avLst/>
          </a:prstGeom>
          <a:noFill/>
          <a:ln w="0">
            <a:noFill/>
          </a:ln>
        </p:spPr>
        <p:txBody>
          <a:bodyPr anchor="t">
            <a:normAutofit fontScale="99000"/>
          </a:bodyPr>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unselling about lifestyle and support in any emotional crisis.</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ose with complex emotional history, depression, or agitated or psychotic states should be treated by a liaison psychiatrist or a psychologist.</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993300"/>
                </a:solidFill>
                <a:latin typeface="Times New Roman"/>
              </a:rPr>
              <a:t>Joint clinic</a:t>
            </a:r>
            <a:r>
              <a:rPr b="0" lang="en-CA" sz="2000" spc="-1" strike="noStrike">
                <a:solidFill>
                  <a:srgbClr val="000000"/>
                </a:solidFill>
                <a:latin typeface="Times New Roman"/>
              </a:rPr>
              <a:t> is needed to avoid the perceived stigma of a psychiatric diagnosis.</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edications : </a:t>
            </a:r>
            <a:endParaRPr b="0" lang="en-US" sz="24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Tricyclic antidepressant</a:t>
            </a:r>
            <a:r>
              <a:rPr b="0" lang="en-CA" sz="2000" spc="-1" strike="noStrike">
                <a:solidFill>
                  <a:srgbClr val="000000"/>
                </a:solidFill>
                <a:latin typeface="Times New Roman"/>
              </a:rPr>
              <a:t> e.g nortriptyline.</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E: Drowsiness and xerostomia, weight gain and constipation.</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SSRIs</a:t>
            </a:r>
            <a:r>
              <a:rPr b="0" lang="en-CA" sz="2000" spc="-1" strike="noStrike">
                <a:solidFill>
                  <a:srgbClr val="000000"/>
                </a:solidFill>
                <a:latin typeface="Times New Roman"/>
              </a:rPr>
              <a:t> e.g. Fluoxetine.</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gnitive therapy ± drugs.</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ypn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Course &amp; prognosis</a:t>
            </a:r>
            <a:endParaRPr b="0" lang="en-US" sz="4400" spc="-1" strike="noStrike">
              <a:solidFill>
                <a:srgbClr val="420000"/>
              </a:solidFill>
              <a:latin typeface="Times New Roman"/>
            </a:endParaRPr>
          </a:p>
        </p:txBody>
      </p:sp>
      <p:sp>
        <p:nvSpPr>
          <p:cNvPr id="123"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70% of patients respond to appropriate history taking and medic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ronic course because of both a biochemical and psychological trait basi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tients  need continued care as in cases of migraine or trigeminal neuralgi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420000"/>
                </a:solidFill>
                <a:latin typeface="Times New Roman"/>
                <a:ea typeface="Times New Roman"/>
              </a:rPr>
              <a:t>BODY DYSMORPHIC DISORDER (BDD)</a:t>
            </a:r>
            <a:endParaRPr b="0" lang="en-US" sz="3600" spc="-1" strike="noStrike">
              <a:solidFill>
                <a:srgbClr val="420000"/>
              </a:solidFill>
              <a:latin typeface="Times New Roman"/>
            </a:endParaRPr>
          </a:p>
        </p:txBody>
      </p:sp>
      <p:sp>
        <p:nvSpPr>
          <p:cNvPr id="125" name=""/>
          <p:cNvSpPr txBox="1"/>
          <p:nvPr/>
        </p:nvSpPr>
        <p:spPr>
          <a:xfrm>
            <a:off x="457200" y="1828800"/>
            <a:ext cx="8229600" cy="430200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DD is the belief in a cosmetic defect in a person of normal appearance. </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omplaint may range from mild unattractiveness to uglines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ce and its components (the teeth, nose, mouth, ears, eyes, and chin) make up a large percentage of structures for which patients seek and undergo cosmetic surgery. </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se patients often have bizarre complaints about their profile or their smile.</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The disorder is in fact not a phobia at all but rather an obsession, or a de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ypes of </a:t>
            </a:r>
            <a:r>
              <a:rPr b="0" lang="en-CA" sz="4000" spc="-1" strike="noStrike">
                <a:solidFill>
                  <a:srgbClr val="420000"/>
                </a:solidFill>
                <a:latin typeface="Times New Roman"/>
                <a:ea typeface="Times New Roman"/>
              </a:rPr>
              <a:t>BDD</a:t>
            </a:r>
            <a:endParaRPr b="0" lang="en-US" sz="4000" spc="-1" strike="noStrike">
              <a:solidFill>
                <a:srgbClr val="420000"/>
              </a:solidFill>
              <a:latin typeface="Times New Roman"/>
            </a:endParaRPr>
          </a:p>
        </p:txBody>
      </p:sp>
      <p:sp>
        <p:nvSpPr>
          <p:cNvPr id="127" name=""/>
          <p:cNvSpPr txBox="1"/>
          <p:nvPr/>
        </p:nvSpPr>
        <p:spPr>
          <a:xfrm>
            <a:off x="457200" y="1828800"/>
            <a:ext cx="8229600" cy="4302000"/>
          </a:xfrm>
          <a:prstGeom prst="rect">
            <a:avLst/>
          </a:prstGeom>
          <a:noFill/>
          <a:ln w="0">
            <a:noFill/>
          </a:ln>
        </p:spPr>
        <p:txBody>
          <a:bodyPr anchor="t">
            <a:normAutofit fontScale="93000"/>
          </a:bodyPr>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thnic dysphoria : Dissatisfaction with ethnic features , first vocalized in early adolescence.</a:t>
            </a:r>
            <a:endParaRPr b="0" lang="en-US" sz="3200" spc="-1" strike="noStrike">
              <a:solidFill>
                <a:srgbClr val="000000"/>
              </a:solidFill>
              <a:latin typeface="Times New Roman"/>
            </a:endParaRPr>
          </a:p>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xual or gender dysphoria: an obsessional need to change gender ( e.g. reducing the masculine features of a male transsexual.</a:t>
            </a:r>
            <a:endParaRPr b="0" lang="en-US" sz="3200" spc="-1" strike="noStrike">
              <a:solidFill>
                <a:srgbClr val="000000"/>
              </a:solidFill>
              <a:latin typeface="Times New Roman"/>
            </a:endParaRPr>
          </a:p>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3300"/>
                </a:solidFill>
                <a:latin typeface="Times New Roman"/>
              </a:rPr>
              <a:t>Treatment in  collaboration</a:t>
            </a:r>
            <a:r>
              <a:rPr b="0" lang="en-CA" sz="3200" spc="-1" strike="noStrike">
                <a:solidFill>
                  <a:srgbClr val="000000"/>
                </a:solidFill>
                <a:latin typeface="Times New Roman"/>
              </a:rPr>
              <a:t> with a unit specializing in the appropriate psychiatric, dental,hormonal, and surgical sexual realignment.</a:t>
            </a:r>
            <a:endParaRPr b="0" lang="en-US" sz="3200" spc="-1" strike="noStrike">
              <a:solidFill>
                <a:srgbClr val="000000"/>
              </a:solidFill>
              <a:latin typeface="Times New Roman"/>
            </a:endParaRPr>
          </a:p>
          <a:p>
            <a:pPr marL="436680" indent="-436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Risk factors of BDD</a:t>
            </a:r>
            <a:endParaRPr b="0" lang="en-US" sz="4400" spc="-1" strike="noStrike">
              <a:solidFill>
                <a:srgbClr val="420000"/>
              </a:solidFill>
              <a:latin typeface="Times New Roman"/>
            </a:endParaRPr>
          </a:p>
        </p:txBody>
      </p:sp>
      <p:sp>
        <p:nvSpPr>
          <p:cNvPr id="129"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otionally sensitiv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cially isolate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roverted individuals with no sexual experi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nvironmental stresses such as employment problems, difficulties in person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cute events such as bereavement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morbid affective state such as depress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 </a:t>
            </a:r>
            <a:r>
              <a:rPr b="0" lang="en-CA" sz="4400" spc="-1" strike="noStrike">
                <a:solidFill>
                  <a:srgbClr val="420000"/>
                </a:solidFill>
                <a:latin typeface="Times New Roman"/>
                <a:ea typeface="Times New Roman"/>
              </a:rPr>
              <a:t>Treatment of BDD</a:t>
            </a:r>
            <a:endParaRPr b="0" lang="en-US" sz="4400" spc="-1" strike="noStrike">
              <a:solidFill>
                <a:srgbClr val="420000"/>
              </a:solidFill>
              <a:latin typeface="Times New Roman"/>
            </a:endParaRPr>
          </a:p>
        </p:txBody>
      </p:sp>
      <p:sp>
        <p:nvSpPr>
          <p:cNvPr id="131" name=""/>
          <p:cNvSpPr txBox="1"/>
          <p:nvPr/>
        </p:nvSpPr>
        <p:spPr>
          <a:xfrm>
            <a:off x="457200" y="1828800"/>
            <a:ext cx="8229600" cy="4302000"/>
          </a:xfrm>
          <a:prstGeom prst="rect">
            <a:avLst/>
          </a:prstGeom>
          <a:noFill/>
          <a:ln w="0">
            <a:noFill/>
          </a:ln>
        </p:spPr>
        <p:txBody>
          <a:bodyPr anchor="t">
            <a:normAutofit fontScale="98000"/>
          </a:bodyPr>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problem is whether to do what the patient wants, what the patient needs, or nothing.</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outcome of surgery or repeated  surgeries are usually unsatisfactory, except where some recognizable deformity has been carefully corrected, patient's expectations are realistic and the patient appears able to withstand an imperfect result.</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relationship between the surgeon and patient is a vital factor in achieving good results and a psychiatrist should be included in clinical management. </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BDD patients may respond well to Fluoxetine, both alone and in combination with cognitive therapy. </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ORAL ULCERATION</a:t>
            </a:r>
            <a:endParaRPr b="0" lang="en-US" sz="4400" spc="-1" strike="noStrike">
              <a:solidFill>
                <a:srgbClr val="420000"/>
              </a:solidFill>
              <a:latin typeface="Times New Roman"/>
            </a:endParaRPr>
          </a:p>
        </p:txBody>
      </p:sp>
      <p:sp>
        <p:nvSpPr>
          <p:cNvPr id="133" name=""/>
          <p:cNvSpPr txBox="1"/>
          <p:nvPr/>
        </p:nvSpPr>
        <p:spPr>
          <a:xfrm>
            <a:off x="457200" y="1828800"/>
            <a:ext cx="8229600" cy="4302000"/>
          </a:xfrm>
          <a:prstGeom prst="rect">
            <a:avLst/>
          </a:prstGeom>
          <a:noFill/>
          <a:ln w="0">
            <a:noFill/>
          </a:ln>
        </p:spPr>
        <p:txBody>
          <a:bodyPr anchor="t">
            <a:normAutofit fontScale="93000"/>
          </a:bodyPr>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imes New Roman"/>
              </a:rPr>
              <a:t>Aphthous ulcers</a:t>
            </a:r>
            <a:r>
              <a:rPr b="0" i="1" lang="en-CA" sz="3200" spc="-1" strike="noStrike">
                <a:solidFill>
                  <a:srgbClr val="000000"/>
                </a:solidFill>
                <a:latin typeface="Times New Roman"/>
              </a:rPr>
              <a:t>:</a:t>
            </a:r>
            <a:r>
              <a:rPr b="0" lang="en-CA" sz="2400" spc="-1" strike="noStrike">
                <a:solidFill>
                  <a:srgbClr val="000000"/>
                </a:solidFill>
                <a:latin typeface="Times New Roman"/>
              </a:rPr>
              <a:t> shallow, painful oral ulcers.</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tiology : unknown ? autoimmune disturbance ? emotional problems may precipitate their lesions.</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nagement:</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3300"/>
                </a:solidFill>
                <a:latin typeface="Times New Roman"/>
              </a:rPr>
              <a:t>Ulcer diary :</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436680" indent="-4366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When patients complain of recurrent crops of painful ulcers.</a:t>
            </a:r>
            <a:endParaRPr b="0" lang="en-US" sz="2000" spc="-1" strike="noStrike">
              <a:solidFill>
                <a:srgbClr val="000000"/>
              </a:solidFill>
              <a:latin typeface="Times New Roman"/>
            </a:endParaRPr>
          </a:p>
          <a:p>
            <a:pPr marL="436680" indent="-4366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tient notes the number of ulcers present in the mouth and any associated factors on a day-to-day basis.</a:t>
            </a:r>
            <a:endParaRPr b="0" lang="en-US" sz="20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993300"/>
                </a:solidFill>
                <a:latin typeface="Times New Roman"/>
              </a:rPr>
              <a:t>Ttricyclic antidepressant</a:t>
            </a:r>
            <a:r>
              <a:rPr b="0" lang="en-CA" sz="2400" spc="-1" strike="noStrike">
                <a:solidFill>
                  <a:srgbClr val="000000"/>
                </a:solidFill>
                <a:latin typeface="Times New Roman"/>
              </a:rPr>
              <a:t> will often produce a marked reduction in the number, frequency, and duration of the ulcers, making them more amenable to topical steroid thera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ORAL ULCERATION</a:t>
            </a:r>
            <a:endParaRPr b="0" lang="en-US" sz="4400" spc="-1" strike="noStrike">
              <a:solidFill>
                <a:srgbClr val="420000"/>
              </a:solidFill>
              <a:latin typeface="Times New Roman"/>
            </a:endParaRPr>
          </a:p>
        </p:txBody>
      </p:sp>
      <p:sp>
        <p:nvSpPr>
          <p:cNvPr id="135"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imes New Roman"/>
              </a:rPr>
              <a:t>Factitious ulceration (stomatitis artifacta).</a:t>
            </a:r>
            <a:endParaRPr b="0" lang="en-US" sz="32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history is vague and the lesion either persists longer or recurs more frequently than one would expec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most common lesion is due to cheek chewing( bilateral and painles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nfortunately, there appears to be no age, intellectual, or professional barriers( ?medical background) to this probl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men  more prone than men..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t is often associated with one of the pain syndro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ypes of </a:t>
            </a:r>
            <a:r>
              <a:rPr b="0" lang="en-CA" sz="4400" spc="-1" strike="noStrike">
                <a:solidFill>
                  <a:srgbClr val="000000"/>
                </a:solidFill>
                <a:latin typeface="Times New Roman"/>
                <a:ea typeface="Times New Roman"/>
              </a:rPr>
              <a:t>Factitious ulceration</a:t>
            </a:r>
            <a:endParaRPr b="0" lang="en-US" sz="4400" spc="-1" strike="noStrike">
              <a:solidFill>
                <a:srgbClr val="420000"/>
              </a:solidFill>
              <a:latin typeface="Times New Roman"/>
            </a:endParaRPr>
          </a:p>
        </p:txBody>
      </p:sp>
      <p:sp>
        <p:nvSpPr>
          <p:cNvPr id="137" name=""/>
          <p:cNvSpPr txBox="1"/>
          <p:nvPr/>
        </p:nvSpPr>
        <p:spPr>
          <a:xfrm>
            <a:off x="457200" y="1828800"/>
            <a:ext cx="8229600" cy="430200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 </a:t>
            </a:r>
            <a:r>
              <a:rPr b="0" lang="en-CA" sz="2400" spc="-1" strike="noStrike">
                <a:solidFill>
                  <a:srgbClr val="993300"/>
                </a:solidFill>
                <a:latin typeface="Times New Roman"/>
              </a:rPr>
              <a:t>True malingerers</a:t>
            </a:r>
            <a:r>
              <a:rPr b="0" lang="en-CA" sz="2400" spc="-1" strike="noStrike">
                <a:solidFill>
                  <a:srgbClr val="000000"/>
                </a:solidFill>
                <a:latin typeface="Times New Roman"/>
              </a:rPr>
              <a:t>, where the injury is consciously aggravated for monetary gain or the avoidance of some responsibility.</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2. </a:t>
            </a:r>
            <a:r>
              <a:rPr b="0" lang="en-CA" sz="2400" spc="-1" strike="noStrike">
                <a:solidFill>
                  <a:srgbClr val="993300"/>
                </a:solidFill>
                <a:latin typeface="Times New Roman"/>
              </a:rPr>
              <a:t>Munchausen's syndrome</a:t>
            </a:r>
            <a:r>
              <a:rPr b="0" lang="en-CA" sz="2400" spc="-1" strike="noStrike">
                <a:solidFill>
                  <a:srgbClr val="000000"/>
                </a:solidFill>
                <a:latin typeface="Times New Roman"/>
              </a:rPr>
              <a:t>, which is a persistent, incurable psychopathic way of life that offers no obvious advantage other than requiring medical and nursing care.</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3. </a:t>
            </a:r>
            <a:r>
              <a:rPr b="0" lang="en-CA" sz="2400" spc="-1" strike="noStrike">
                <a:solidFill>
                  <a:srgbClr val="993300"/>
                </a:solidFill>
                <a:latin typeface="Times New Roman"/>
              </a:rPr>
              <a:t>Part of an emotional instability</a:t>
            </a:r>
            <a:r>
              <a:rPr b="0" lang="en-CA" sz="2400" spc="-1" strike="noStrike">
                <a:solidFill>
                  <a:srgbClr val="000000"/>
                </a:solidFill>
                <a:latin typeface="Times New Roman"/>
              </a:rPr>
              <a:t>, such as a personality disorder, where the underlying problem is a disturbance in personal relationship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t is important to protect the patient from inappropriate investigations and treatmen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ea typeface="Times New Roman"/>
              </a:rPr>
              <a:t>Anorexia nervosa and bulimia</a:t>
            </a:r>
            <a:endParaRPr b="0" lang="en-US" sz="4800" spc="-1" strike="noStrike">
              <a:solidFill>
                <a:srgbClr val="420000"/>
              </a:solidFill>
              <a:latin typeface="Times New Roman"/>
            </a:endParaRPr>
          </a:p>
        </p:txBody>
      </p:sp>
      <p:sp>
        <p:nvSpPr>
          <p:cNvPr id="139" name=""/>
          <p:cNvSpPr txBox="1"/>
          <p:nvPr/>
        </p:nvSpPr>
        <p:spPr>
          <a:xfrm>
            <a:off x="457200" y="1143000"/>
            <a:ext cx="8229600" cy="4302000"/>
          </a:xfrm>
          <a:prstGeom prst="rect">
            <a:avLst/>
          </a:prstGeom>
          <a:noFill/>
          <a:ln w="0">
            <a:noFill/>
          </a:ln>
        </p:spPr>
        <p:txBody>
          <a:bodyPr anchor="t">
            <a:normAutofit fontScale="89000"/>
          </a:bodyPr>
          <a:p>
            <a:pPr marL="417960" indent="-417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imes New Roman"/>
              </a:rPr>
              <a:t>Anorexia nervosa</a:t>
            </a:r>
            <a:r>
              <a:rPr b="0" lang="en-CA" sz="2400" spc="-1" strike="noStrike">
                <a:solidFill>
                  <a:srgbClr val="ff0000"/>
                </a:solidFill>
                <a:latin typeface="Times New Roman"/>
              </a:rPr>
              <a:t> </a:t>
            </a:r>
            <a:r>
              <a:rPr b="0" lang="en-CA" sz="2400" spc="-1" strike="noStrike">
                <a:solidFill>
                  <a:srgbClr val="000000"/>
                </a:solidFill>
                <a:latin typeface="Times New Roman"/>
              </a:rPr>
              <a:t>is a pathological avoidance of food in which the subject has a delusional body image. </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pite emaciation, they see themselves as being fat and, apart from limiting their food intake, there is often a covert practice of vomiting.</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imes New Roman"/>
              </a:rPr>
              <a:t>The bulimic nervosa</a:t>
            </a:r>
            <a:r>
              <a:rPr b="0" lang="en-CA" sz="3200" spc="-1" strike="noStrike">
                <a:solidFill>
                  <a:srgbClr val="000000"/>
                </a:solidFill>
                <a:latin typeface="Times New Roman"/>
              </a:rPr>
              <a:t> subject</a:t>
            </a:r>
            <a:r>
              <a:rPr b="0" lang="en-CA" sz="2800" spc="-1" strike="noStrike">
                <a:solidFill>
                  <a:srgbClr val="000000"/>
                </a:solidFill>
                <a:latin typeface="Times New Roman"/>
              </a:rPr>
              <a:t>,</a:t>
            </a:r>
            <a:r>
              <a:rPr b="0" lang="en-CA" sz="2400" spc="-1" strike="noStrike">
                <a:solidFill>
                  <a:srgbClr val="000000"/>
                </a:solidFill>
                <a:latin typeface="Times New Roman"/>
              </a:rPr>
              <a:t> by self-induced vomiting, maintains a normal weight despite indulging in eating binges.</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Both conditions eventually lead to erosion of the teeth and caries due to the constantly regurgitated gastric juice.</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Treatment requires the cooperation of the patient, a restorative dentist, and a psychiatr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Introduction</a:t>
            </a:r>
            <a:endParaRPr b="0" lang="en-US" sz="44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tists are trained to provide treatment for patients with straightforward problems that respond to routine therapy and do not recur.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s may present to dentists and complain solely of resistant chronic or recurrent physical symptoms such as toothache, headache, and facial pai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 inappropriate investigations &amp; treatments these physical symptoms are revealed to be due to emotional disturbanc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xiety in dental setting may manifest itself as a phobia</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 dysmorphic concern about certain aspects of patients’ appearance.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Dental phobia</a:t>
            </a:r>
            <a:endParaRPr b="0" lang="en-US" sz="4400" spc="-1" strike="noStrike">
              <a:solidFill>
                <a:srgbClr val="420000"/>
              </a:solidFill>
              <a:latin typeface="Times New Roman"/>
            </a:endParaRPr>
          </a:p>
        </p:txBody>
      </p:sp>
      <p:sp>
        <p:nvSpPr>
          <p:cNvPr id="141" name=""/>
          <p:cNvSpPr txBox="1"/>
          <p:nvPr/>
        </p:nvSpPr>
        <p:spPr>
          <a:xfrm>
            <a:off x="457200" y="1828800"/>
            <a:ext cx="8229600" cy="4302000"/>
          </a:xfrm>
          <a:prstGeom prst="rect">
            <a:avLst/>
          </a:prstGeom>
          <a:noFill/>
          <a:ln w="0">
            <a:noFill/>
          </a:ln>
        </p:spPr>
        <p:txBody>
          <a:bodyPr anchor="t">
            <a:normAutofit fontScale="94000"/>
          </a:bodyPr>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It is normal for individuals to feel some anxiety about dental treatment.</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Prevalence: 8-13%, F˃M, onset ≤20 years old, chronic cours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odd and Walker (1980)  interviewed 6000 British citizens and found that 43% of them avoided going to the dentist unless they were in troubl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Kent (1984) , in a survey of the  worst stresses encountered by dentists: coping with difficult, anxious patients.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ituation is complicated.....!!!!!!!!!anxious patients expect treatment to be painful, and their anxiety is not modified by a painless experience.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ping with anxiety means that patients' preconceptions about treatment must be modifi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isk factors of </a:t>
            </a:r>
            <a:r>
              <a:rPr b="0" lang="en-CA" sz="4400" spc="-1" strike="noStrike">
                <a:solidFill>
                  <a:srgbClr val="000000"/>
                </a:solidFill>
                <a:latin typeface="Times New Roman"/>
                <a:ea typeface="Times New Roman"/>
              </a:rPr>
              <a:t>Dental phobia </a:t>
            </a:r>
            <a:endParaRPr b="0" lang="en-US" sz="4400" spc="-1" strike="noStrike">
              <a:solidFill>
                <a:srgbClr val="420000"/>
              </a:solidFill>
              <a:latin typeface="Times New Roman"/>
            </a:endParaRPr>
          </a:p>
        </p:txBody>
      </p:sp>
      <p:sp>
        <p:nvSpPr>
          <p:cNvPr id="143" name=""/>
          <p:cNvSpPr txBox="1"/>
          <p:nvPr/>
        </p:nvSpPr>
        <p:spPr>
          <a:xfrm>
            <a:off x="457200" y="1523520"/>
            <a:ext cx="8229600" cy="460692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Anticipating pain</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Uncertainty about particular treatment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 </a:t>
            </a:r>
            <a:r>
              <a:rPr b="0" lang="en-CA" sz="2600" spc="-1" strike="noStrike">
                <a:solidFill>
                  <a:srgbClr val="000000"/>
                </a:solidFill>
                <a:latin typeface="Times New Roman"/>
              </a:rPr>
              <a:t>Bad previous experience </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Female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Lower school education</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Lower social classe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 </a:t>
            </a:r>
            <a:r>
              <a:rPr b="0" lang="en-CA" sz="2600" spc="-1" strike="noStrike">
                <a:solidFill>
                  <a:srgbClr val="000000"/>
                </a:solidFill>
                <a:latin typeface="Times New Roman"/>
              </a:rPr>
              <a:t>Dentist's behaviour </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iological propensity to develop anxiety.</a:t>
            </a:r>
            <a:endParaRPr b="0" lang="en-US" sz="2600" spc="-1" strike="noStrike">
              <a:solidFill>
                <a:srgbClr val="000000"/>
              </a:solidFill>
              <a:latin typeface="Times New Roman"/>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evention of </a:t>
            </a:r>
            <a:r>
              <a:rPr b="0" lang="en-CA" sz="4400" spc="-1" strike="noStrike">
                <a:solidFill>
                  <a:srgbClr val="000000"/>
                </a:solidFill>
                <a:latin typeface="Times New Roman"/>
                <a:ea typeface="Times New Roman"/>
              </a:rPr>
              <a:t>Dental phobia </a:t>
            </a:r>
            <a:endParaRPr b="0" lang="en-US" sz="4400" spc="-1" strike="noStrike">
              <a:solidFill>
                <a:srgbClr val="420000"/>
              </a:solidFill>
              <a:latin typeface="Times New Roman"/>
            </a:endParaRPr>
          </a:p>
        </p:txBody>
      </p:sp>
      <p:sp>
        <p:nvSpPr>
          <p:cNvPr id="145" name=""/>
          <p:cNvSpPr txBox="1"/>
          <p:nvPr/>
        </p:nvSpPr>
        <p:spPr>
          <a:xfrm>
            <a:off x="457200" y="1828800"/>
            <a:ext cx="8229600" cy="4302000"/>
          </a:xfrm>
          <a:prstGeom prst="rect">
            <a:avLst/>
          </a:prstGeom>
          <a:noFill/>
          <a:ln w="0">
            <a:noFill/>
          </a:ln>
        </p:spPr>
        <p:txBody>
          <a:bodyPr anchor="t">
            <a:normAutofit fontScale="86000"/>
          </a:bodyPr>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ublic dental health education </a:t>
            </a:r>
            <a:endParaRPr b="0" lang="en-US" sz="3200" spc="-1" strike="noStrike">
              <a:solidFill>
                <a:srgbClr val="000000"/>
              </a:solidFill>
              <a:latin typeface="Times New Roman"/>
            </a:endParaRPr>
          </a:p>
          <a:p>
            <a:pPr marL="403920" indent="-403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ntal Care need to be :</a:t>
            </a:r>
            <a:endParaRPr b="0" lang="en-US" sz="32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long-term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frequent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 </a:t>
            </a:r>
            <a:r>
              <a:rPr b="0" lang="en-CA" sz="3000" spc="-1" strike="noStrike">
                <a:solidFill>
                  <a:srgbClr val="000000"/>
                </a:solidFill>
                <a:latin typeface="Times New Roman"/>
              </a:rPr>
              <a:t>regular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by one dentist</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including sessions devoted purely to educational aims, perhaps conducted in small groups.</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Management of Dental phobia </a:t>
            </a:r>
            <a:endParaRPr b="0" lang="en-US" sz="4400" spc="-1" strike="noStrike">
              <a:solidFill>
                <a:srgbClr val="420000"/>
              </a:solidFill>
              <a:latin typeface="Times New Roman"/>
            </a:endParaRPr>
          </a:p>
        </p:txBody>
      </p:sp>
      <p:sp>
        <p:nvSpPr>
          <p:cNvPr id="147" name=""/>
          <p:cNvSpPr txBox="1"/>
          <p:nvPr/>
        </p:nvSpPr>
        <p:spPr>
          <a:xfrm>
            <a:off x="457200" y="1219320"/>
            <a:ext cx="8229600" cy="4302000"/>
          </a:xfrm>
          <a:prstGeom prst="rect">
            <a:avLst/>
          </a:prstGeom>
          <a:noFill/>
          <a:ln w="0">
            <a:noFill/>
          </a:ln>
        </p:spPr>
        <p:txBody>
          <a:bodyPr anchor="t">
            <a:normAutofit fontScale="86000"/>
          </a:bodyPr>
          <a:p>
            <a:pPr marL="403920" indent="-403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a:t>
            </a:r>
            <a:r>
              <a:rPr b="0" lang="en-CA" sz="3200" spc="-1" strike="noStrike">
                <a:solidFill>
                  <a:srgbClr val="000000"/>
                </a:solidFill>
                <a:latin typeface="Times New Roman"/>
              </a:rPr>
              <a:t>Reassurance.</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a:t>
            </a:r>
            <a:r>
              <a:rPr b="0" lang="en-CA" sz="3200" spc="-1" strike="noStrike">
                <a:solidFill>
                  <a:srgbClr val="000000"/>
                </a:solidFill>
                <a:latin typeface="Times New Roman"/>
              </a:rPr>
              <a:t>Adequate pre-treatment analgesia or a mild tranquilizer such as diazepam? Addiction.</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e of distraction such as listening to relaxation tapes.</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ing the patient some control over their treatments such as raising an arm to stop drilling.</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gnitive behavioural thera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420000"/>
              </a:solidFill>
              <a:latin typeface="Times New Roman"/>
              <a:ea typeface="Times New Roman"/>
            </a:endParaRPr>
          </a:p>
        </p:txBody>
      </p:sp>
      <p:pic>
        <p:nvPicPr>
          <p:cNvPr id="149" name="" descr=""/>
          <p:cNvPicPr/>
          <p:nvPr/>
        </p:nvPicPr>
        <p:blipFill>
          <a:blip r:embed="rId1"/>
          <a:stretch/>
        </p:blipFill>
        <p:spPr>
          <a:xfrm>
            <a:off x="457200" y="1828800"/>
            <a:ext cx="8229600" cy="4302000"/>
          </a:xfrm>
          <a:prstGeom prst="rect">
            <a:avLst/>
          </a:prstGeom>
          <a:ln w="0">
            <a:noFill/>
          </a:ln>
        </p:spPr>
      </p:pic>
      <p:pic>
        <p:nvPicPr>
          <p:cNvPr id="150" name="Rectangle 3" descr=""/>
          <p:cNvPicPr/>
          <p:nvPr/>
        </p:nvPicPr>
        <p:blipFill>
          <a:blip r:embed="rId2"/>
          <a:stretch/>
        </p:blipFill>
        <p:spPr>
          <a:xfrm>
            <a:off x="2535120" y="2766960"/>
            <a:ext cx="41036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Outlines</a:t>
            </a: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idiopathic facial pai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Body dysmorphic disorder (BD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Oral ulcer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Anorexia nervosa and bulimi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Dental phobia.</a:t>
            </a:r>
            <a:endParaRPr b="0" lang="en-US" sz="32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Chronic idiopathic facial pain </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evalence  is generally 15%.</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The mean age for facial arthromyalgia is 30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The mean age for atypical facial pain is 55 years ol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emales ˃ males   4 :1</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ea typeface="Times New Roman"/>
              </a:rPr>
              <a:t>Clinical features of Chronic idiopathic facial pain </a:t>
            </a:r>
            <a:endParaRPr b="0" lang="en-US" sz="32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9" name=""/>
          <p:cNvGraphicFramePr/>
          <p:nvPr/>
        </p:nvGraphicFramePr>
        <p:xfrm>
          <a:off x="380880" y="1676520"/>
          <a:ext cx="8458200" cy="4416480"/>
        </p:xfrm>
        <a:graphic>
          <a:graphicData uri="http://schemas.openxmlformats.org/drawingml/2006/table">
            <a:tbl>
              <a:tblPr/>
              <a:tblGrid>
                <a:gridCol w="1579680"/>
                <a:gridCol w="68785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 </a:t>
                      </a:r>
                      <a:r>
                        <a:rPr b="1" lang="en-CA" sz="1800" spc="-1" strike="noStrike">
                          <a:solidFill>
                            <a:srgbClr val="ffffff"/>
                          </a:solidFill>
                          <a:latin typeface="Times New Roman"/>
                        </a:rPr>
                        <a:t>Symptom complex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Clinical featur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1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acial arthromyalgia (F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uni- or bilateral pain in the temporomandibular joint (TMJ) and associated craniofacial musculature, and there may also be a sense of fullness, popping, or tinnitus in the e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3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ypical facial pain (AFP) (or idiopathic facial pa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 continuous ache with intermittent excruciating episodes, localized to the non muscular, non joint areas of the face. The pain may be uni- or bilateral and may persist for months or yea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ea typeface="Times New Roman"/>
              </a:rPr>
              <a:t>Clinical features of Chronic idiopathic facial pain</a:t>
            </a:r>
            <a:endParaRPr b="0" lang="en-US" sz="32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2" name=""/>
          <p:cNvGraphicFramePr/>
          <p:nvPr/>
        </p:nvGraphicFramePr>
        <p:xfrm>
          <a:off x="533520" y="1965240"/>
          <a:ext cx="8153280" cy="4359240"/>
        </p:xfrm>
        <a:graphic>
          <a:graphicData uri="http://schemas.openxmlformats.org/drawingml/2006/table">
            <a:tbl>
              <a:tblPr/>
              <a:tblGrid>
                <a:gridCol w="2361960"/>
                <a:gridCol w="579132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 </a:t>
                      </a:r>
                      <a:r>
                        <a:rPr b="1" lang="en-CA" sz="1800" spc="-1" strike="noStrike">
                          <a:solidFill>
                            <a:srgbClr val="ffffff"/>
                          </a:solidFill>
                          <a:latin typeface="Times New Roman"/>
                        </a:rPr>
                        <a:t>Symptom comple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Clinical fea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32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ypical odontalgia (A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he dental variant, which is diagnosed 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bsence of detectable dental patholog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1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Oral dysesthesi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cludes a burning discomfort in the tongue (glossopyrosis), gingiva, or lips; a persistently dry mouth 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resence of saliva; a disturbance of taste; denture intolerance; or a persistently uncomfort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occlusion (phantom bite or occlusal hyperawarene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ea typeface="Times New Roman"/>
              </a:rPr>
              <a:t>Clinical features </a:t>
            </a:r>
            <a:r>
              <a:rPr b="0" lang="en-US" sz="3200" spc="-1" strike="noStrike">
                <a:solidFill>
                  <a:srgbClr val="420000"/>
                </a:solidFill>
                <a:latin typeface="Times New Roman"/>
                <a:ea typeface="Times New Roman"/>
              </a:rPr>
              <a:t>of Chronic idiopathic facial pain</a:t>
            </a:r>
            <a:endParaRPr b="0" lang="en-US" sz="3200" spc="-1" strike="noStrike">
              <a:solidFill>
                <a:srgbClr val="420000"/>
              </a:solidFill>
              <a:latin typeface="Times New Roman"/>
            </a:endParaRPr>
          </a:p>
        </p:txBody>
      </p:sp>
      <p:sp>
        <p:nvSpPr>
          <p:cNvPr id="114" name=""/>
          <p:cNvSpPr txBox="1"/>
          <p:nvPr/>
        </p:nvSpPr>
        <p:spPr>
          <a:xfrm>
            <a:off x="457200" y="1828800"/>
            <a:ext cx="8229600" cy="4302000"/>
          </a:xfrm>
          <a:prstGeom prst="rect">
            <a:avLst/>
          </a:prstGeom>
          <a:noFill/>
          <a:ln w="0">
            <a:noFill/>
          </a:ln>
        </p:spPr>
        <p:txBody>
          <a:bodyPr anchor="t">
            <a:normAutofit fontScale="91000"/>
          </a:bodyPr>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AFP and AO often coexist or occur sequentially in the same patient. </a:t>
            </a: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onic idiopathic facial pain </a:t>
            </a:r>
            <a:r>
              <a:rPr b="0" lang="en-CA" sz="2400" spc="-1" strike="noStrike">
                <a:solidFill>
                  <a:srgbClr val="000000"/>
                </a:solidFill>
                <a:latin typeface="Times New Roman"/>
                <a:ea typeface="Times New Roman"/>
              </a:rPr>
              <a:t>is associated with:</a:t>
            </a:r>
            <a:endParaRPr b="0" lang="en-US" sz="24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other chronic pains such as headache, neck and back pain</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fibromyalgia</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pruritus</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abdominal pain (irritable bowel)</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pelvic pain</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myalgic encephalomyelitis </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PTSD.</a:t>
            </a:r>
            <a:endParaRPr b="0" lang="en-US" sz="20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The overview creates a picture of a pain-vulnerable person or a whole body pain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0000"/>
                </a:solidFill>
                <a:latin typeface="Times New Roman"/>
                <a:ea typeface="Times New Roman"/>
              </a:rPr>
              <a:t>ETIOLOGY </a:t>
            </a:r>
            <a:r>
              <a:rPr b="0" lang="en-US" sz="3200" spc="-1" strike="noStrike">
                <a:solidFill>
                  <a:srgbClr val="420000"/>
                </a:solidFill>
                <a:latin typeface="Times New Roman"/>
                <a:ea typeface="Times New Roman"/>
              </a:rPr>
              <a:t>of Chronic idiopathic facial pain</a:t>
            </a:r>
            <a:endParaRPr b="0" lang="en-US" sz="3200" spc="-1" strike="noStrike">
              <a:solidFill>
                <a:srgbClr val="420000"/>
              </a:solidFill>
              <a:latin typeface="Times New Roman"/>
            </a:endParaRPr>
          </a:p>
        </p:txBody>
      </p:sp>
      <p:sp>
        <p:nvSpPr>
          <p:cNvPr id="116" name=""/>
          <p:cNvSpPr txBox="1"/>
          <p:nvPr/>
        </p:nvSpPr>
        <p:spPr>
          <a:xfrm>
            <a:off x="380880" y="1371600"/>
            <a:ext cx="8229600" cy="4759200"/>
          </a:xfrm>
          <a:prstGeom prst="rect">
            <a:avLst/>
          </a:prstGeom>
          <a:noFill/>
          <a:ln w="0">
            <a:noFill/>
          </a:ln>
        </p:spPr>
        <p:txBody>
          <a:bodyPr anchor="t">
            <a:normAutofit fontScale="94000"/>
          </a:bodyPr>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Idiopathic.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Both psychosocially and biochemically vulnerabl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psychosocial features include:</a:t>
            </a:r>
            <a:endParaRPr b="0" lang="en-US" sz="22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000" spc="-1" strike="noStrike">
                <a:solidFill>
                  <a:srgbClr val="993300"/>
                </a:solidFill>
                <a:latin typeface="Times New Roman"/>
              </a:rPr>
              <a:t>an unstable or inadequate parental background,</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 </a:t>
            </a:r>
            <a:r>
              <a:rPr b="0" lang="en-CA" sz="2000" spc="-1" strike="noStrike">
                <a:solidFill>
                  <a:srgbClr val="993300"/>
                </a:solidFill>
                <a:latin typeface="Times New Roman"/>
              </a:rPr>
              <a:t>poor adaptation to school or work,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marital and financial difficulties,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chronic illness in the family,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bereavement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fewer sources of emotional support.</a:t>
            </a:r>
            <a:endParaRPr b="0" lang="en-US" sz="20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One study : 43% of such patients were psychiatrically normal, 35% had a depressive illness, and 22% were diagnosed as mixed neurosis cases.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A small number : personality disorder with marked somatization or psychos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0000"/>
                </a:solidFill>
                <a:latin typeface="Times New Roman"/>
                <a:ea typeface="Times New Roman"/>
              </a:rPr>
              <a:t>ETIOLOGY </a:t>
            </a:r>
            <a:r>
              <a:rPr b="0" lang="en-US" sz="3200" spc="-1" strike="noStrike">
                <a:solidFill>
                  <a:srgbClr val="420000"/>
                </a:solidFill>
                <a:latin typeface="Times New Roman"/>
                <a:ea typeface="Times New Roman"/>
              </a:rPr>
              <a:t>of Chronic idiopathic</a:t>
            </a:r>
            <a:br>
              <a:rPr sz="3200"/>
            </a:br>
            <a:r>
              <a:rPr b="0" lang="en-US" sz="3200" spc="-1" strike="noStrike">
                <a:solidFill>
                  <a:srgbClr val="420000"/>
                </a:solidFill>
                <a:latin typeface="Times New Roman"/>
                <a:ea typeface="Times New Roman"/>
              </a:rPr>
              <a:t> facial pain</a:t>
            </a:r>
            <a:endParaRPr b="0" lang="en-US" sz="3200" spc="-1" strike="noStrike">
              <a:solidFill>
                <a:srgbClr val="420000"/>
              </a:solidFill>
              <a:latin typeface="Times New Roman"/>
            </a:endParaRPr>
          </a:p>
        </p:txBody>
      </p:sp>
      <p:sp>
        <p:nvSpPr>
          <p:cNvPr id="118" name=""/>
          <p:cNvSpPr txBox="1"/>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ET : increased contralateral cingulate cortex activity in response to both heat and nociceptive hea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suggests an enhanced alerting mechanism in response to peripheral stimuli which could therefore be perceived as pa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summary: </a:t>
            </a:r>
            <a:endParaRPr b="0" lang="en-US" sz="24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3300"/>
                </a:solidFill>
                <a:latin typeface="Times New Roman"/>
              </a:rPr>
              <a:t>emotional strain +  local physical stress +  biochemically and psychologically vulnerable subject</a:t>
            </a:r>
            <a:r>
              <a:rPr b="0" lang="en-CA" sz="2400" spc="-1" strike="noStrike">
                <a:solidFill>
                  <a:srgbClr val="000000"/>
                </a:solidFill>
                <a:latin typeface="Times New Roman"/>
              </a:rPr>
              <a:t> </a:t>
            </a: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0" lang="en-CA" sz="2400" spc="-1" strike="noStrike">
                <a:solidFill>
                  <a:srgbClr val="000000"/>
                </a:solidFill>
                <a:latin typeface="Times New Roman"/>
              </a:rPr>
              <a:t>release of neuropeptides in the "target tissues" such as the joint capsule, muscles, periodontal membrane, or dental pulp)</a:t>
            </a:r>
            <a:endParaRPr b="0" lang="en-US" sz="2400" spc="-1" strike="noStrike">
              <a:solidFill>
                <a:srgbClr val="000000"/>
              </a:solidFill>
              <a:latin typeface="Times New Roman"/>
            </a:endParaRPr>
          </a:p>
        </p:txBody>
      </p:sp>
      <p:pic>
        <p:nvPicPr>
          <p:cNvPr id="119" name="Picture 5" descr="http://t2.gstatic.com/images?q=tbn:ANd9GcSjSbYMCpdYnvIuoN3JukMCkN5Gvwf_1vUdE6fm0vtkENBfBTTOug"/>
          <p:cNvPicPr/>
          <p:nvPr/>
        </p:nvPicPr>
        <p:blipFill>
          <a:blip r:embed="rId1"/>
          <a:stretch/>
        </p:blipFill>
        <p:spPr>
          <a:xfrm>
            <a:off x="7467480" y="609480"/>
            <a:ext cx="15336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9:03:47Z</dcterms:created>
  <dc:creator>hec</dc:creator>
  <dc:description/>
  <dc:language>en-US</dc:language>
  <cp:lastModifiedBy>Fahad Alosaimi</cp:lastModifiedBy>
  <dcterms:modified xsi:type="dcterms:W3CDTF">2010-12-21T18:04:02Z</dcterms:modified>
  <cp:revision>54</cp:revision>
  <dc:subject/>
  <dc:title>Psychiatry &amp; Dentistry II</dc:title>
</cp:coreProperties>
</file>