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DDAB-5F57-4E9E-932E-C4A46E9D43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271F-64C4-4476-B793-6A92C18A4FA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Malocclusion ,bruxism , tension headache reasons  are not supported in controlled trials</a:t>
            </a:r>
            <a:r>
              <a:rPr b="0" lang="en-CA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80CD-37F3-4F2D-B54E-89D8B6E43A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Unfortunately the chronicity of these pains and their unrecognized psychoge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atures invariably lead to many patients being referred elsewhere or abandone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s is reflected in a formal audit of 813 new referrals to this department ove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th period. Their mean pain duration was 4.2 years (median 1-2 years) desp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aving been seen by an average of two consultants. Hence, 25% were tert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ferrals. This reflects a major expenditure to the Health Service as well as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ork time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icyclic antidepressant (high placebo response &amp;high relapse if stop treatments before 6 months)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A556-0312-43E2-B73D-DD86ED4F9A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and, frequently, the patient seeks treatment to correct the supposed deformity</a:t>
            </a:r>
            <a:r>
              <a:rPr b="0" lang="en-CA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nic dysphoria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issatisfaction with ethnic features is used to describe pati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who desire a change from an Oriental or Negro to a Caucasian appearance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Frequently, the complaint is first vocalized in early adolescence and the pati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ay report being teased at school about their appearance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exual or gender dysphoria is an obsessional need to change gender. This compl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problem may present the maxillofacial surgeon with the task of reduc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asculine features of a male transsexual. Such cases should only be treated in collab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with a unit specializing in the appropriate psychiatric, hormonal, and sur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exual realignment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orselli [18], who first described dysmorphophobia, emphasized that a pat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F7C4-6C7D-4929-99B4-3DFDD26D335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could be perfectly healthy, perhaps emotionally rather sensitive, and then sudde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velop the complaint and become preoccupied by it. Patients tend to be soci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isolated, sensitive, introverted individuals with no sexual experience. Environmen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tresses such as employment problems, difficulties in personal relationships, 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cute events such as bereavements, are liable to concentrate attention on facial appearance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 morbid affective state such as depression may also make the pat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ore likely to express dissatisfaction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BDD is a rare symptom in isolation, and a necessary psychiatric evalua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ch patients requesting cosmetic surgery is not always possible. Few psychiatr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understand the nature and scope of cosmetic surgery and many patients refuse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ee psychiatrists. The problem is whether to do what the patient wants, what the pat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needs, or nothing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outcome of surgery is usually unsatisfactory, except where some recogniz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formity has been carefully corrected. Reich [19], who examined 3000 patients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ggested that surgery should proceed if the patient's expectations are realistic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patient appears able to withstand an imperfect result. But, with no deform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or minimal deformity and inappropriate concern the prognosis is poor. Psychia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anagement may be very difficult because of poor drug compliance and a tend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oward "surgeon shopping" (seeking numerous surgical opinions)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relationship between the surgeon and patient is a vital factor in achiev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good results and a psychiatrist should be included in clinical management. It is ess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o have several meetings preoperatively so that mutual trust can be established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tailed discussions about possible surgery and close follow-up after surg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re all necessary if the patient is to be satisfied. Repeat surgery is invariably unsuccessful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re is also evidence that BDD patients respond well to Fluoxetine, b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lone and in combination with cognitive therapy. [20]. Joint treatment by a surge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nd a psychiatrist may be most optimal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4E50-F42B-42A6-8665-804148543F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BDD is a rare symptom in isolation, and a necessary psychiatric evalua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ch patients requesting cosmetic surgery is not always possible. Few psychiatri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understand the nature and scope of cosmetic surgery and many patients refuse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ee psychiatrists. The problem is whether to do what the patient wants, what the pati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needs, or nothing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outcome of surgery is usually unsatisfactory, except where some recogniz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formity has been carefully corrected. Reich [19], who examined 3000 patients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suggested that surgery should proceed if the patient's expectations are realistic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patient appears able to withstand an imperfect result. But, with no deform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or minimal deformity and inappropriate concern the prognosis is poor. Psychiatr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management may be very difficult because of poor drug compliance and a tendenc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oward "surgeon shopping" (seeking numerous surgical opinions)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 relationship between the surgeon and patient is a vital factor in achiev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good results and a psychiatrist should be included in clinical management. It is ess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o have several meetings preoperatively so that mutual trust can be established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Detailed discussions about possible surgery and close follow-up after surg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re all necessary if the patient is to be satisfied. Repeat surgery is invariably unsuccessful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There is also evidence that BDD patients respond well to Fluoxetine, b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lone and in combination with cognitive therapy. [20]. Joint treatment by a surge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and a psychiatrist may be most optimal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E7FE-1D81-4918-8172-5343317EB2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200" spc="-1" strike="noStrike">
                <a:solidFill>
                  <a:srgbClr val="000000"/>
                </a:solidFill>
                <a:latin typeface="Arial"/>
              </a:rPr>
              <a:t>Aphthous ul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troublesome condition of shallow, painful oral ulcers varies in inc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rom sporadic single lesions to recurrent crops. The exact etiology is unknown al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condition often has the features of an autoimmune disturbance. Desp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, many patients are aware that emotional problems may precipitate their lesion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r this reason, it is useful, where patients complain of recurrent crops of pain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lcers, to obtain a full and careful history, including social and emotional factors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should be followed-up by an ulcer diary, where the patient notes the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f ulcers present in the mouth and any associated factors on a day-to-day basis.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dation or a tricyclic antidepressant will often produce a marked reduction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umber, frequency, and duration of the ulcers, making them more amenable to top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teroid therapy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7243-5CAC-4933-9737-8F3BF4DC087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700" spc="-1" strike="noStrike">
                <a:solidFill>
                  <a:srgbClr val="000000"/>
                </a:solidFill>
                <a:latin typeface="Arial"/>
              </a:rPr>
              <a:t>Factitious ulceration (stomatitis artifact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Factitious ulceration is the intraoral counterpart of the well-recognized dermatiti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rtifacta [21]. The lesions vary in their appearance according to the manner 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which they are created. The most common and least troublesome lesion is due to cheek chewing. Here, usually a young, anxious, individual continually chews th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buccal mucosa producing wide areas of peeling, macerated, hyperkeratinized epidermis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It is usually bilateral and painless and may be associated with facial arthromyalg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with facial arthromyalgia. Similarly, lip biting may produce fissures, whi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reas of hyperkeratosis or a mucus extravasation cyst. In the older, anxious or agitat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patient, lip chewing produces varicosities so that the vermilion border becom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uriously cyanotic in appearance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Greater difficulty may be experienced in recognizing the discrete lesion that loc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brasion with a finger nail or sharp instrument may produce. Occasionally, caust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gents such as tablets or undiluted antiseptics may be used. The condition m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mimic a natural lesion, particularly if the patient has some knowledge of dentist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or medicine and knows how to produce such a lesion. Unfortunately, there appea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to be no age, intellectual, or professional barriers to this problem, although wom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seem to be more prone than men. The history of this problem is characteristicall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vague and the lesion either persists longer or recurs more frequently than 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would expect. It is often associated with one of the pain syndromes, and the pati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appears to produce the lesion to validate an organic diagnosis for their pain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Sneddon [21] describes three groups of definatitis artifacta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True malingerers, where the injury is consciously aggravated for moneta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gain or the avoidance of some responsibility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Munchausen's syndrome, which is a persistent, incurable psychopathic way of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life that offers no obvious advantage other than requiring medical and nurs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care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Part of an emotional instability, such as a personality disorder, where the underly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problem is a disturbance in personal relationships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It is rare to obtain an acknowledgment or an explanation as to how the lesions a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produced, and it is often difficult to get the patient or his/her family to agree to psychiatr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help---nevertheless, this is important to protect the patient from inappropri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investigations and treatment</a:t>
            </a:r>
            <a:r>
              <a:rPr b="0" lang="en-CA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FC41-8BD0-490E-8A7E-91346DE978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neddon  describes three groups of definatitis artifacta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 is rare to obtain an acknowledgment or an explanation as to how the lesions are produced, and it is often difficult to get the patient or his/her family to agree to psychiatric help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B50E-CA58-4D8F-9FA3-3BE1A35A24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Presentation of anxiety problems to the d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xiety problems may vary from a simple overreaction to a dental procedure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ore aggressive responses. Anxious, obsessional, or depressed patients may ampl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in or become agitated after what appears to the dentist to be a normal consult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milarly, an acute hypochondrial reaction may be precipitated by an inno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mark or trivial investigatio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xiety provoked by dental treatment is a problem for both patients and d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actitioners. It is normal for individuals to feel some anxiety about dental treatmen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dd and Walker [22] interviewed 6000 British citizens and found that 4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 them avoided going to the dentist unless they were in trouble--an attitud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reates conflict for the dental surgeon who is trained to help the patients and reli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ffering, but is regarded by patients as someone who inflicts distress. Kent [23],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survery of stresses encountered by dentists in practice found that the most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common problem included coping with difficult, anxious patients. The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complicated, anxious patients expect treatment to be painful, and their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s not modified by a painless experience. Thus, coping with anxiety mean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atients' preconceptions about treatment must be modified [24]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o prevent anxiety dentists should adopt more explicitly the role of dent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ducator. Furthermore, if the dentist becomes responsible for the long-term d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ealth of the patient he will inspire greater confidence. A major obstacle to the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 the dentist's role (identified by Bochier [24]) is the relative in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f visits. Bochier suggests that this might be overcome by interspersing conv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ntal consultations with sessions devoted purely to educational aim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erhaps conducted in small group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2350-7E1B-4C2E-A41C-70CB000D3C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Development of dental pho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It seems obvious that most people are anxious about dental treatment, beca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y are anticipating pain. Gale [25] demonstrated that the amount of fear could n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be specified from knowledge of the situation alone and he concluded that a f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mount of dental anxiety was caused by uncertainty about particular treatments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ardle [26] asked patients awaiting dental treatment how anxious they felt and 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much pain they expected from several dental procedures. She found, not unexpectedly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at highly anxious patients were more fearful of pain. Undoubtedly, 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experience shapes a patient's response to treatment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Hallstrom and Halling [27] examined 784 women from a representative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sample in G0teborg, Sweden, and found a prevalence of severe dental anxiety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ental phobia in 13.4% of the population studied. Previous studies have found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prevalence rate of between 8% and 15%. The prevalence was much great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women with lower school education and those from the lower social classes. In 88%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phobia onset occurred before age 20, but only 11% were aware of having be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exposed to anxiety-provoking dental treatment prior to the development of phobias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age of onset was similar to those in other studies, but the tack of a provo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factor is in contrast with other work [27]. All studies agree, however, t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the disorder runs a chronic course. It seems that a number of factors contribute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ental anxiety. Uncertainty and fear result from previous learning that includes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entist's behavior and a biological propensity to develop anxiety, which leads to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avoidance of dental treatment. Once this anxiety becomes too great, a phobia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ental treatment will develop and the patient will avoid all contact with the dentist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F47B-145D-4E56-AC8F-ACB354DE00C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47F4-1436-4529-B555-AE776ED9594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800" spc="-1" strike="noStrike">
                <a:solidFill>
                  <a:srgbClr val="000000"/>
                </a:solidFill>
                <a:latin typeface="Arial"/>
              </a:rPr>
              <a:t>Management of anx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Once a patient becomes conditioned to be fearful of dentistry, the dentist m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obviously attempt to allay such fears. Mild anxiety may be treated by reassurance</a:t>
            </a:r>
            <a:r>
              <a:rPr b="0" lang="en-CA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6940-9AA3-4E7C-A70F-39BCF596461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laim that men are equally affected but more women seek treat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2562-BD75-48E3-AAF4-E44C912B68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7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93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3"/>
          </p:nvPr>
        </p:nvSpPr>
        <p:spPr>
          <a:xfrm>
            <a:off x="8076960" y="640080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 Alosa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Psychiatry &amp; Dentistry II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had Alosaimi MBBS, SSC-Psy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tion liaison psychiatr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g Saud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Clinical features 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f Chronic idiopathic facial pain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P and AO often coexist or occur sequentially in the same pati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idiopathic facial pain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ssociated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hronic pains such as headache, neck and back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bromyal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uri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ominal pain (irritable bow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vic p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algic encephalomyelit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S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verview creates a picture of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pain-vulnerable person or a whole body pain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ETIOLOGY 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f Chronic idiopathic facial pain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88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Idiopathic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Both psychosocially and biochemically vulner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psychosocial features inclu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an unstable or inadequate parental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poor adaptation to school or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marital and financial difficul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chronic illness in the fam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bereav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fewer sources of emotiona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ne study : 43% of such patients were psychiatrically normal, 35% had a depressive illness, and 22% were diagnosed as mixed neurosis cas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A small number : personality disorder with marked somatization or psycho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ETIOLOGY</a:t>
            </a:r>
            <a:r>
              <a:rPr b="0" lang="en-CA" sz="40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f Chronic idiopathic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 facial pain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ET : increased contralateral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cingulate cortex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ity in response to both heat and nociceptive 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is suggests an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enhanced alerting mechanism in response to peripheral stimuli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hich could therefore be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perceived as pain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 summar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emotional strain +  local physical stress +  biochemically and psychologically vulnerable subjec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lease of neuropeptides in the "target tissues" such as the joint capsule, muscles, periodontal membrane, or dental pul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5" descr="http://t2.gstatic.com/images?q=tbn:ANd9GcSjSbYMCpdYnvIuoN3JukMCkN5Gvwf_1vUdE6fm0vtkENBfBTTOug"/>
          <p:cNvPicPr/>
          <p:nvPr/>
        </p:nvPicPr>
        <p:blipFill>
          <a:blip r:embed="rId1"/>
          <a:stretch/>
        </p:blipFill>
        <p:spPr>
          <a:xfrm>
            <a:off x="7467480" y="609480"/>
            <a:ext cx="153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TREATMEN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7521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unselling about lifestyle and support in any emotional cr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ose with complex emotional history, depression, or agitated or psychotic states should be treated by a liaison psychiatrist or a psycholog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Joint clinic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is needed to avoid the perceived stigma of a psychiatric diagno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edications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Tricyclic antidepressant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e.g nortriptyl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*S/E: Drowsiness and xerostomia, weight gain and constip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3300"/>
                </a:solidFill>
                <a:latin typeface="Times New Roman"/>
              </a:rPr>
              <a:t>SSRI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e.g. Fluoxet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gnitive therapy ± dru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Hypno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Course &amp; prognosi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70% of patients respond to appropriate history taking and med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ronic course because of both a biochemical and psychological trait 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tients  need continued care as in cases of migraine or trigeminal neuralg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t3.gstatic.com/images?q=tbn:ANd9GcQTUy087uMvIDElcCGOTok-nSHeF0ecIEgpLoGcaAQqIIKfrdWX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BODY DYSMORPHIC DISORDER (BDD)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DD is the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belief in a cosmetic defect in a person of normal appear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complaint may range from mild unattractiveness to uglin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ace and its components (the teeth, nose, mouth, ears, eyes, and chin) make up a large percentage of structures for which patients seek and undergo cosmetic surge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se patients often have bizarre complaints about their profile or their s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disorder is in fact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not a phobia at all but rather an obsession, or a delusion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Types of </a:t>
            </a:r>
            <a:r>
              <a:rPr b="0" lang="en-CA" sz="40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BDD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Times New Roman"/>
              </a:rPr>
              <a:t>Ethnic dysphoria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: Dissatisfaction with ethnic features , first vocalized in early adolesc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Times New Roman"/>
              </a:rPr>
              <a:t>Sexual or gender dysphoria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: an obsessional need to change gender ( e.g. reducing the masculine features of a male transsexu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993300"/>
                </a:solidFill>
                <a:latin typeface="Times New Roman"/>
              </a:rPr>
              <a:t>Treatment in  collaboration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th a unit specializing in the appropriate psychiatric, dental, hormonal, and surgical sexual realig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Risk factors of BD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motionally 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cially iso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roverted individuals with no sexu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Environmental stresses such as employment problems, difficulties in personal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ute events such as bereav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 morbid affective state such as depressio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 </a:t>
            </a: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Treatment of BDD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problem is whether to do what the patient wants, what the patient needs, or no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The outcome of surgery or repeated  surgeries are usually unsatisfactor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except where some recognizable deformity has been carefully corrected, patient's expectations are realistic and the patient appears able to withstand an imperfect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relationship between the surgeon and patient is a vital factor in achieving good results and a psychiatrist should be included in clinical manag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DD patients may respond well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to Fluoxetine, both alone and in combination with cognitive therap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Ms. Sara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rah is 19 years old, girl, university stud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e presented with a strong feeling of having an ugly appearance of her teeth despite multiple orthodontic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er teeth appearance looks OK for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he insisted you do one more corr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ow can you manag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farm3.static.flickr.com/2450/3798646090_a35db13fdc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RAL ULC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Times New Roman"/>
              </a:rPr>
              <a:t>Aphthous ulcers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shallow, painful oral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tiology : unknown ? autoimmune disturbance ? emotional problems may precipitate their le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agement: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Ulcer diary :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hen patients complain of recurrent crops of painful ulc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atient notes the number of ulcers present in the mouth and any associated factors on a day-to-day ba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6680" indent="-4366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Ttricyclic antidepressan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will often produce a marked reduction in the number, frequency, and duration of the ulcers, making them more amenable to topical steroid thera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RAL ULC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Times New Roman"/>
              </a:rPr>
              <a:t>Factitious ulceration (stomatitis artifac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history is vague and the lesion either persists longer or recurs more frequently than one would exp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most common lesion is due to cheek chewing( bilateral and painles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nfortunately, there appears to be no age, intellectual, or professional barriers( ?medical background) to this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omen  more prone than 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t is often associated with one of the pain syndr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Types of 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itious ulcera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True malingerers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where the injury is consciously aggravated for monetary gain or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the avoidance of some responsibilit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Munchausen's syndrom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which is a persistent, incurable psychopathic way of life that offers no obvious advantage other than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requiring medical and nursing car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CA" sz="2400" spc="-1" strike="noStrike">
                <a:solidFill>
                  <a:srgbClr val="993300"/>
                </a:solidFill>
                <a:latin typeface="Times New Roman"/>
              </a:rPr>
              <a:t>Part of an emotional instabilit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such as a 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personality disorder,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here the underlying problem is a disturbance in personal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t is important to protect the patient from inappropriate investigations and trea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rexia nervosa and bulimia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430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Times New Roman"/>
              </a:rPr>
              <a:t>Anorexia nervosa</a:t>
            </a:r>
            <a:r>
              <a:rPr b="0" lang="en-C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s a pathological avoidance of food in which the subject has a delusional body imag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spite emaciation, they see themselves as being fat and, apart from limiting their food intake, there is often a covert practice of vomi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Times New Roman"/>
              </a:rPr>
              <a:t>The bulimic nervosa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subject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by self-induced vomiting, maintains a normal weight despite indulging in eating bi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oth conditions eventually lead to erosion of the teeth and caries due to the constantly regurgitated gastric ju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-41796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reatment requires the cooperation of the patient, a restorative dentist, and a psychiatr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Dental phob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98" name="Picture 2" descr="http://www.dentalblogs.com/assets/scared-pt.jpg"/>
          <p:cNvPicPr/>
          <p:nvPr/>
        </p:nvPicPr>
        <p:blipFill>
          <a:blip r:embed="rId1"/>
          <a:stretch/>
        </p:blipFill>
        <p:spPr>
          <a:xfrm>
            <a:off x="1371600" y="2362320"/>
            <a:ext cx="5943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Dental phobia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0" lang="en-CA" sz="2200" spc="-1" strike="noStrike">
                <a:solidFill>
                  <a:srgbClr val="ff0000"/>
                </a:solidFill>
                <a:latin typeface="Times New Roman"/>
              </a:rPr>
              <a:t>is normal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for individuals to </a:t>
            </a:r>
            <a:r>
              <a:rPr b="0" lang="en-CA" sz="2200" spc="-1" strike="noStrike">
                <a:solidFill>
                  <a:srgbClr val="ff0000"/>
                </a:solidFill>
                <a:latin typeface="Times New Roman"/>
              </a:rPr>
              <a:t>feel some anxiety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about dental treat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revalence: </a:t>
            </a:r>
            <a:r>
              <a:rPr b="0" lang="en-CA" sz="2200" spc="-1" strike="noStrike">
                <a:solidFill>
                  <a:srgbClr val="ff0000"/>
                </a:solidFill>
                <a:latin typeface="Times New Roman"/>
              </a:rPr>
              <a:t>8-13%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, F&gt;M, onset ≤20 years old, chronic cour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odd and Walker (1980)  interviewed 6000 British citizens and found that </a:t>
            </a:r>
            <a:r>
              <a:rPr b="0" lang="en-CA" sz="2200" spc="-1" strike="noStrike">
                <a:solidFill>
                  <a:srgbClr val="ff0000"/>
                </a:solidFill>
                <a:latin typeface="Times New Roman"/>
              </a:rPr>
              <a:t>43%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of them avoided going to the dentist unless they were in trou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Kent (1984) , in a survey of the  </a:t>
            </a:r>
            <a:r>
              <a:rPr b="0" lang="en-CA" sz="2200" spc="-1" strike="noStrike">
                <a:solidFill>
                  <a:srgbClr val="ff0000"/>
                </a:solidFill>
                <a:latin typeface="Times New Roman"/>
              </a:rPr>
              <a:t>worst stresses encountered by dentists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: coping with difficult, anxious patient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situation is complicated.....!!!!!!!!!anxious patients expect treatment to be painful, and their anxiety is not modified by a painless experienc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Coping with anxiety means that patients' preconceptions about treatment must be modified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Dental phobia (vicious cycle)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www.identalhub.com/userfiles/image/Dental%20Anxiety%20pic2.jpg"/>
          <p:cNvPicPr/>
          <p:nvPr/>
        </p:nvPicPr>
        <p:blipFill>
          <a:blip r:embed="rId2"/>
          <a:stretch/>
        </p:blipFill>
        <p:spPr>
          <a:xfrm>
            <a:off x="990720" y="1523880"/>
            <a:ext cx="68292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isk factors of 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al phobia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Anticipating p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Uncertainty about particular treat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Bad previous experienc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Lower school educ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Lower social cla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Dentist's behaviou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Biological propensity to develop anxie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Prevention of 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al phobia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-4039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ublic dental health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ntal Care need to b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long-te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freque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regula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by one denti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Times New Roman"/>
              </a:rPr>
              <a:t>including sessions devoted purely to educational aims, perhaps conducted in small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ists are trained to provide treatment for patients with straightforward problems that respond to routine therapy and do not re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may present to dentists and complain solely of resistant chronic or recurrent physical symptoms such as toothache, headache, and facial p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++ inappropriate investigations &amp; treatments these physical symptoms are revealed to be due to emotional disturb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xiety in dental setting may manifest itself as a phobia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a dysmorphic concern about certain aspects of patients’ appear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Management of Dental phobia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2193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assur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equate pre-treatment analgesia or a mild tranquilizer such as diazepam? Addi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Use of distraction such as listening to relaxation ta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Giving the patient some control over their treatments such as raising an arm to stop dri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gnitive behavioural therap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ferral to a psychiat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20000"/>
                </a:solidFill>
                <a:latin typeface="Times New Roman"/>
              </a:rPr>
              <a:t>شعرت بالكثير من الخجل من نفسي لما عرفت سيرة هذا </a:t>
            </a:r>
            <a:r>
              <a:rPr b="0" lang="en-CA" sz="3600" spc="-1" strike="noStrike">
                <a:solidFill>
                  <a:srgbClr val="420000"/>
                </a:solidFill>
                <a:latin typeface="Times New Roman"/>
              </a:rPr>
              <a:t>!!!!!!!</a:t>
            </a:r>
            <a:r>
              <a:rPr b="0" lang="ar-SA" sz="3600" spc="-1" strike="noStrike">
                <a:solidFill>
                  <a:srgbClr val="420000"/>
                </a:solidFill>
                <a:latin typeface="Times New Roman"/>
              </a:rPr>
              <a:t>الطبيب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42732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ttp://www.safeshare.tv/v/0Az-twgqb_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http://profile.ak.fbcdn.net/hprofile-ak-snc4/hs341.snc4/41568_146424855386655_3414_n.jpg"/>
          <p:cNvPicPr/>
          <p:nvPr/>
        </p:nvPicPr>
        <p:blipFill>
          <a:blip r:embed="rId1"/>
          <a:stretch/>
        </p:blipFill>
        <p:spPr>
          <a:xfrm>
            <a:off x="2743200" y="1752480"/>
            <a:ext cx="4114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420000"/>
              </a:solidFill>
              <a:latin typeface="Times New Roman"/>
              <a:ea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pic>
        <p:nvPicPr>
          <p:cNvPr id="215" name="Rectangle 3" descr=""/>
          <p:cNvPicPr/>
          <p:nvPr/>
        </p:nvPicPr>
        <p:blipFill>
          <a:blip r:embed="rId2"/>
          <a:stretch/>
        </p:blipFill>
        <p:spPr>
          <a:xfrm>
            <a:off x="2535120" y="2766960"/>
            <a:ext cx="41036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Outline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Classification of mental disor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onic idiopathic facial p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 dysmorphic disorder (BD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ulc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rexia nervosa and bulim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tal phob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General classification</a:t>
            </a:r>
            <a:br>
              <a:rPr sz="3600"/>
            </a:b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Neurosis versus Psychosi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828800"/>
          <a:ext cx="8839440" cy="480060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ych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ur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43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tal disorders in which the patient is unable to distinguish between subjective experience and reality, as evidenced by delusions, hallucinations and lack of insigh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* * 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: schizophrenia, mood disorders, delirium, delusional disord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 *  *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 are abnormal in quality(e.g. delus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ly less severe forms of psychiatry disorders in which the patient is able to distinguish between subjective experience and reality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lack of insight, delusions or hallucination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* *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: anxiety, panic &amp; phobic disorder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* *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 are abnormal in quantity (e.g. anxiet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The Diagnostic and Statistical Manual (DSM) classification of mental disorder </a:t>
            </a:r>
            <a:r>
              <a:rPr b="1" lang="en-US" sz="28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365 disorders)</a:t>
            </a:r>
            <a:br>
              <a:rPr sz="3200"/>
            </a:b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orders usually first diagnosed in infancy, childhood, or adolesc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irium, dementia and amnestic, and other cognitive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ntal disorders due to a general medical condi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stance – related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izophrenia and other Psychotic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od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xiety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atoform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titious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sociative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xual and gender identity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ting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ulse – control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justment disord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conditions that may be a focus of clinical atten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99240" indent="-399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Chronic idiopathic facial pain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alence  is generall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 age for facial arthromyalgia is 3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 age for atypical facial pain is 55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s &gt; males   4 :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Clinical features of Chronic idiopathic facial pain 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880" y="1676520"/>
          <a:ext cx="8458200" cy="4735440"/>
        </p:xfrm>
        <a:graphic>
          <a:graphicData uri="http://schemas.openxmlformats.org/drawingml/2006/table">
            <a:tbl>
              <a:tblPr/>
              <a:tblGrid>
                <a:gridCol w="1579680"/>
                <a:gridCol w="6878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mptom complex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inical fea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al arthromyalgia (FA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- or bilateral pain in the temporomandibular joint (TMJ) and associated craniofacial musculature, and there may also be a sense of fullness, popping, or tinnitus in the 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23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ypical facial pain (AFP) (or idiopathic facial pain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continuous ache with intermittent excruciating episodes, localized to the non muscular, non joint areas of the face. The pain may be uni- or bilateral and may persist for months or yea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0000"/>
                </a:solidFill>
                <a:latin typeface="Times New Roman"/>
                <a:ea typeface="Times New Roman"/>
              </a:rPr>
              <a:t>Clinical features of Chronic idiopathic facial pain</a:t>
            </a:r>
            <a:endParaRPr b="0" lang="en-US" sz="3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280" y="1219320"/>
          <a:ext cx="8763120" cy="5549760"/>
        </p:xfrm>
        <a:graphic>
          <a:graphicData uri="http://schemas.openxmlformats.org/drawingml/2006/table">
            <a:tbl>
              <a:tblPr/>
              <a:tblGrid>
                <a:gridCol w="2211480"/>
                <a:gridCol w="6551640"/>
              </a:tblGrid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mptom complex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linical featu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12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ypical odontalgia (A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ental variant, which is diagnosed in t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ence of detectable dental patholog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l dysesthe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lu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urning discomfort in the tongue (glossopyrosis), gingiva, or li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persistently dry mouth in the presence of sali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disturbance of tas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nture intoler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persistently uncomfortable occlusion (phantom bite or occlusal hyperawarenes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9:03:47Z</dcterms:created>
  <dc:creator>hec</dc:creator>
  <dc:description/>
  <dc:language>en-US</dc:language>
  <cp:lastModifiedBy>Fahad</cp:lastModifiedBy>
  <dcterms:modified xsi:type="dcterms:W3CDTF">2010-12-24T19:12:47Z</dcterms:modified>
  <cp:revision>56</cp:revision>
  <dc:subject/>
  <dc:title>Psychiatry &amp; Dentistry II</dc:title>
</cp:coreProperties>
</file>