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323D-DA9E-41AF-9E43-A15180C1E8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1088-0CDF-4EC5-B922-F9CED49099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Malocclusion ,bruxism , tension headache reasons  are not supported in controlled trials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BA0-F112-47C4-B221-9B9543363D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fortunately the chronicity of these pains and their unrecognized psych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atures invariably lead to many patients being referred elsewhere or abandon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is reflected in a formal audit of 813 new referrals to this department ove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th period. Their mean pain duration was 4.2 years (median 1-2 years) desp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ing been seen by an average of two consultants. Hence, 25% were 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errals. This reflects a major expenditure to the Health Service as well 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k tim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icyclic antidepressant (high placebo response &amp;high relapse if stop treatments before 6 months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020F-772F-49FC-BB33-13238FB1DC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and, frequently, the patient seeks treatment to correct the supposed deformity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nic dysphori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issatisfaction with ethnic features is used to describe pat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who desire a change from an Oriental or Negro to a Caucasian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requently, the complaint is first vocalized in early adolescence and the pat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y report being teased at school about their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xual or gender dysphoria is an obsessional need to change gender. This 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problem may present the maxillofacial surgeon with the task of reduc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sculine features of a male transsexual. Such cases should only be treated in collab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with a unit specializing in the appropriate psychiatric, hormonal, and sur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xual realignment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orselli [18], who first described dysmorphophobia, emphasized that a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0D2C-8791-460C-9018-53B337070E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could be perfectly healthy, perhaps emotionally rather sensitive, and then sudde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velop the complaint and become preoccupied by it. Patients tend to be soci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isolated, sensitive, introverted individuals with no sexual experience. Environm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tresses such as employment problems, difficulties in personal relationships,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cute events such as bereavements, are liable to concentrate attention on facial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 morbid affective state such as depression may also make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ore likely to express dissatisfaction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DD is a rare symptom in isolation, and a necessary psychiatric evalua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ch patients requesting cosmetic surgery is not always possible. Few psychiat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understand the nature and scope of cosmetic surgery and many patients refuse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e psychiatrists. The problem is whether to do what the patient wants, what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needs, or nothing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outcome of surgery is usually unsatisfactory, except where some recogniz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formity has been carefully corrected. Reich [19], who examined 3000 patients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ggested that surgery should proceed if the patient's expectations are realistic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patient appears able to withstand an imperfect result. But, with no deform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r minimal deformity and inappropriate concern the prognosis is poor. Psychia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nagement may be very difficult because of poor drug compliance and a tend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ward "surgeon shopping" (seeking numerous surgical opinions)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relationship between the surgeon and patient is a vital factor in achie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good results and a psychiatrist should be included in clinical management. It is ess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 have several meetings preoperatively so that mutual trust can be established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tailed discussions about possible surgery and close follow-up after surg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e all necessary if the patient is to be satisfied. Repeat surgery is invariably unsuccessfu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re is also evidence that BDD patients respond well to Fluoxetine, b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lone and in combination with cognitive therapy. [20]. Joint treatment by a surge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nd a psychiatrist may be most optima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F037-2619-4C97-8219-8FA1E4D379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DD is a rare symptom in isolation, and a necessary psychiatric evalua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ch patients requesting cosmetic surgery is not always possible. Few psychiat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understand the nature and scope of cosmetic surgery and many patients refuse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e psychiatrists. The problem is whether to do what the patient wants, what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needs, or nothing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outcome of surgery is usually unsatisfactory, except where some recogniz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formity has been carefully corrected. Reich [19], who examined 3000 patients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ggested that surgery should proceed if the patient's expectations are realistic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patient appears able to withstand an imperfect result. But, with no deform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r minimal deformity and inappropriate concern the prognosis is poor. Psychia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nagement may be very difficult because of poor drug compliance and a tend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ward "surgeon shopping" (seeking numerous surgical opinions)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relationship between the surgeon and patient is a vital factor in achie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good results and a psychiatrist should be included in clinical management. It is ess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 have several meetings preoperatively so that mutual trust can be established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tailed discussions about possible surgery and close follow-up after surg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e all necessary if the patient is to be satisfied. Repeat surgery is invariably unsuccessfu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re is also evidence that BDD patients respond well to Fluoxetine, b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lone and in combination with cognitive therapy. [20]. Joint treatment by a surge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nd a psychiatrist may be most optima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E4B-1F04-4ACD-8649-0DB74E3ED5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Aphthous ul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troublesome condition of shallow, painful oral ulcers varies in inc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sporadic single lesions to recurrent crops. The exact etiology is unknown al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condition often has the features of an autoimmune disturbance. Desp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, many patients are aware that emotional problems may precipitate their lesion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 this reason, it is useful, where patients complain of recurrent crops of pain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lcers, to obtain a full and careful history, including social and emotional facto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should be followed-up by an ulcer diary, where the patient notes th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 ulcers present in the mouth and any associated factors on a day-to-day basis.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dation or a tricyclic antidepressant will often produce a marked reduction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ber, frequency, and duration of the ulcers, making them more amenable to top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eroid therap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D48-D568-4A7B-B733-DE41E2D119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700" spc="-1" strike="noStrike">
                <a:solidFill>
                  <a:srgbClr val="000000"/>
                </a:solidFill>
                <a:latin typeface="Arial"/>
              </a:rPr>
              <a:t>Factitious ulceration (stomatitis artifact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Factitious ulceration is the intraoral counterpart of the well-recognized dermatit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rtifacta [21]. The lesions vary in their appearance according to the manner 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hich they are created. The most common and least troublesome lesion is due to cheek chewing. Here, usually a young, anxious, individual continually chews th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buccal mucosa producing wide areas of peeling, macerated, hyperkeratinized epidermis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t is usually bilateral and painless and may be associated with facial arthromyal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ith facial arthromyalgia. Similarly, lip biting may produce fissures, wh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reas of hyperkeratosis or a mucus extravasation cyst. In the older, anxious or agita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atient, lip chewing produces varicosities so that the vermilion border becom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uriously cyanotic in appearance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Greater difficulty may be experienced in recognizing the discrete lesion that loc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brasion with a finger nail or sharp instrument may produce. Occasionally, caust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gents such as tablets or undiluted antiseptics may be used. The condition m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mimic a natural lesion, particularly if the patient has some knowledge of dentist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or medicine and knows how to produce such a lesion. Unfortunately, there appea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to be no age, intellectual, or professional barriers to this problem, although wom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seem to be more prone than men. The history of this problem is characteristical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vague and the lesion either persists longer or recurs more frequently than 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ould expect. It is often associated with one of the pain syndromes, and the pati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ppears to produce the lesion to validate an organic diagnosis for their pain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Sneddon [21] describes three groups of definatitis artifacta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True malingerers, where the injury is consciously aggravated for monet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gain or the avoidance of some responsibility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Munchausen's syndrome, which is a persistent, incurable psychopathic way o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life that offers no obvious advantage other than requiring medical and nurs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are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art of an emotional instability, such as a personality disorder, where the underly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roblem is a disturbance in personal relationships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t is rare to obtain an acknowledgment or an explanation as to how the lesions a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roduced, and it is often difficult to get the patient or his/her family to agree to psychiatr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help---nevertheless, this is important to protect the patient from inappropri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nvestigations and treatment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4169-357C-40DF-B7D4-382716440B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neddon  describes three groups of definatitis artifact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rare to obtain an acknowledgment or an explanation as to how the lesions are produced, and it is often difficult to get the patient or his/her family to agree to psychiatric help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A7D-0782-46EF-8F52-B5F63AAB98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resentation of anxiety problems to the d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xiety problems may vary from a simple overreaction to a dental procedur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aggressive responses. Anxious, obsessional, or depressed patients may ampl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in or become agitated after what appears to the dentist to be a normal consult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ilarly, an acute hypochondrial reaction may be precipitated by an inn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rk or trivial investig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xiety provoked by dental treatment is a problem for both patients and d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tioners. It is normal for individuals to feel some anxiety about dental treatm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dd and Walker [22] interviewed 6000 British citizens and found that 4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them avoided going to the dentist unless they were in trouble--an attitud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s conflict for the dental surgeon who is trained to help the patients and r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ffering, but is regarded by patients as someone who inflicts distress. Kent [23],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urvery of stresses encountered by dentists in practice found that the most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common problem included coping with difficult, anxious patients.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complicated, anxious patients expect treatment to be painful, and their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not modified by a painless experience. Thus, coping with anxiety mean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tients' preconceptions about treatment must be modified [24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prevent anxiety dentists should adopt more explicitly the role of d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ducator. Furthermore, if the dentist becomes responsible for the long-term d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ealth of the patient he will inspire greater confidence. A major obstacle to the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the dentist's role (identified by Bochier [24]) is the relative in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visits. Bochier suggests that this might be overcome by interspersing 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ntal consultations with sessions devoted purely to educational aim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haps conducted in small group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3EF-2E7A-4032-9258-624B0D7E52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evelopment of dental pho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t seems obvious that most people are anxious about dental treatment, beca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y are anticipating pain. Gale [25] demonstrated that the amount of fear could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be specified from knowledge of the situation alone and he concluded that a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mount of dental anxiety was caused by uncertainty about particular treatment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ardle [26] asked patients awaiting dental treatment how anxious they felt and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uch pain they expected from several dental procedures. She found, not unexpectedl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at highly anxious patients were more fearful of pain. Undoubtedly, 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experience shapes a patient's response to treatment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llstrom and Halling [27] examined 784 women from a representative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ample in G0teborg, Sweden, and found a prevalence of severe dental anxiet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phobia in 13.4% of the population studied. Previous studies have found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prevalence rate of between 8% and 15%. The prevalence was much great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omen with lower school education and those from the lower social classes. In 88%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phobia onset occurred before age 20, but only 11% were aware of having b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exposed to anxiety-provoking dental treatment prior to the development of phobia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age of onset was similar to those in other studies, but the tack of a provo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factor is in contrast with other work [27]. All studies agree, however, t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isorder runs a chronic course. It seems that a number of factors contribut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anxiety. Uncertainty and fear result from previous learning that include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ist's behavior and a biological propensity to develop anxiety, which leads to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voidance of dental treatment. Once this anxiety becomes too great, a phobia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treatment will develop and the patient will avoid all contact with the dentist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B892-EC9E-4534-B497-971996F0E5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EAA-F48F-4413-98D3-6A4FE33E12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800" spc="-1" strike="noStrike">
                <a:solidFill>
                  <a:srgbClr val="000000"/>
                </a:solidFill>
                <a:latin typeface="Arial"/>
              </a:rPr>
              <a:t>Management of anx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nce a patient becomes conditioned to be fearful of dentistry, the dentist m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bviously attempt to allay such fears. Mild anxiety may be treated by reassu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C12-F4BE-4B8E-AF2D-FE80FB20E0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laim that men are equally affected but more women seek trea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E8C-7335-4BCC-AE1C-5094B6E433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8076960" y="64008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Alosa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Psychiatry &amp; Dentistry II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had Alosaimi MBBS, SSC-Ps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liaison psychiat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P and AO often coexist or occur sequentially in the same pati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idiopathic facial pain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ssociated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hronic pains such as headache, neck and back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omyal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ri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pain (irritable bow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algic encephalomyelit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S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view creates a picture of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pain-vulnerable person or a whole body pain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ETIOLOGY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diopathic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Both psychosocially and biochemically vulner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psychosocial features inclu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an unstable or inadequate parental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poor adaptation to school or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marital and financial difficu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chronic illness in the 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berea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fewer sources of emotion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e study : 43% of such patients were psychiatrically normal, 35% had a depressive illness, and 22% were diagnosed as mixed neurosis cas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 small number : personality disorder with marked somatization or psycho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ETIOLOGY</a:t>
            </a:r>
            <a:r>
              <a:rPr b="0" lang="en-CA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T : increased contralateral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cingulate cortex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ity in response to both heat and nociceptive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s suggests an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enhanced alerting mechanism in response to peripheral stimuli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ich could therefore b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erceived as pai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umma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emotional strain +  local physical stress +  biochemically and psychologically vulnerable subjec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ease of neuropeptides in the "target tissues" such as the joint capsule, muscles, periodontal membrane, or dental pu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http://t2.gstatic.com/images?q=tbn:ANd9GcSjSbYMCpdYnvIuoN3JukMCkN5Gvwf_1vUdE6fm0vtkENBfBTTOug"/>
          <p:cNvPicPr/>
          <p:nvPr/>
        </p:nvPicPr>
        <p:blipFill>
          <a:blip r:embed="rId1"/>
          <a:stretch/>
        </p:blipFill>
        <p:spPr>
          <a:xfrm>
            <a:off x="7467480" y="609480"/>
            <a:ext cx="153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REATME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52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unselling about lifestyle and support in any emotional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ose with complex emotional history, depression, or agitated or psychotic states should be treated by a liaison psychiatrist or a psycholog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Joint clinic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s needed to avoid the perceived stigma of a psychiatric diagn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dicati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Tricyclic antidepressan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e.g nortripty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*S/E: Drowsiness and xerostomia, weight gain and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SSRI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e.g. Fluoxet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gnitive therapy ± dru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ypn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ourse &amp; prognos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70% of patients respond to appropriate history taking and med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ronic course because of both a biochemical and psychological trait 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ients  need continued care as in cases of migraine or trigeminal neural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t3.gstatic.com/images?q=tbn:ANd9GcQTUy087uMvIDElcCGOTok-nSHeF0ecIEgpLoGcaAQqIIKfrdW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BODY DYSMORPHIC DISORDER (BDD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DD is th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belief in a cosmetic defect in a person of normal appear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complaint may range from mild unattractiveness to ugl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ace and its components (the teeth, nose, mouth, ears, eyes, and chin) make up a large percentage of structures for which patients seek and undergo cosmetic surg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se patients often have bizarre complaints about their profile or their s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disorder is in fact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not a phobia at all but rather an obsession, or a delusio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ypes of </a:t>
            </a:r>
            <a:r>
              <a:rPr b="0" lang="en-CA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BDD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Ethnic dysphoria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: Dissatisfaction with ethnic features , first vocalized in early adolesc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Sexual or gender dysphoria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: an obsessional need to change gender ( e.g. reducing the masculine features of a male transsex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3300"/>
                </a:solidFill>
                <a:latin typeface="Times New Roman"/>
              </a:rPr>
              <a:t>Treatment in  collaboration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th a unit specializing in the appropriate psychiatric, dental, hormonal, and surgical sexual realig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Risk factors of BD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otionally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ially i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roverted individuals with no sexu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vironmental stresses such as employment problems, difficulties in person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ute events such as bereav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morbid affective state such as depress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reatment of BD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roblem is whether to do what the patient wants, what the patient needs, or n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he outcome of surgery or repeated  surgeries are usually unsatisfactor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except where some recognizable deformity has been carefully corrected, patient's expectations are realistic and the patient appears able to withstand an imperfect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relationship between the surgeon and patient is a vital factor in achieving good results and a psychiatrist should be included in clinical manag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DD patients may respond well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o Fluoxetine, both alone and in combination with cognitive therap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Ms. Sara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rah is 19 years old, girl, university stu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e presented with a strong feeling of having an ugly appearance of her teeth despite multiple orthodontic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er teeth appearance looks OK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e insisted you do one more cor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w can you manag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arm3.static.flickr.com/2450/3798646090_a35db13fd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RAL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Aphthous ulcers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shallow, painful oral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tiology : unknown ? autoimmune disturbance ? emotional problems may precipitate their le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agement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Ulcer diary 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patients complain of recurrent crops of painful ulc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atient notes the number of ulcers present in the mouth and any associated factors on a day-to-day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Ttricyclic antidepressan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will often produce a marked reduction in the number, frequency, and duration of the ulcers, making them more amenable to topical steroid thera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RAL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Factitious ulceration (stomatitis artifac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history is vague and the lesion either persists longer or recurs more frequently than one would exp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ost common lesion is due to cheek chewing( bilateral and painl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fortunately, there appears to be no age, intellectual, or professional barriers( ?medical background) to this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men  more prone than 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 is often associated with one of the pain syndr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ypes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itious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True malingerer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where the injury is consciously aggravated for monetary gain or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he avoidance of some responsibilit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Munchausen's syndrom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which is a persistent, incurable psychopathic way of life that offers no obvious advantage other than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requiring medical and nursing car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Part of an emotional instabilit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such as a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ersonality disorder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ere the underlying problem is a disturbance in personal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 is important to protect the patient from inappropriate investigations and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 nervosa and bulimia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Anorexia nervosa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s a pathological avoidance of food in which the subject has a delusional body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pite emaciation, they see themselves as being fat and, apart from limiting their food intake, there is often a covert practice of vom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The bulimic nervosa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bje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by self-induced vomiting, maintains a normal weight despite indulging in eating bi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conditions eventually lead to erosion of the teeth and caries due to the constantly regurgitated gastric ju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eatment requires the cooperation of the patient, a restorative dentist, and a psychiatr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Dental phob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8" name="Picture 2" descr="http://www.dentalblogs.com/assets/scared-pt.jpg"/>
          <p:cNvPicPr/>
          <p:nvPr/>
        </p:nvPicPr>
        <p:blipFill>
          <a:blip r:embed="rId1"/>
          <a:stretch/>
        </p:blipFill>
        <p:spPr>
          <a:xfrm>
            <a:off x="1371600" y="23623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Dental phob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is normal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for individuals to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feel some anxiety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bout dental treat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revalence: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8-13%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, F&gt;M, onset ≤20 years old, chronic cou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dd and Walker (1980)  interviewed 6000 British citizens and found that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43%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f them avoided going to the dentist unless they were in trou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Kent (1984) , in a survey of the 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worst stresses encountered by dentists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: coping with difficult, anxious pati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situation is complicated.....!!!!!!!!!anxious patients expect treatment to be painful, and their anxiety is not modified by a painless experienc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oping with anxiety means that patients' preconceptions about treatment must be modified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Dental phobia (vicious cycle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identalhub.com/userfiles/image/Dental%20Anxiety%20pic2.jpg"/>
          <p:cNvPicPr/>
          <p:nvPr/>
        </p:nvPicPr>
        <p:blipFill>
          <a:blip r:embed="rId2"/>
          <a:stretch/>
        </p:blipFill>
        <p:spPr>
          <a:xfrm>
            <a:off x="990720" y="1523880"/>
            <a:ext cx="68292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isk factors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Anticipating p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Uncertainty about particular treat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Bad previous experi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Lower school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Lower social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Dentist's behaviou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Biological propensity to develop anxie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evention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blic dental health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ntal Care need to b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long-te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frequ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by one denti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including sessions devoted purely to educational aims, perhaps conducted in small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sts are trained to provide treatment for patients with straightforward problems that respond to routine therapy and do not re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may present to dentists and complain solely of resistant chronic or recurrent physical symptoms such as toothache, headache, and facial 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++ inappropriate investigations &amp; treatments these physical symptoms are revealed to be due to emotional disturb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xiety in dental setting may manifest itself as a phobi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dysmorphic concern about certain aspects of patients’ appear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Management of 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su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equate pre-treatment analgesia or a mild tranquilizer such as diazepam? Add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distraction such as listening to relaxation t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ing the patient some control over their treatments such as raising an arm to stop dri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gnitive behavioural therap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ferral to a psychiat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20000"/>
                </a:solidFill>
                <a:latin typeface="Times New Roman"/>
              </a:rPr>
              <a:t>شعرت بالكثير من الخجل من نفسي لما عرفت سيرة هذا </a:t>
            </a:r>
            <a:r>
              <a:rPr b="0" lang="en-CA" sz="3600" spc="-1" strike="noStrike">
                <a:solidFill>
                  <a:srgbClr val="420000"/>
                </a:solidFill>
                <a:latin typeface="Times New Roman"/>
              </a:rPr>
              <a:t>!!!!!!!</a:t>
            </a:r>
            <a:r>
              <a:rPr b="0" lang="ar-SA" sz="3600" spc="-1" strike="noStrike">
                <a:solidFill>
                  <a:srgbClr val="420000"/>
                </a:solidFill>
                <a:latin typeface="Times New Roman"/>
              </a:rPr>
              <a:t>الطبيب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tp://www.safeshare.tv/v/0Az-twgqb_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profile.ak.fbcdn.net/hprofile-ak-snc4/hs341.snc4/41568_146424855386655_3414_n.jpg"/>
          <p:cNvPicPr/>
          <p:nvPr/>
        </p:nvPicPr>
        <p:blipFill>
          <a:blip r:embed="rId1"/>
          <a:stretch/>
        </p:blipFill>
        <p:spPr>
          <a:xfrm>
            <a:off x="2743200" y="1752480"/>
            <a:ext cx="4114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420000"/>
              </a:solidFill>
              <a:latin typeface="Times New Roman"/>
              <a:ea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2"/>
          <a:stretch/>
        </p:blipFill>
        <p:spPr>
          <a:xfrm>
            <a:off x="2535120" y="2766960"/>
            <a:ext cx="41036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utli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Classification of mental dis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idiopathic facial p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dysmorphic disorder (BD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ulc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 nervosa and buli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General classification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eurosis versus Psychosi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28800"/>
          <a:ext cx="883944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u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3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tal disorders in which the patient is unable to distinguish between subjective experience and reality, as evidenced by delusions, hallucinations and lack of insigh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: schizophrenia, mood disorders, delirium, delusional disord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 * 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are abnormal in quality(e.g. delus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ly less severe forms of psychiatry disorders in which the patient is able to distinguish between subjective experience and realit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lack of insight, delusions or hallucina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: anxiety, panic &amp; phobic disord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are abnormal in quantity (e.g. anxie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The Diagnostic and Statistical Manual (DSM) classification of mental disorder </a:t>
            </a: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365 disorders)</a:t>
            </a:r>
            <a:br>
              <a:rPr sz="32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orders usually first diagnosed in infancy, childhood, or adolesc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rium, dementia and amnestic, and other cognitive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tal disorders due to a general medical condi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tance – related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izophrenia and other Psychotic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d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xiety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atoform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itious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ociative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xual and gender identity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ing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ulse – control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nditions that may be a focus of clinical at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hronic idiopathic facial pain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 is general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 age for facial arthromyalgia is 3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 age for atypical facial pain is 55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 &gt; males   4 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of Chronic idiopathic facial pain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1676520"/>
          <a:ext cx="8458200" cy="4735440"/>
        </p:xfrm>
        <a:graphic>
          <a:graphicData uri="http://schemas.openxmlformats.org/drawingml/2006/table">
            <a:tbl>
              <a:tblPr/>
              <a:tblGrid>
                <a:gridCol w="1579680"/>
                <a:gridCol w="6878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ptom comple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cal 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arthromyalgia (FA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- or bilateral pain in the temporomandibular joint (TMJ) and associated craniofacial musculature, and there may also be a sense of fullness, popping, or tinnitus in the 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23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ypical facial pain (AFP) (or idiopathic facial pain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continuous ache with intermittent excruciating episodes, localized to the non muscular, non joint areas of the face. The pain may be uni- or bilateral and may persist for months or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of Chronic idiopathic facial pain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1219320"/>
          <a:ext cx="8763120" cy="5549760"/>
        </p:xfrm>
        <a:graphic>
          <a:graphicData uri="http://schemas.openxmlformats.org/drawingml/2006/table">
            <a:tbl>
              <a:tblPr/>
              <a:tblGrid>
                <a:gridCol w="2211480"/>
                <a:gridCol w="6551640"/>
              </a:tblGrid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ptom comple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cal 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ypical odontalgia (A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ental variant, which is diagnosed in 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detectable dental patholo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 dysesth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urning discomfort in the tongue (glossopyrosis), gingiva, or li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ersistently dry mouth in the presence of sal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disturbance of tas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ture intole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ersistently uncomfortable occlusion (phantom bite or occlusal hyperawarenes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03:47Z</dcterms:created>
  <dc:creator>hec</dc:creator>
  <dc:description/>
  <dc:language>en-US</dc:language>
  <cp:lastModifiedBy>Fahad</cp:lastModifiedBy>
  <dcterms:modified xsi:type="dcterms:W3CDTF">2010-12-24T19:12:47Z</dcterms:modified>
  <cp:revision>56</cp:revision>
  <dc:subject/>
  <dc:title>Psychiatry &amp; Dentistry II</dc:title>
</cp:coreProperties>
</file>