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739D-E619-4A9E-9C26-E8E530D9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33B2-99D6-4D06-BA19-8B0CDA50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2D72-52B1-4A01-98EB-F236F496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89AF-C3B9-4D98-8854-2B1C7139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187C-89CF-4D0D-84CC-71FBCC48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0498-E274-4715-88C3-28BB79C1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F4DE-42B0-4149-A346-79BC22A8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53F2-3238-4C91-BC19-FE79EC11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54FC-157C-497C-A5CA-7C27D173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37D3-AF49-4BA5-961A-A76B93D5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FEC7-E576-41E8-AC61-D8838542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C3AF-3851-4D3A-BF26-3204A768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7144-D386-4E9A-B897-BCB68FA6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E63A-CA79-4B70-B5C4-65AD26F5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AFCD-F21A-4531-9817-921BA680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A73D-7403-426D-8BD9-5006B4F5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A2C7-4BE5-4BDA-B92D-179140FF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86B6-629E-45C8-9749-732A4104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5305-08D9-4E91-99F1-E9678A11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F7E2-E35E-488E-BD89-DA339F7A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3D07-5312-4453-96F2-26418EF0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9532-44FF-440D-933B-172AD00E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A7FA-F9D6-496B-9F70-4B3C0132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F80D-9BCF-4B60-86A1-932E2884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7A49-5322-4F3F-88A9-3C109CBC2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B794-4C32-4AAA-9353-C2E8D5BC8A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Psychological &amp; Behavioral Changes of Adolescence    </a:t>
            </a:r>
            <a:br>
              <a:rPr sz="4000"/>
            </a:b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---------------- </a:t>
            </a:r>
            <a:br>
              <a:rPr sz="4400"/>
            </a:br>
            <a:br>
              <a:rPr sz="4400"/>
            </a:br>
            <a:r>
              <a:rPr b="1" i="1" lang="en-US" sz="1800" spc="-1" strike="noStrike">
                <a:solidFill>
                  <a:srgbClr val="e5ffff"/>
                </a:solidFill>
                <a:latin typeface="Tahoma"/>
              </a:rPr>
              <a:t>Fatima Al-Haidar</a:t>
            </a:r>
            <a:br>
              <a:rPr sz="1800"/>
            </a:br>
            <a:r>
              <a:rPr b="1" i="1" lang="en-US" sz="1800" spc="-1" strike="noStrike">
                <a:solidFill>
                  <a:srgbClr val="e5ffff"/>
                </a:solidFill>
                <a:latin typeface="Tahoma"/>
              </a:rPr>
              <a:t>Professor &amp; Consultant</a:t>
            </a:r>
            <a:br>
              <a:rPr sz="1800"/>
            </a:br>
            <a:r>
              <a:rPr b="1" i="1" lang="en-US" sz="1800" spc="-1" strike="noStrike">
                <a:solidFill>
                  <a:srgbClr val="e5ffff"/>
                </a:solidFill>
                <a:latin typeface="Tahoma"/>
              </a:rPr>
              <a:t>Child and Adolescent Psychiatrist</a:t>
            </a:r>
            <a:br>
              <a:rPr sz="1800"/>
            </a:br>
            <a:r>
              <a:rPr b="1" i="1" lang="en-US" sz="1800" spc="-1" strike="noStrike">
                <a:solidFill>
                  <a:srgbClr val="e5ffff"/>
                </a:solidFill>
                <a:latin typeface="Tahoma"/>
              </a:rPr>
              <a:t>College of Medicine-KSU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Adolescence is a period of global &amp; pervasive changes and not a matter of developmental crisis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266652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Most of adolescents pass through it smoothl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Averagely, it expands between 12 &amp; 20 yr of 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Physical Development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------------------------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- Puber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- Primary sexual charac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- Secondary sexual charac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- Increased hormonal rel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- Fast &amp; disproportional grow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- Health stat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Physical Development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cont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2800"/>
            </a:b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-------------------------------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Psychological consequences  of physical </a:t>
            </a:r>
            <a:r>
              <a:rPr b="0" lang="en-US" sz="3200" spc="-1" strike="noStrike" u="sng">
                <a:solidFill>
                  <a:srgbClr val="e5ffff"/>
                </a:solidFill>
                <a:uFillTx/>
                <a:latin typeface="Tahoma"/>
              </a:rPr>
              <a:t>changes: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                  →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embarrass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                  →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sensitivity to criticis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                  →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social iso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                  →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sad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                  →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irritability . . . . .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Cognitive Development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----------------------------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IQ &amp;  special tal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  Attention span &amp;concent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  Perception &amp; deep mean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  Memoriz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  Day-dre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  Thin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  Ideal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 Independ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Social Development</a:t>
            </a:r>
            <a:br>
              <a:rPr sz="3600"/>
            </a:br>
            <a:r>
              <a:rPr b="1" i="1" lang="en-US" sz="3600" spc="-1" strike="noStrike">
                <a:solidFill>
                  <a:srgbClr val="e5ffff"/>
                </a:solidFill>
                <a:latin typeface="Tahoma"/>
              </a:rPr>
              <a:t>------------------------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- Social relationship during adolesc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- Relationship with par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- Relationship with pe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Emotional Development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-----------------------------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- 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Extreme &amp; inconsis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  Impulsivity &amp; reckless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  Anger &amp; easily prov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  Looking for self-assertion / ident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  Authority resista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  Critical com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  Love &amp; rom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13:26:03Z</dcterms:created>
  <dc:creator>user</dc:creator>
  <dc:description/>
  <dc:language>en-US</dc:language>
  <cp:lastModifiedBy>Mac</cp:lastModifiedBy>
  <dcterms:modified xsi:type="dcterms:W3CDTF">2013-11-09T09:57:15Z</dcterms:modified>
  <cp:revision>17</cp:revision>
  <dc:subject/>
  <dc:title> Secrets of Adolescent Development ----------------   Fatima Al-Haidar Associate professor&amp; consultant child and adolescent psychiatrist KKUH</dc:title>
</cp:coreProperties>
</file>