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720E-DC28-4277-8BBD-6362DB7F1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483D-169A-4646-B3CA-F6108FF1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16FF-226A-4817-B37B-82BAF48B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143-44E1-4844-81D2-6A33FB83A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3CFC-EAA1-4ED6-BFB2-50C0F14F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635B-5B3A-4311-90AA-9092468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F452-27E6-439C-AA51-1A8ADCBF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BC61-B26B-41C4-A9ED-B4D8C0A1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A675-06CF-4390-AD6E-A882E660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6D91-15CF-488F-842C-A4CD544F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5CE5-27C6-4DA3-B54E-2AED0A86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C6E-CFB9-4A29-8B0E-F289241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86B7-D56F-47F0-9B4A-EC480C0A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0A77-B902-4093-8FE7-198E2311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26F3-9483-4427-B8D6-CAECF1C9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F939-855E-4B72-80AD-30792711E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51A77-72D1-4145-9453-2F7F8D2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ACDB-B2DC-4E94-A26C-5482E0E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8B74-4ADA-4867-A472-9AB6FC43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D77-EB9A-4527-9305-CAA4617B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A9DC-9EE3-4647-9D92-DB926F61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AAB-69B2-418D-9AD7-9EE43270F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B155-819F-49A1-BCE7-4CA6F246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FC5-90BF-4D74-957D-4FC8D158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E92C9-9920-42E9-952F-098DC4017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AB80-4E49-4F82-AFC1-9E5A834D4D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Psychological &amp; Behavioral Changes of Adolescence    </a:t>
            </a: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---------------- </a:t>
            </a:r>
            <a:br>
              <a:rPr sz="4400"/>
            </a:br>
            <a:br>
              <a:rPr sz="44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Fatima Al-Haidar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Professor &amp; Consultant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Child and Adolescent Psychiatrist</a:t>
            </a:r>
            <a:br>
              <a:rPr sz="1800"/>
            </a:br>
            <a:r>
              <a:rPr b="1" i="1" lang="en-US" sz="1800" spc="-1" strike="noStrike">
                <a:solidFill>
                  <a:srgbClr val="e5ffff"/>
                </a:solidFill>
                <a:latin typeface="Tahoma"/>
              </a:rPr>
              <a:t>College of Medicine-KSU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30592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dolescence is a period of global &amp; pervasive changes and not a matter of developmental crisi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266652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Most of adolescents pass through it smooth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Averagely, it expands between 12 &amp; 20 yr of 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hysical Development</a:t>
            </a:r>
            <a:br>
              <a:rPr sz="4000"/>
            </a:b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------------------------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Puber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Primary sexual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Secondary sexual charac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Increased hormonal rel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Fast &amp; disproportional grow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Health stat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hysical Development 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cont</a:t>
            </a: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br>
              <a:rPr sz="28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Psychological consequences  of physical </a:t>
            </a:r>
            <a:r>
              <a:rPr b="0" lang="en-US" sz="3200" spc="-1" strike="noStrike" u="sng">
                <a:solidFill>
                  <a:srgbClr val="e5ffff"/>
                </a:solidFill>
                <a:uFillTx/>
                <a:latin typeface="Tahoma"/>
              </a:rPr>
              <a:t>changes: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mbarrass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ensitivity to criticism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ocial iso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sad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                  →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irritability . . . . .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Cognitive Development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IQ &amp;  special tal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ttention span &amp;concentr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Perception &amp; deep mean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Memoriz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Day-drea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Thin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Ideal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Independe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Social Development</a:t>
            </a:r>
            <a:br>
              <a:rPr sz="3600"/>
            </a:br>
            <a:r>
              <a:rPr b="1" i="1" lang="en-US" sz="3600" spc="-1" strike="noStrike">
                <a:solidFill>
                  <a:srgbClr val="e5ffff"/>
                </a:solidFill>
                <a:latin typeface="Tahoma"/>
              </a:rPr>
              <a:t>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Social relationship during adolesc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Relationship with par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Relationship with p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Emotional Development</a:t>
            </a:r>
            <a:br>
              <a:rPr sz="3600"/>
            </a:b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-----------------------------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-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Extreme &amp; inconsist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Impulsivity &amp; recklessn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nger &amp; easily provoc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Looking for self-assertion / ident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Authority resistan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Critical 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-  Love &amp; roman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1T13:26:03Z</dcterms:created>
  <dc:creator>user</dc:creator>
  <dc:description/>
  <dc:language>en-US</dc:language>
  <cp:lastModifiedBy>Mac</cp:lastModifiedBy>
  <dcterms:modified xsi:type="dcterms:W3CDTF">2013-11-09T09:57:15Z</dcterms:modified>
  <cp:revision>17</cp:revision>
  <dc:subject/>
  <dc:title> Secrets of Adolescent Development ----------------   Fatima Al-Haidar Associate professor&amp; consultant child and adolescent psychiatrist KKUH</dc:title>
</cp:coreProperties>
</file>