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6A9-E552-45D1-86FE-17A9447D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510-0AF8-433C-89CB-A04EA3CE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748-D17B-4590-87A3-A6C31562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70DA-AAE9-41E1-AFFE-43BE1F00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28C-1D9D-4286-BE2B-1DE0CF00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9C71-804A-42EC-951C-44BB3184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2647-09C0-4702-8859-9DEA1729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14F5-B88F-4160-BE0E-38D880D60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5B5-23DE-4B6A-BA25-9FE6F773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06C-A082-451F-9BD1-4573AE40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4A53-4415-4988-9DE7-02D51F9B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53D-5744-4FED-A825-6E6156BB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B939-9343-4D11-8043-E8E5230B65C4}" type="slidenum">
              <a:rPr b="0" lang="ar-SA" sz="14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Psychotic Disorders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Fatima AlHaidar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Professor,Child &amp; Adolescent Psychiatrist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llege of Medicine/KSU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chizophrenia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Bipolar Affective Disorder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Organic Psychotic State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Gross Behavioral Change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Childhood Autism &amp; Psychosi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Schizophrenia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ifficulty expressing thoughts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ncoherence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Early childhood--------- paranoid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eadolescence --------- disorganized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odromal phase vs low intelligence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094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Is it schizophrenia or an early sign of  BAD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6094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ame management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Bipolar Affective Disorder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eceded by conduct disorder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BAD vs ADHD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Organic Psychotic State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elirium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ementia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10:56Z</dcterms:created>
  <dc:creator>www.arabswell.com</dc:creator>
  <dc:description/>
  <dc:language>en-US</dc:language>
  <cp:lastModifiedBy>Mac</cp:lastModifiedBy>
  <dcterms:modified xsi:type="dcterms:W3CDTF">2013-11-09T10:09:50Z</dcterms:modified>
  <cp:revision>4</cp:revision>
  <dc:subject/>
  <dc:title>Psychotic Disorders</dc:title>
</cp:coreProperties>
</file>