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96C2-6265-4752-B7E4-765C887DF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01A2-C13E-4AD6-A96B-A411CD37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97C7-EF4A-4AFE-B36A-48206EB09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9E61-A777-4FC2-9EEC-D62157CE4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4E45-318B-4F0F-9124-EEB50A34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7546-7531-4EE0-BEEF-2C38AA6F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C0F9-2A05-4FF9-9F7A-3199BA0B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A283-B806-4B82-86B8-6202A4F1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A650-E2B6-43E0-B3C2-0B310CB4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F6AE-515B-4A39-AAE3-634AE810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2DC3-708B-421E-B8DA-7CF37BC5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DF23-8481-4445-A230-E16CDA30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5278-EFDB-4C7D-9868-72242327D7AA}" type="slidenum">
              <a:rPr b="0" lang="ar-SA" sz="14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Psychotic Disorder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Fatima AlHaidar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rofessor,Child &amp; Adolescent Psychiatrist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College of Medicine/KSU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chizophrenia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Bipolar Affective Disorder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Organic Psychotic State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Gross Behavioral Change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hildhood Autism &amp; Psychosi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Schizophrenia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Difficulty expressing thought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6094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Incoherence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6094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Early childhood--------- paranoid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6094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Preadolescence --------- disorganized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6094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Prodromal phase vs low intelligence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6094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Is it schizophrenia or an early sign of  BAD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6094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ame management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Bipolar Affective Disorder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Preceded by conduct disorder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BAD vs ADHD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Organic Psychotic State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Delirium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Dementia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7:10:56Z</dcterms:created>
  <dc:creator>www.arabswell.com</dc:creator>
  <dc:description/>
  <dc:language>en-US</dc:language>
  <cp:lastModifiedBy>Mac</cp:lastModifiedBy>
  <dcterms:modified xsi:type="dcterms:W3CDTF">2013-11-09T10:09:50Z</dcterms:modified>
  <cp:revision>4</cp:revision>
  <dc:subject/>
  <dc:title>Psychotic Disorders</dc:title>
</cp:coreProperties>
</file>