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76A-DB03-4041-BD68-6B2BC014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446-5269-4392-8AE6-815BC770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2AC-88E7-4995-97D8-ED3B202B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C90-615B-42B0-9A6D-B7C14625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11D2-E1B4-44D4-9FFD-7A304687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32EB-2795-4751-92B8-92E9C912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8586-D825-4CB4-80A8-94E36222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7928-ED44-4982-BCE3-0E35EC6D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1364-122B-47C4-856D-395C131F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002E-351E-4163-A23F-9EE06864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E7F2-F30B-49F0-B37D-4012DE4A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C3E-D314-4249-9725-070EFFB5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C551-232E-4C66-9AB2-A3912CED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2B8C-6E02-4DFA-8361-15FCA54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B620-7553-4563-A02B-3FA2DB19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03A9-A465-4982-93F8-8DA05955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000E-B500-4F9A-B45E-1A915D22E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3ABE-B460-4EB4-8A0C-F64A4B76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62A-7F0F-4554-8C1C-4FD29F42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6C2-1D7A-40C9-8C60-957472B0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2296-0674-4133-B480-460A8D4E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595-0C14-4B52-82FA-C5DCB877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709-9576-4C18-B4D6-32B72E46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780-2153-4CB6-B723-4F25E715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2438-4BF9-49E5-83A7-4D4B91A83E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CB1C-3C29-41F1-9B9A-A92DAF8850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tc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TRICTIVE AND NONRESTRI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strictive clause contains information which is necessary for the sentence to deliver the meaning intended.  There should be no commas before and after the cla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-text ci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phrased or summarized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  Author name and date in parentheses; ex. (Cruz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 Esther Cruz (2003) notes…(says…,states…,argues…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a short qu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  (Cruz, 2003, p. 15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 Cruz (2003) “…..”(p.15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a long quotation – put name, year, and page number at the end; (Cruz, 2003, p.15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ered without quotation marks, italics or underl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each entry on a new line and double- space all lines; student papers use the hanging indent sty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ve one space after every end-punctuation ma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phabetize by the author’s last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last names, first initials, and middle initials of authors.  For two or more, use the ampersand(&amp;) instead of and before the last author’s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the first word and proper nouns in the title begin with a capital let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op the words Co., Inc., Publishers and the like but retain Books or P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 Publishers, give the city and add the state for all US cities except Baltimore, Boston, Chicago, Los Angeles, New York, Philadelphia, and San Francis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publishers in other countries, give city and country spelled out; no country is needed for the ff.:  Amsterdam, Jerusalem, London, Milan, Moscow, Paris, Rome, Stockholm, Tokyo, and Vien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tations for boo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 main parts:  author, date, title, publication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 with one auth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.  Cruz, E. (2003). Interactive technic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ing. Manila, Philippines: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shing Ho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k with 2 auth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llamarzo, P., &amp; Relis, J. (2003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oral communica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ila, Philippines:  UST Publis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or more authors – include all the authors; more than six, use et 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.  Firme, L., Vizconde, C., Dayao, H.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llamarzo, P., &amp; Panerio, 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009). English.com. Quez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ty, Philippines:  Ab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corporate auth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.  Boston Women’s Health Collect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2008). Our bodies, ourselves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w century. New York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on &amp; Schus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k with an author and an 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ey, J. (2008). Teaching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. Nunan, Ed.). New York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published disse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ers, M. (2002). Buffy the Vampi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ayer:  The Insurgence of television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formance text.  Unpublish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al dissertation, University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ronto, Ontario, Can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restri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overnment supports people who are sixty years old and above through the senior citizens’ discou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enior citizens who are aware of this program appreciate what the government is doing for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egislator who authored this law needs to be comm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ed article in a daily newspap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gelista, P. (2008,November 20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y the young were explo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hilippine Daily Inquirer, p.5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icle in a journal with continuous pag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son, P. (2007). The psychology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men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Journal of the Ameri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sychoanalytic Assoc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4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361-36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cle in a journal that pages each issue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ler-Kassner, L. &amp; Estrem, H. (2003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hinking research writing: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teracy in the composition class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m.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PA:  Writing Progra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dministration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), 119-13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onic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ety for Technical Commun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2008). Retrieved October 29,2008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stc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bort, R. C. (2005, August). Scienti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as an art and as a sc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Environmental Health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6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7)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p. 22-25. Retrieved October 18,2008, 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ed Academic ASAP datab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re 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people who are in excellent physical condition enjoy brisk walk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joggers’ path which has been purposely constructed for them is lined with attractive flowers and surrounded with shady tre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RESTRI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re clauses that are not really necessary in the sentence.  They just give additional information.  Commas are used to set off these nonessential ele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NONRESTRI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 pet dog, which is a poodle, got lo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oodle , which is named Chiquitita, is almost two years ol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r caretaker, who is responsible for her, is heart brok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family, who loves this pet dog, is also very unhappy over her disappear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ositives and adjective cla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. Sevilla, who is a multi-awarded scientist, has been a Dean in the college of Sc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rticles which he wrote have been published in several international journa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pet project, which is about stem cells, will be presented in a research cong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 research studies which are truly significant have earned him the title Scientist of the Ye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whether the clauses are Restrictive or Nonrestrictive.  Put commas where they are nee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gging which is a strenuous exercise is only for the f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gging shoes which are part of the attire have special feat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lking which is a less strenuous exercise is recommended for the elder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ying fit which is essential in counteracting the effects of aging should not be taken for gran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illnesses which can be alleviated through exercise are arthritis, rheumatism, and diabe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A- American Psychological Assoc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-text citations to acknowledge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ences –include only the sources used; appears on a separate sheet at the end of the pa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5:37:49Z</dcterms:created>
  <dc:creator> </dc:creator>
  <dc:description/>
  <dc:language>en-US</dc:language>
  <cp:lastModifiedBy> </cp:lastModifiedBy>
  <dcterms:modified xsi:type="dcterms:W3CDTF">2008-11-24T12:04:50Z</dcterms:modified>
  <cp:revision>3</cp:revision>
  <dc:subject/>
  <dc:title>RESTRICTIVE AND NONRESTRICTIVE CLAUSES</dc:title>
</cp:coreProperties>
</file>