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F33-C822-4212-AFC3-3402DBE2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02F-0CA1-4B59-B2F8-6698CA00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3D7-06EE-402C-A4DB-56F79A9B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597-1876-44CA-8E12-C37F4A3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2F31-6218-478D-BDC0-1F5CC420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3AC-4BD8-4495-9BEB-047DF682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7DA6-B9E4-4D03-9ABD-418F4AE7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7952-EB18-46DB-8C8D-0441595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37D-6327-4457-9888-E8981487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1BA-8A2B-4F6C-AB2A-197931B0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E975-A30C-4039-8531-D13F543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713-66D9-4C44-B619-D61F812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92B-0EF8-4E36-B9A6-487DEEA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7C2A-43B4-4443-98F6-DAF436D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BCE-9227-408A-AB06-1F10B88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0756-87ED-402A-AFAE-2E20252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85C6-127C-49B0-8AF0-B96059AE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EB4-5AB1-4330-9408-7523CD9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318-99BC-43FB-9C0F-30EFC82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722-FD30-4732-8A1F-92225C0B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761-4C1B-40EF-A751-F156FA4F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32F-D71A-40D5-8FA5-0DA91AC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53A-BBE3-4AC5-B3AE-2A8F3CB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277-C1FD-40EE-AB48-7B7F122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03E-5126-4A9C-AB23-2F65643EE0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FB6-B7DD-47D8-91A8-72981B2977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tc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IVE AND 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trictive clause contains information which is necessary for the sentence to deliver the meaning intended.  There should be no commas before and after the cla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-text c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phrased or summarized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  Author name and date in parentheses; ex. (Cruz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 Esther Cruz (2003) notes…(says…,states…,argues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a short qu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  (Cruz, 2003, p. 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 Cruz (2003) “…..”(p.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a long quotation – put name, year, and page number at the end; (Cruz, 2003, p.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ered without quotation marks, italics or underl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each entry on a new line and double- space all lines; student papers use the hanging indent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ve one space after every end-punctuation ma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phabetize by the author’s last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last names, first initials, and middle initials of authors.  For two or more, use the ampersand(&amp;) instead of and before the last author’s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the first word and proper nouns in the title begin with a capital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the words Co., Inc., Publishers and the like but retain Books or P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 Publishers, give the city and add the state for all US cities except Baltimore, Boston, Chicago, Los Angeles, New York, Philadelphia, and San Francis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publishers in other countries, give city and country spelled out; no country is needed for the ff.:  Amsterdam, Jerusalem, London, Milan, Moscow, Paris, Rome, Stockholm, Tokyo, and Vien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ations for 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in parts:  author, date, title, public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 with one aut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Cruz, E. (2003). Interactive technic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. Manila, Philippines: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shing Ho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 with 2 auth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llamarzo, P., &amp; Relis, J. (200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oral communic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ila, Philippines:  UST Publi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or more authors – include all the authors; more than six, use et 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Firme, L., Vizconde, C., Dayao, H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llamarzo, P., &amp; Panerio, 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009). English.com. Quez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y, Philippines:  Ab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corporate auth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Boston Women’s Health Collect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008). Our bodies, ourselves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w century. New York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on &amp; Schu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 with an author and an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ey, J. (2008). Teaching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. Nunan, Ed.). New York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published disse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ers, M. (2002). Buffy the Vampi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yer:  The Insurgence of televisio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formance text.  Unpublish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al dissertation, University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ronto, Ontario, Can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vernment supports people who are sixty years old and above through the senior citizens’ discou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enior citizens who are aware of this program appreciate what the government is doing for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gislator who authored this law needs to be comm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ed article in a daily news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gelista, P. (2008,November 2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y the young were explo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hilippine Daily Inquirer, p.5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cle in a journal with continuous pag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son, P. (2007). The psychology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men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ournal of the Ameri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sychoanalytic Assoc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61-36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cle in a journal that pages each issue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ler-Kassner, L. &amp; Estrem, H. (200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hinking research writing: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cy in the composition class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m.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PA:  Writing Progra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dministration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, 119-13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ety for Technical Commun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008). Retrieved October 29,200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t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bort, R. C. (2005, August). Scienti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as an art and as a sc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Environmental Health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7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p. 22-25. Retrieved October 18,2008, 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ed Academic ASAP datab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eople who are in excellent physical condition enjoy brisk wal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ggers’ path which has been purposely constructed for them is lined with attractive flowers and surrounded with shady t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clauses that are not really necessary in the sentence.  They just give additional information.  Commas are used to set off these nonessentia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pet dog, which is a poodle, got l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odle , which is named Chiquitita, is almost two years o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caretaker, who is responsible for her, is heart bro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amily, who loves this pet dog, is also very unhappy over her disappear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ositives and adje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Sevilla, who is a multi-awarded scientist, has been a Dean in the college of Sc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rticles which he wrote have been published in several international journ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pet project, which is about stem cells, will be presented in a research con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research studies which are truly significant have earned him the title Scientist of the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whether the clauses are Restrictive or Nonrestrictive.  Put commas where they are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ging which is a strenuous exercise is only for the f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ging shoes which are part of the attire have special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lking which is a less strenuous exercise is recommended for the elder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ing fit which is essential in counteracting the effects of aging should not be taken for gra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illnesses which can be alleviated through exercise are arthritis, rheumatism, and diabe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A- American Psychological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text citations to acknowledge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–include only the sources used; appears on a separate sheet at the end of the 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7:49Z</dcterms:created>
  <dc:creator> </dc:creator>
  <dc:description/>
  <dc:language>en-US</dc:language>
  <cp:lastModifiedBy> </cp:lastModifiedBy>
  <dcterms:modified xsi:type="dcterms:W3CDTF">2008-11-24T12:04:50Z</dcterms:modified>
  <cp:revision>3</cp:revision>
  <dc:subject/>
  <dc:title>RESTRICTIVE AND NONRESTRICTIVE CLAUSES</dc:title>
</cp:coreProperties>
</file>