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5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png" ContentType="image/png"/>
  <Override PartName="/ppt/media/image27.jpeg" ContentType="image/jpeg"/>
  <Override PartName="/ppt/media/image50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E20-DE45-4873-8707-03B050C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123-1746-40C1-B00E-26F8FCA1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E4A-6079-4D43-8EE6-47C7E3E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D5F-E9CF-4C10-A4BE-3C76B95B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D04-B711-4C4D-8D56-EDF006A7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CC2-7638-4460-87AF-8F19A25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6E6-C2F1-404D-AE84-ABA67DCE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0B8-9096-45DE-B9BD-44CA89F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8C4-D0B5-47D1-9D2C-CEFB2B91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D3B-2E46-4D3A-93BD-E900AA1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26C-CAF5-4BC2-8E98-059C6DB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61D-FA4B-41C4-8510-45EAC83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C8F4-E28F-417A-AB2D-FCE56587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5094360" cy="566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6588000" cy="2075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788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333399"/>
                </a:solidFill>
                <a:latin typeface="Arial"/>
              </a:rPr>
              <a:t>Odonto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1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Semmelweis University, Faculty of Dentistry, Department of Prosthodon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: Prof. Dr. Pál Fejé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Head of Department of Prosthodontics Preclinical and General Dental Materials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333399"/>
                </a:solidFill>
                <a:latin typeface="Arial"/>
              </a:rPr>
              <a:t>Dr. András Kóbor, Associate 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0720" y="2955960"/>
            <a:ext cx="4572000" cy="380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Lectu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Arial"/>
              </a:rPr>
              <a:t>Dr. Péter Kivovics Associate Professor </a:t>
            </a: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Tutor: Dr. Judit Borbé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Head of Central Dental Labora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Zoltán Hajdu dt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Mercédesz Linn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Emese Ábrá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Ágnes Ágopc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Faluhely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Péter Luká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Orsolya Ném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Katalin P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János Schmi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Borbála Soó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333399"/>
                </a:solidFill>
                <a:latin typeface="Arial"/>
              </a:rPr>
              <a:t>Dr. Örs To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s of the base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cry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tal-acrylic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lloys used for partial denture fabricating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balt-chrome alloy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gold alloys and titan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places the lost of the alveolar tissues and carries arteficial teeth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ypes: 1.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. fre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nnects the two sides of the denture (the saddles) together, provides the rigid unit of the dental appliance (obligatory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n take part in the support and retention (optional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rotection of the periodont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ight con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terial-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Guidelines for designing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he protection of the tissues of the marginal periodontium must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1954080"/>
            <a:ext cx="2592720" cy="2073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Extension of the connector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he connector part must be rigid, the possibility of reduction depends on the typ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22360" cy="2417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4151160"/>
            <a:ext cx="32223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Con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ith straight contour we provide the proper cleaning of the removable partial denture, and it is more comfortable for the patient (spee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9320" cy="217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30720" y="3946680"/>
            <a:ext cx="30765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terial and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he material of the baseplate is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 except in the cases of mucosal and dental, and mucos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42040" y="1727280"/>
            <a:ext cx="2892240" cy="217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767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ain types of the conn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pper 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utterfly (lateral edentulous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horseshoe (anterior edentulous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fenestrated (decreasing the siz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asep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sceletonized (fully tooth-supp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wer arch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lingual bar: most wide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Butterfly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092320"/>
            <a:ext cx="4033800" cy="354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3946680"/>
            <a:ext cx="3330720" cy="2179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3095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ABLE PARTIAL D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mmelwei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partment of Prosthodon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dontotechnology practice l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04" t="21146" r="5625" b="17065"/>
          <a:stretch/>
        </p:blipFill>
        <p:spPr>
          <a:xfrm>
            <a:off x="1835280" y="1413000"/>
            <a:ext cx="53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Horsesh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89680" y="3946680"/>
            <a:ext cx="3160440" cy="217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252520"/>
            <a:ext cx="4033800" cy="3221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27907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Fenestr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3800" cy="329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56240" y="2201760"/>
            <a:ext cx="4035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Sceletoniz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2974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Lingual b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57560"/>
            <a:ext cx="4033800" cy="3211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3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s the tooth support (obligatory func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an take part in avioding tilting (optional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84720" y="1600200"/>
            <a:ext cx="3130560" cy="217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13440" y="3944880"/>
            <a:ext cx="32828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edical and dental history; extra-and intraoral examination; Xray analysis; classify the dental condition (Kennedy, Fábián and Fejér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reatmen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Primary impresion t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aterials used for primary impression tak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lg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Taken by a stock tr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3320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pouring out the primary impression in the laboratory, we get the primary 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n the primary cast we outline the borders of the special 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59320" y="1600200"/>
            <a:ext cx="262116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3946680"/>
            <a:ext cx="262116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econdary impression taking by the dentist with special tray (silic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3000" y="2187720"/>
            <a:ext cx="4033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n the secondary cast at the dental office we design the removable partial denture, outline the saddle areas, occlusal rests and the re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 secondary cast is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astercast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made of stone or precise  die st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70400" y="1600200"/>
            <a:ext cx="2797200" cy="2179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70400" y="3946680"/>
            <a:ext cx="2797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100" spc="-1" strike="noStrike">
                <a:solidFill>
                  <a:srgbClr val="000000"/>
                </a:solidFill>
                <a:latin typeface="Arial"/>
              </a:rPr>
              <a:t>Removable partial dentur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 appliance which restores a partial loss of natural teeth and associated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t can be removed from the mouth and replaced by the 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With the duplicaton of the mastercast we get the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orking ca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or making the wax pattern and inv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terials used for duplicating the masterc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uplicating 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n the surface of the workingcast the dental technician makes the wax pattern from prefabricated wax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327400"/>
            <a:ext cx="4033800" cy="3071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fter sprueing the working cast is ready for inv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ing with fl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vestment materials used for cobalt-chromium allo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hosphate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ilica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psum b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sting is carried out by vi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33920" y="1598760"/>
            <a:ext cx="1981440" cy="22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38720" y="3946680"/>
            <a:ext cx="2860560" cy="217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deflas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5100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4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38720" y="1600200"/>
            <a:ext cx="286056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24000" y="4437000"/>
            <a:ext cx="1947960" cy="20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652640" y="3946680"/>
            <a:ext cx="40338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nishing of the ready metal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sandblasting, trimming, polis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638172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mages from Bego Virtual Acad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dental office we check the ready frameworks and determine the jaw relationship with wax occlusal rim and choose the s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 the laboratory they set up the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151080" cy="236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151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fter setting up the teeth we try in the trial denture at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heck up the occlusion, articulation, sh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311280" cy="2482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306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ocedures in the dental office and in the laboratory for fabricating a removable partial d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006720" cy="2255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64000" y="414972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2690640"/>
            <a:ext cx="45147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2800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resistance to vertical components of masticatory force in a direction toward the basal s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upport can be according to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Cradoc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mucosal suppor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. mixed: dental and mucosal/mucosal 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and dental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ai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480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upport classification of partial den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3044880" cy="231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5120" y="1600200"/>
            <a:ext cx="3044880" cy="21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692360" y="4292640"/>
            <a:ext cx="2874960" cy="206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51640" y="4292640"/>
            <a:ext cx="2874960" cy="202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Retention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: the resistance to movement of a removable partial denture from its supporting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he component parts of removable partial d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24512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53000" y="2494080"/>
            <a:ext cx="4033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Parts of the base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Sadd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Occlusal 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07:28Z</dcterms:created>
  <dc:creator>Department of Prosthodontics</dc:creator>
  <dc:description/>
  <dc:language>en-US</dc:language>
  <cp:lastModifiedBy>borbely</cp:lastModifiedBy>
  <dcterms:modified xsi:type="dcterms:W3CDTF">2006-11-25T17:52:52Z</dcterms:modified>
  <cp:revision>32</cp:revision>
  <dc:subject/>
  <dc:title>Odontotechnology</dc:title>
</cp:coreProperties>
</file>