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5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9.png" ContentType="image/png"/>
  <Override PartName="/ppt/media/image45.jpeg" ContentType="image/jpeg"/>
  <Override PartName="/ppt/media/image47.jpeg" ContentType="image/jpeg"/>
  <Override PartName="/ppt/media/image46.jpeg" ContentType="image/jpeg"/>
  <Override PartName="/ppt/media/image51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6.jpeg" ContentType="image/jpeg"/>
  <Override PartName="/ppt/media/image55.jpeg" ContentType="image/jpeg"/>
  <Override PartName="/ppt/media/image32.jpeg" ContentType="image/jpeg"/>
  <Override PartName="/ppt/media/image31.png" ContentType="image/png"/>
  <Override PartName="/ppt/media/image27.jpeg" ContentType="image/jpeg"/>
  <Override PartName="/ppt/media/image50.jpeg" ContentType="image/jpeg"/>
  <Override PartName="/ppt/media/image37.jpeg" ContentType="image/jpeg"/>
  <Override PartName="/ppt/media/image30.png" ContentType="image/png"/>
  <Override PartName="/ppt/media/image10.jpeg" ContentType="image/jpeg"/>
  <Override PartName="/ppt/media/image39.jpeg" ContentType="image/jpeg"/>
  <Override PartName="/ppt/media/image8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11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3176-0288-4708-B406-7454DCB55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6E77-47F6-42F9-8F12-B64B9C8C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B498-F865-4EF8-9FC5-DAA1F8A40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68AF-5C39-4488-9A4F-65DA48663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8DF9-36F4-46FD-8A79-9429AA4D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9850-F8DF-43EE-9E07-AC113734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B76C-7D86-4982-A543-0914EB03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0CB5-3091-47B1-9755-D34F3F25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8554-A56B-4312-9338-9E69C9AB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457E-2E81-40B4-9EC8-EF9D1321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A69B-87D9-4AB0-9B31-E81EEE52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2A5A-E976-42E0-B672-5BF21072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F388-7594-4C21-8B1D-4A73F95C4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5094360" cy="5661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56000" y="1268280"/>
            <a:ext cx="6588000" cy="20750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980640"/>
            <a:ext cx="788508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600" spc="-1" strike="noStrike">
                <a:solidFill>
                  <a:srgbClr val="333399"/>
                </a:solidFill>
                <a:latin typeface="Arial"/>
              </a:rPr>
              <a:t>Odontotechnolog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160"/>
            <a:ext cx="914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333399"/>
                </a:solidFill>
                <a:latin typeface="Arial"/>
              </a:rPr>
              <a:t>Semmelweis University, Faculty of Dentistry, Department of Prosthodon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333399"/>
                </a:solidFill>
                <a:latin typeface="Arial"/>
              </a:rPr>
              <a:t>Head of Department: Prof. Dr. Pál Fejér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333399"/>
                </a:solidFill>
                <a:latin typeface="Arial"/>
              </a:rPr>
              <a:t>Head of Department of Prosthodontics Preclinical and General Dental Materials: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hu-HU" sz="1400" spc="-1" strike="noStrike">
                <a:solidFill>
                  <a:srgbClr val="333399"/>
                </a:solidFill>
                <a:latin typeface="Arial"/>
              </a:rPr>
              <a:t>Dr. András Kóbor, Associate Prof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00720" y="2955960"/>
            <a:ext cx="4572000" cy="3806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3399"/>
                </a:solidFill>
                <a:latin typeface="Arial"/>
              </a:rPr>
              <a:t>Lectur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3399"/>
                </a:solidFill>
                <a:latin typeface="Arial"/>
              </a:rPr>
              <a:t>Dr. Péter Kivovics Associate Professor </a:t>
            </a: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Tutor: Dr. Judit Borbé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Head of Central Dental Laborator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Zoltán Hajdu dt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Mercédesz Linnin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Emese Ábrá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Ágnes Ágopc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Péter Faluhely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Péter Luká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Orsolya Néme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Katalin Per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János Schmid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Borbála Soó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Örs Tol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Materials of the base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cry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Metal-acrylic comb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lloys used for partial denture fabricating: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cobalt-chrome alloy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, gold alloys and titaniu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53000" y="2292480"/>
            <a:ext cx="4033800" cy="31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Sadd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eplaces the lost of the alveolar tissues and carries arteficial teeth (obligatory fun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an take part in support and retention (optional fun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ypes: 1. b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2. fre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59320" y="1600200"/>
            <a:ext cx="2621160" cy="2179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270400" y="3946680"/>
            <a:ext cx="279720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Connect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onnects the two sides of the denture (the saddles) together, provides the rigid unit of the dental appliance (obligatory fun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an take part in the support and retention (optional fun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270400" y="1600200"/>
            <a:ext cx="2797200" cy="2179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270400" y="3946680"/>
            <a:ext cx="279720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Guidelines for designing the connector p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Protection of the periodontal t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Exte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Straight cont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Material-tech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Guidelines for designing the connector p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the protection of the tissues of the marginal periodontium must be carried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724360" y="1954080"/>
            <a:ext cx="2592720" cy="2073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270400" y="3946680"/>
            <a:ext cx="279720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Extension of the connector p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he connector part must be rigid, the possibility of reduction depends on the type of the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148360" y="1773360"/>
            <a:ext cx="3222360" cy="2417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148360" y="4151160"/>
            <a:ext cx="322236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Contou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With straight contour we provide the proper cleaning of the removable partial denture, and it is more comfortable for the patient (speech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159520" y="1600200"/>
            <a:ext cx="3019320" cy="2179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130720" y="3946680"/>
            <a:ext cx="307656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Material and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he material of the baseplate is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metal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, except in the cases of mucosal and dental, and mucos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42040" y="1727280"/>
            <a:ext cx="2892240" cy="217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724360" y="4437000"/>
            <a:ext cx="276732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Main types of the conn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Upper ar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butterfly (lateral edentulous ar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horseshoe (anterior edentulous ar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fenestrated (decreasing the size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asepl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sceletonized (fully tooth-suppor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Lower arch: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lingual bar: most widely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Butterfly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2092320"/>
            <a:ext cx="4033800" cy="3540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003640" y="3946680"/>
            <a:ext cx="3330720" cy="2179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508720" y="1844640"/>
            <a:ext cx="309564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MOVABLE PARTIAL DEN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5013000"/>
            <a:ext cx="91440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emmelweis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epartment of Prosthodon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Odontotechnology practice le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6104" t="21146" r="5625" b="17065"/>
          <a:stretch/>
        </p:blipFill>
        <p:spPr>
          <a:xfrm>
            <a:off x="1835280" y="1413000"/>
            <a:ext cx="532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Horsesho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089680" y="3946680"/>
            <a:ext cx="3160440" cy="2179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2252520"/>
            <a:ext cx="4033800" cy="3221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580000" y="1916280"/>
            <a:ext cx="279072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Fenestrat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2212920"/>
            <a:ext cx="4033800" cy="3299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56240" y="2201760"/>
            <a:ext cx="403524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Sceletoniz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124000" y="1989000"/>
            <a:ext cx="529740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Lingual b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2257560"/>
            <a:ext cx="4033800" cy="3211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653000" y="2292480"/>
            <a:ext cx="4033800" cy="31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Occlusal r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4033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rovides the tooth support (obligatory func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Can take part in avioding tilting (optional fun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184720" y="1600200"/>
            <a:ext cx="3130560" cy="2179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113440" y="3944880"/>
            <a:ext cx="328284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Medical and dental history; extra-and intraoral examination; Xray analysis; classify the dental condition (Kennedy, Fábián and Fejérd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Treatment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Primary impresion tak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Materials used for primary impression tak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algin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silic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Taken by a stock tray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233208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fter pouring out the primary impression in the laboratory, we get the primary 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n the primary cast we outline the borders of the special t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59320" y="1600200"/>
            <a:ext cx="2621160" cy="2179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359320" y="3946680"/>
            <a:ext cx="262116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secondary impression taking by the dentist with special tray (silicon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53000" y="2187720"/>
            <a:ext cx="403380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n the secondary cast at the dental office we design the removable partial denture, outline the saddle areas, occlusal rests and the retai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he secondary cast is the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mastercast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made of stone or precise  die st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270400" y="1600200"/>
            <a:ext cx="2797200" cy="2179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270400" y="3946680"/>
            <a:ext cx="279720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100" spc="-1" strike="noStrike">
                <a:solidFill>
                  <a:srgbClr val="000000"/>
                </a:solidFill>
                <a:latin typeface="Arial"/>
              </a:rPr>
              <a:t>Removable partial denture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 appliance which restores a partial loss of natural teeth and associated t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it can be removed from the mouth and replaced by the pat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With the duplicaton of the mastercast we get the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working cas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for making the wax pattern and inv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aterials used for duplicating the masterca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duplicating g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ilic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238720" y="1600200"/>
            <a:ext cx="2860560" cy="2179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38720" y="3946680"/>
            <a:ext cx="2860560" cy="21794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14400" y="638172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mages from Bego Virtual Acade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On the surface of the workingcast the dental technician makes the wax pattern from prefabricated wax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53000" y="2327400"/>
            <a:ext cx="4033800" cy="3071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914400" y="638172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mages from Bego Virtual Acade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fter sprueing the working cast is ready for inv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238720" y="1600200"/>
            <a:ext cx="2860560" cy="2179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238720" y="3946680"/>
            <a:ext cx="2860560" cy="21794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14400" y="638172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mages from Bego Virtual Acade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nvesting with fl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nvestment materials used for cobalt-chromium allo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hosphate bo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ilica bo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ypsum bo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vesting is carried out by vib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533920" y="1598760"/>
            <a:ext cx="1981440" cy="2217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238720" y="3946680"/>
            <a:ext cx="2860560" cy="2179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14400" y="638172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mages from Bego Virtual Acade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deflas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238720" y="1600200"/>
            <a:ext cx="2860560" cy="21798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012000" y="4076640"/>
            <a:ext cx="2151000" cy="2305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14400" y="638172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mages from Bego Virtual Acade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044720" y="1600200"/>
            <a:ext cx="2860560" cy="2179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238720" y="1600200"/>
            <a:ext cx="2860560" cy="2179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124000" y="4437000"/>
            <a:ext cx="1947960" cy="20876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4652640" y="3946680"/>
            <a:ext cx="403380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inishing of the ready metal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sandblasting, trimming, polish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638172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mages from Bego Virtual Acade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t the dental office we check the ready frameworks and determine the jaw relationship with wax occlusal rim and choose the s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t the laboratory they set up the tee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148360" y="1773360"/>
            <a:ext cx="3151080" cy="23637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148360" y="4149720"/>
            <a:ext cx="315108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fter setting up the teeth we try in the trial denture at the 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heck up the occlusion, articulation, sh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148360" y="4292640"/>
            <a:ext cx="3311280" cy="2482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148360" y="1844640"/>
            <a:ext cx="330660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6840" y="1599840"/>
            <a:ext cx="40338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nse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364000" y="1844640"/>
            <a:ext cx="3006720" cy="22557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364000" y="4149720"/>
            <a:ext cx="3002040" cy="2251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395280" y="2690640"/>
            <a:ext cx="451476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8028000" cy="52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Support classification of partail den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Support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: resistance to vertical components of masticatory force in a direction toward the basal s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upport can be according to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Cradock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1. dental sup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2. mucosal support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3. mixed: dental and mucosal/mucosal   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 and dental sup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Support classification of partai den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00360" y="1916280"/>
            <a:ext cx="384804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Support classification of partial den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41480" y="1600200"/>
            <a:ext cx="3044880" cy="2314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145120" y="1600200"/>
            <a:ext cx="3044880" cy="2176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692360" y="4292640"/>
            <a:ext cx="2874960" cy="2065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651640" y="4292640"/>
            <a:ext cx="2874960" cy="2020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Reten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Retention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: the resistance to movement of a removable partial denture from its supporting t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The component parts of removable partial den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4245120" cy="4114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53000" y="2494080"/>
            <a:ext cx="40338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Parts of the basepl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000000"/>
                </a:solidFill>
                <a:latin typeface="Arial"/>
              </a:rPr>
              <a:t>Sadd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000000"/>
                </a:solidFill>
                <a:latin typeface="Arial"/>
              </a:rPr>
              <a:t>Connect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000000"/>
                </a:solidFill>
                <a:latin typeface="Arial"/>
              </a:rPr>
              <a:t>Occlusal 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6:07:28Z</dcterms:created>
  <dc:creator>Department of Prosthodontics</dc:creator>
  <dc:description/>
  <dc:language>en-US</dc:language>
  <cp:lastModifiedBy>borbely</cp:lastModifiedBy>
  <dcterms:modified xsi:type="dcterms:W3CDTF">2006-11-25T17:52:52Z</dcterms:modified>
  <cp:revision>32</cp:revision>
  <dc:subject/>
  <dc:title>Odontotechnology</dc:title>
</cp:coreProperties>
</file>