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5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9.png" ContentType="image/png"/>
  <Override PartName="/ppt/media/image45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2.jpeg" ContentType="image/jpeg"/>
  <Override PartName="/ppt/media/image31.png" ContentType="image/png"/>
  <Override PartName="/ppt/media/image27.jpeg" ContentType="image/jpeg"/>
  <Override PartName="/ppt/media/image50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162-762F-4A45-BA7B-59E476A1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096-AA9C-4D2B-BF60-E1D9AE55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F20-1316-4FAD-A63C-A9C016DE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5EF0-15E1-489B-9E9E-1EC238B7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0E0-35EC-4986-A004-292297BF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2A3-DDB3-48D3-AAC9-6891A963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7B2-B316-4082-8237-F7767671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D62-D2E7-489E-B3D9-8872BDC2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F0B-0727-47AF-B0F8-11A3423C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E5A-7CE7-4925-84FB-6E54A6A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92B-C1F6-46F8-8D38-19EB17FC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E30-970F-421F-AF00-C5B33A9F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BB63-5C19-4C76-922A-2BE4CB93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094360" cy="5661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6588000" cy="2075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7885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333399"/>
                </a:solidFill>
                <a:latin typeface="Arial"/>
              </a:rPr>
              <a:t>Odonto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16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Semmelweis University, Faculty of Dentistry, Department of Prosthodon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: Prof. Dr. Pál Fejér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 of Prosthodontics Preclinical and General Dental Materials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Dr. András Kóbor, Associate Prof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2955960"/>
            <a:ext cx="4572000" cy="380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Lectu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Dr. Péter Kivovics Associate Professor </a:t>
            </a: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Tutor: Dr. Judit Borbé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Head of Central Dental Labora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Zoltán Hajdu dt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Mercédesz Linni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Emese Ábrá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Ágnes Ágopc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Faluhely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Luká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Orsolya Ném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Katalin Pe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János Schmi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Borbála Soó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Örs To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s of the base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cry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tal-acrylic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lloys used for partial denture fabricating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obalt-chrome alloy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gold alloys and titan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laces the lost of the alveolar tissues and carries arteficial teeth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ypes: 1.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. fre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nnects the two sides of the denture (the saddles) together, provides the rigid unit of the dental appliance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the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rotection of the periodont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traight con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aterial-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he protection of the tissues of the marginal periodontium must be carrie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24360" y="1954080"/>
            <a:ext cx="2592720" cy="207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Extension of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he connector part must be rigid, the possibility of reduction depends on the type of th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22360" cy="241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48360" y="4151160"/>
            <a:ext cx="32223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t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ith straight contour we provide the proper cleaning of the removable partial denture, and it is more comfortable for the patient (spee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9320" cy="2179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30720" y="3946680"/>
            <a:ext cx="30765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he material of the baseplate is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except in the cases of mucosal and dental, and mucos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42040" y="1727280"/>
            <a:ext cx="2892240" cy="217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7673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in types of the conn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Upper 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butterfly (lateral edentulous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horseshoe (anterior edentulous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fenestrated (decreasing the siz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sep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sceletonized (fully tooth-suppo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ower arch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lingual bar: most wide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Butterfly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2092320"/>
            <a:ext cx="4033800" cy="354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3946680"/>
            <a:ext cx="3330720" cy="2179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095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VABLE PARTIAL DEN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01300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emmelweis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partment of Prosthodon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dontotechnology practice l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04" t="21146" r="5625" b="17065"/>
          <a:stretch/>
        </p:blipFill>
        <p:spPr>
          <a:xfrm>
            <a:off x="1835280" y="1413000"/>
            <a:ext cx="53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Horsesho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89680" y="3946680"/>
            <a:ext cx="3160440" cy="217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252520"/>
            <a:ext cx="4033800" cy="3221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27907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Fenest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4033800" cy="329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56240" y="2201760"/>
            <a:ext cx="4035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celetoniz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2974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Lingual b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257560"/>
            <a:ext cx="4033800" cy="3211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33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vides the tooth support (obligatory func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an take part in avioding tilting (optional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84720" y="1600200"/>
            <a:ext cx="3130560" cy="217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13440" y="3944880"/>
            <a:ext cx="32828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edical and dental history; extra-and intraoral examination; Xray analysis; classify the dental condition (Kennedy, Fábián and Fejérd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reatmen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Primary impresion ta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aterials used for primary impression ta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alg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aken by a stock tray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23320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pouring out the primary impression in the laboratory, we get the primary 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n the primary cast we outline the borders of the special t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59320" y="3946680"/>
            <a:ext cx="26211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econdary impression taking by the dentist with special tray (silic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3000" y="2187720"/>
            <a:ext cx="40338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n the secondary cast at the dental office we design the removable partial denture, outline the saddle areas, occlusal rests and the re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secondary cast is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astercas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made of stone or precise  die st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100" spc="-1" strike="noStrike">
                <a:solidFill>
                  <a:srgbClr val="000000"/>
                </a:solidFill>
                <a:latin typeface="Arial"/>
              </a:rPr>
              <a:t>Removable partial dentur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 appliance which restores a partial loss of natural teeth and associated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t can be removed from the mouth and replaced by the pa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ith the duplicaton of the mastercast we get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working cas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or making the wax pattern and inv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terials used for duplicating the masterc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uplicating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n the surface of the workingcast the dental technician makes the wax pattern from prefabricated wax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53000" y="2327400"/>
            <a:ext cx="4033800" cy="3071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fter sprueing the working cast is ready for inv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ing with fl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ment materials used for cobalt-chromium allo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hosphate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ilica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psum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vesting is carried out by vib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33920" y="1598760"/>
            <a:ext cx="1981440" cy="221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eflas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151000" cy="230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44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24000" y="4437000"/>
            <a:ext cx="1947960" cy="20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652640" y="39466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nishing of the ready meta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sandblasting, trimming, polis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dental office we check the ready frameworks and determine the jaw relationship with wax occlusal rim and choose the 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laboratory they set up the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151080" cy="236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151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setting up the teeth we try in the trial denture at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heck up the occlusion, articulation, sh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311280" cy="248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306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006720" cy="2255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3002040" cy="225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5280" y="2690640"/>
            <a:ext cx="45147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802800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resistance to vertical components of masticatory force in a direction toward the basal s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upport can be according to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radoc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mucosal suppor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mixed: dental and mucosal/mucosal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and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8480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ia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1480" y="1600200"/>
            <a:ext cx="3044880" cy="2314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4880" cy="21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692360" y="4292640"/>
            <a:ext cx="2874960" cy="206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51640" y="4292640"/>
            <a:ext cx="2874960" cy="202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Retentio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: the resistance to movement of a removable partial denture from its supporting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he component parts of removable partial den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24512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53000" y="2494080"/>
            <a:ext cx="4033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Parts of the base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6:07:28Z</dcterms:created>
  <dc:creator>Department of Prosthodontics</dc:creator>
  <dc:description/>
  <dc:language>en-US</dc:language>
  <cp:lastModifiedBy>borbely</cp:lastModifiedBy>
  <dcterms:modified xsi:type="dcterms:W3CDTF">2006-11-25T17:52:52Z</dcterms:modified>
  <cp:revision>32</cp:revision>
  <dc:subject/>
  <dc:title>Odontotechnology</dc:title>
</cp:coreProperties>
</file>