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5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9.png" ContentType="image/png"/>
  <Override PartName="/ppt/media/image45.jpeg" ContentType="image/jpeg"/>
  <Override PartName="/ppt/media/image47.jpeg" ContentType="image/jpeg"/>
  <Override PartName="/ppt/media/image46.jpeg" ContentType="image/jpeg"/>
  <Override PartName="/ppt/media/image51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5.jpeg" ContentType="image/jpeg"/>
  <Override PartName="/ppt/media/image32.jpeg" ContentType="image/jpeg"/>
  <Override PartName="/ppt/media/image31.png" ContentType="image/png"/>
  <Override PartName="/ppt/media/image27.jpeg" ContentType="image/jpeg"/>
  <Override PartName="/ppt/media/image50.jpeg" ContentType="image/jpeg"/>
  <Override PartName="/ppt/media/image37.jpeg" ContentType="image/jpeg"/>
  <Override PartName="/ppt/media/image30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11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4DC0-9C80-410F-A0D0-7892495F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357-3982-480F-B24E-A7AE68FC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B9A-58DE-4635-90E0-1C25AFE3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DF0-EA73-463A-B93C-06CE031C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BFCE-004C-4473-927F-88253685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C090-3ACA-463F-9E9A-7E06B2A0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63F5-D764-4D01-9F1F-BCB89C8B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30D-CB07-4D9D-A7C8-042518C3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DA66-09EE-4795-B215-DAF760B0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76E2-3609-480E-9E46-BC1B9090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408C-2AE6-485A-8E5E-3F0652D2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5710-F824-46AF-BE00-B51FB271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E1BA-56A6-4AE3-A8F2-E4FB0F996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5094360" cy="5661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6588000" cy="2075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7885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600" spc="-1" strike="noStrike">
                <a:solidFill>
                  <a:srgbClr val="333399"/>
                </a:solidFill>
                <a:latin typeface="Arial"/>
              </a:rPr>
              <a:t>Odontotechnolog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16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Semmelweis University, Faculty of Dentistry, Department of Prosthodon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Head of Department: Prof. Dr. Pál Fejér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Head of Department of Prosthodontics Preclinical and General Dental Materials: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Dr. András Kóbor, Associate Prof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0720" y="2955960"/>
            <a:ext cx="4572000" cy="380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Arial"/>
              </a:rPr>
              <a:t>Lectur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Arial"/>
              </a:rPr>
              <a:t>Dr. Péter Kivovics Associate Professor </a:t>
            </a: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Tutor: Dr. Judit Borbé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Head of Central Dental Laborato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Zoltán Hajdu dt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Mercédesz Linni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Emese Ábrá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Ágnes Ágopc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Péter Faluhely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Péter Luká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Orsolya Ném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Katalin Pe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János Schmi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Borbála Soó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Örs Tol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Materials of the base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cry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tal-acrylic comb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lloys used for partial denture fabricating: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obalt-chrome alloy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, gold alloys and titani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53000" y="2292480"/>
            <a:ext cx="40338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Sadd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places the lost of the alveolar tissues and carries arteficial teeth (obligatory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an take part in support and retention (optional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ypes: 1.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. fre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59320" y="1600200"/>
            <a:ext cx="2621160" cy="2179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onnects the two sides of the denture (the saddles) together, provides the rigid unit of the dental appliance (obligatory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an take part in the support and retention (optional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70400" y="1600200"/>
            <a:ext cx="2797200" cy="2179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Guidelines for designing the connector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rotection of the periodontal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traight cont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aterial-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Guidelines for designing the connector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the protection of the tissues of the marginal periodontium must be carried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724360" y="1954080"/>
            <a:ext cx="2592720" cy="2073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Extension of the connector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he connector part must be rigid, the possibility of reduction depends on the type of th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222360" cy="2417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148360" y="4151160"/>
            <a:ext cx="32223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Conto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With straight contour we provide the proper cleaning of the removable partial denture, and it is more comfortable for the patient (speec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9320" cy="2179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30720" y="3946680"/>
            <a:ext cx="307656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Material and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he material of the baseplate is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etal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except in the cases of mucosal and dental, and mucos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42040" y="1727280"/>
            <a:ext cx="2892240" cy="217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24360" y="4437000"/>
            <a:ext cx="27673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Main types of the conn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Upper ar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butterfly (lateral edentulous 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horseshoe (anterior edentulous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fenestrated (decreasing the size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asepl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sceletonized (fully tooth-suppor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Lower arch: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lingual bar: most widely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Butterfly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2092320"/>
            <a:ext cx="4033800" cy="3540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3946680"/>
            <a:ext cx="3330720" cy="2179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30956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MOVABLE PARTIAL DEN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501300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emmelweis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partment of Prosthodon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dontotechnology practice le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6104" t="21146" r="5625" b="17065"/>
          <a:stretch/>
        </p:blipFill>
        <p:spPr>
          <a:xfrm>
            <a:off x="1835280" y="1413000"/>
            <a:ext cx="53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Horsesho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89680" y="3946680"/>
            <a:ext cx="3160440" cy="2179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252520"/>
            <a:ext cx="4033800" cy="3221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27907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Fenestra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2212920"/>
            <a:ext cx="4033800" cy="3299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56240" y="2201760"/>
            <a:ext cx="4035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Sceletoniz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529740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Lingual b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2257560"/>
            <a:ext cx="4033800" cy="3211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53000" y="2292480"/>
            <a:ext cx="40338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Occlusal r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033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ovides the tooth support (obligatory func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an take part in avioding tilting (optional fun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84720" y="1600200"/>
            <a:ext cx="3130560" cy="2179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13440" y="3944880"/>
            <a:ext cx="328284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edical and dental history; extra-and intraoral examination; Xray analysis; classify the dental condition (Kennedy, Fábián and Fejérd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Treatmen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Primary impresion ta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aterials used for primary impression tak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algin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silic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Taken by a stock tray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23320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fter pouring out the primary impression in the laboratory, we get the primary 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n the primary cast we outline the borders of the special t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59320" y="1600200"/>
            <a:ext cx="2621160" cy="2179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59320" y="3946680"/>
            <a:ext cx="262116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econdary impression taking by the dentist with special tray (silicon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53000" y="2187720"/>
            <a:ext cx="40338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n the secondary cast at the dental office we design the removable partial denture, outline the saddle areas, occlusal rests and the re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he secondary cast is the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astercast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made of stone or precise  die st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70400" y="1600200"/>
            <a:ext cx="2797200" cy="2179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100" spc="-1" strike="noStrike">
                <a:solidFill>
                  <a:srgbClr val="000000"/>
                </a:solidFill>
                <a:latin typeface="Arial"/>
              </a:rPr>
              <a:t>Removable partial denture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 appliance which restores a partial loss of natural teeth and associated 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t can be removed from the mouth and replaced by the pat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With the duplicaton of the mastercast we get the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working cas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for making the wax pattern and inv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terials used for duplicating the masterc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uplicating 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ilic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38720" y="3946680"/>
            <a:ext cx="2860560" cy="2179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n the surface of the workingcast the dental technician makes the wax pattern from prefabricated wax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53000" y="2327400"/>
            <a:ext cx="4033800" cy="3071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fter sprueing the working cast is ready for inv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238720" y="3946680"/>
            <a:ext cx="2860560" cy="2179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vesting with fl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vestment materials used for cobalt-chromium allo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hosphate bo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ilica bo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psum bo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vesting is carried out by vib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533920" y="1598760"/>
            <a:ext cx="1981440" cy="2217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238720" y="3946680"/>
            <a:ext cx="2860560" cy="2179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deflas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012000" y="4076640"/>
            <a:ext cx="2151000" cy="2305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44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124000" y="4437000"/>
            <a:ext cx="1947960" cy="2087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652640" y="3946680"/>
            <a:ext cx="40338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inishing of the ready metal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sandblasting, trimming, polis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t the dental office we check the ready frameworks and determine the jaw relationship with wax occlusal rim and choose the s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t the laboratory they set up the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151080" cy="2363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315108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fter setting up the teeth we try in the trial denture at the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heck up the occlusion, articulation, sh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148360" y="4292640"/>
            <a:ext cx="3311280" cy="2482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3306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64000" y="1844640"/>
            <a:ext cx="3006720" cy="2255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64000" y="4149720"/>
            <a:ext cx="3002040" cy="2251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95280" y="2690640"/>
            <a:ext cx="451476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802800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Support classification of partail den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resistance to vertical components of masticatory force in a direction toward the basal s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upport can be according to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Cradoc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. dental sup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 mucosal support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3. mixed: dental and mucosal/mucosal 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and dental sup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Support classification of partai den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84804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Support classification of partial den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41480" y="1600200"/>
            <a:ext cx="3044880" cy="2314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45120" y="1600200"/>
            <a:ext cx="3044880" cy="2176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692360" y="4292640"/>
            <a:ext cx="2874960" cy="2065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651640" y="4292640"/>
            <a:ext cx="2874960" cy="2020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Reten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Retention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: the resistance to movement of a removable partial denture from its supporting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he component parts of removable partial den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4245120" cy="4114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53000" y="2494080"/>
            <a:ext cx="4033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Parts of the basepl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00"/>
                </a:solidFill>
                <a:latin typeface="Arial"/>
              </a:rPr>
              <a:t>Sadd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00"/>
                </a:solidFill>
                <a:latin typeface="Arial"/>
              </a:rPr>
              <a:t>Occlusal 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6:07:28Z</dcterms:created>
  <dc:creator>Department of Prosthodontics</dc:creator>
  <dc:description/>
  <dc:language>en-US</dc:language>
  <cp:lastModifiedBy>borbely</cp:lastModifiedBy>
  <dcterms:modified xsi:type="dcterms:W3CDTF">2006-11-25T17:52:52Z</dcterms:modified>
  <cp:revision>32</cp:revision>
  <dc:subject/>
  <dc:title>Odontotechnology</dc:title>
</cp:coreProperties>
</file>